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10.gif" ContentType="image/gif"/>
  <Override PartName="/ppt/media/image6.jpeg" ContentType="image/jpeg"/>
  <Override PartName="/ppt/media/image7.gif" ContentType="image/gif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91C-EC59-4314-95C3-DD631976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599-D391-4401-9A2E-07FA3A4B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145F-5D00-457C-B7ED-B04D1C3E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BFD-AECD-4FF0-A536-39768B1B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3EA-3CA4-4813-B7DD-43920134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D066-9398-4503-9219-F5A879F9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E48-6A78-4A18-9893-7B4FE71D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994-9A2B-40D0-9B51-73BF1986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BA1-AB76-4411-B4A5-080BB0E1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0FB1-C7D7-40EB-9531-9D6830E4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09C-B3D5-495E-8F36-73EDC42E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2AF-52AF-4AA9-9FC9-026EE56D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BD3C-BEBC-4309-8B39-4E3CE754D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</a:rPr>
              <a:t>By </a:t>
            </a:r>
            <a:r>
              <a:rPr b="0" lang="en-US" sz="4000" spc="-1" strike="noStrike">
                <a:solidFill>
                  <a:srgbClr val="000000"/>
                </a:solidFill>
                <a:latin typeface="Jokerman"/>
              </a:rPr>
              <a:t>Tiaan from the news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0920" y="2060640"/>
            <a:ext cx="45388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Snap ITC"/>
              </a:rPr>
              <a:t>Rugby fun day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Snap ITC"/>
              <a:ea typeface="Snap IT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71840" y="4697280"/>
            <a:ext cx="6572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Mellons Bay entered the rugby fun day excited and nerv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it was a day they had no school work and could enjoy rugby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32400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entered two teams the junior team and the senio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4869000"/>
            <a:ext cx="2160720" cy="20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layed hard and won lots of games the senior team won 5 games and lost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40360" y="4494240"/>
            <a:ext cx="2519280" cy="2363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n the end everyone had fun!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76720" y="3429000"/>
            <a:ext cx="2265480" cy="237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5202360"/>
            <a:ext cx="1447920" cy="1655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2:12:28Z</dcterms:created>
  <dc:creator>Administrator</dc:creator>
  <dc:description/>
  <dc:language>en-US</dc:language>
  <cp:lastModifiedBy>Administrator</cp:lastModifiedBy>
  <dcterms:modified xsi:type="dcterms:W3CDTF">2008-11-06T00:59:32Z</dcterms:modified>
  <cp:revision>6</cp:revision>
  <dc:subject/>
  <dc:title>Slide 1</dc:title>
</cp:coreProperties>
</file>