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4B3-E580-4280-81B8-D6BFE1C3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347-C3B7-4083-B44F-DBBC0748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237-B422-485B-92C6-37A2883B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278-46B6-46DD-90A9-93473537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C4D-16BB-4BA7-92E7-C8ECD23C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D9A-08ED-4C18-8A86-6E2277FC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33E-84C9-462B-A668-61E58A37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AEB-7540-43EE-9685-36AAE8FC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1B0-8BEE-409C-9925-71A89C37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AFB-8C9C-4756-87F8-F0EF507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AD1-26AA-4786-911B-61DF5E55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ADC-9177-46BC-B013-EB231F28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70DA-A16C-4AB1-B236-2D413BCAC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By </a:t>
            </a: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Tiaan from the new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920" y="2060640"/>
            <a:ext cx="4538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nap ITC"/>
              </a:rPr>
              <a:t>Rugby fun day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71840" y="4697280"/>
            <a:ext cx="6572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Mellons Bay entered the rugby fun day excited and nerv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it was a day they had no school work and could enjoy rugby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ntered two teams the junior team and the senio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4869000"/>
            <a:ext cx="2160720" cy="20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layed hard and won lots of games the senior team won 5 games and lost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40360" y="4494240"/>
            <a:ext cx="2519280" cy="2363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 the end everyone had fun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226548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202360"/>
            <a:ext cx="1447920" cy="165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2:12:28Z</dcterms:created>
  <dc:creator>Administrator</dc:creator>
  <dc:description/>
  <dc:language>en-US</dc:language>
  <cp:lastModifiedBy>Administrator</cp:lastModifiedBy>
  <dcterms:modified xsi:type="dcterms:W3CDTF">2008-11-06T00:59:32Z</dcterms:modified>
  <cp:revision>6</cp:revision>
  <dc:subject/>
  <dc:title>Slide 1</dc:title>
</cp:coreProperties>
</file>