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98C-FDAC-48E5-9012-9246C6D8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089-48A6-4492-9586-D50977B7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87F-C5C2-49D8-99EA-64324367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1B8-192A-44C0-BEC6-1B31D05B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092-CC41-4776-936A-06780F70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C07-4978-41C0-B886-6A8D7019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A04-0B12-4E9E-9EA7-1E1F941E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A6B-420A-46BD-AF60-A521CF51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54F-44FB-4C94-A258-4BCBF292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D93-631C-47E1-8914-947DC017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832-72BF-4E0F-94EF-C8E9D62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1E2-1B14-4E51-865B-FE4400B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A6A2-8501-40D1-8EEA-5DD2C5842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By </a:t>
            </a: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Tiaan from the new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2060640"/>
            <a:ext cx="4538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nap ITC"/>
              </a:rPr>
              <a:t>Rugby fun day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71840" y="4697280"/>
            <a:ext cx="6572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Mellons Bay entered the rugby fun day excited and nerv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it was a day they had no school work and could enjoy rugby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ntered two teams the junior team and the senio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4869000"/>
            <a:ext cx="2160720" cy="20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layed hard and won lots of games the senior team won 5 games and lost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40360" y="4494240"/>
            <a:ext cx="2519280" cy="236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 the end everyone had fun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226548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202360"/>
            <a:ext cx="1447920" cy="165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2:12:28Z</dcterms:created>
  <dc:creator>Administrator</dc:creator>
  <dc:description/>
  <dc:language>en-US</dc:language>
  <cp:lastModifiedBy>Administrator</cp:lastModifiedBy>
  <dcterms:modified xsi:type="dcterms:W3CDTF">2008-11-06T00:59:32Z</dcterms:modified>
  <cp:revision>6</cp:revision>
  <dc:subject/>
  <dc:title>Slide 1</dc:title>
</cp:coreProperties>
</file>