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798-C127-46C5-AEC3-A33E6E7A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B17-DFFB-4E0F-93AE-84BE9776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06C-E3A9-41B7-924D-7A91D66D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06C-E352-41E8-B4CB-15C4B518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B26-CE96-4457-A631-9DC3A21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D45-64A8-4218-AE6C-0A5CF813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194-5892-4A44-8525-76C98AB3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762-1D02-4D34-8139-6425742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91C-E4DD-472A-ACCF-A74AEB29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98A-D1EE-466C-871C-6E2D4A9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882-CBCF-4DED-B640-578BF06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1DB-C8A7-43A4-BDBD-36A4C1F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D051-8694-417B-8EE2-29A8C0DE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By </a:t>
            </a: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Tiaan from the new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2060640"/>
            <a:ext cx="4538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nap ITC"/>
              </a:rPr>
              <a:t>Rugby fun da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71840" y="4697280"/>
            <a:ext cx="6572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Mellons Bay entered the rugby fun day excited and nerv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was a day they had no school work and could enjoy rugby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ntered two teams the junior team and the senio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4869000"/>
            <a:ext cx="2160720" cy="20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layed hard and won lots of games the senior team won 5 games and lost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40360" y="4494240"/>
            <a:ext cx="2519280" cy="236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 the end everyone had fun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226548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202360"/>
            <a:ext cx="1447920" cy="165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2:12:28Z</dcterms:created>
  <dc:creator>Administrator</dc:creator>
  <dc:description/>
  <dc:language>en-US</dc:language>
  <cp:lastModifiedBy>Administrator</cp:lastModifiedBy>
  <dcterms:modified xsi:type="dcterms:W3CDTF">2008-11-06T00:59:32Z</dcterms:modified>
  <cp:revision>6</cp:revision>
  <dc:subject/>
  <dc:title>Slide 1</dc:title>
</cp:coreProperties>
</file>