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9.gif" ContentType="image/gif"/>
  <Override PartName="/ppt/media/image13.jpeg" ContentType="image/jpeg"/>
  <Override PartName="/ppt/media/image20.gif" ContentType="image/gif"/>
  <Override PartName="/ppt/media/image8.jpeg" ContentType="image/jpeg"/>
  <Override PartName="/ppt/media/image2.gif" ContentType="image/gif"/>
  <Override PartName="/ppt/media/image19.png" ContentType="image/png"/>
  <Override PartName="/ppt/media/image18.jpeg" ContentType="image/jpeg"/>
  <Override PartName="/ppt/media/image3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10.gif" ContentType="image/gif"/>
  <Override PartName="/ppt/media/image12.jpeg" ContentType="image/jpeg"/>
  <Override PartName="/ppt/media/image1.jpeg" ContentType="image/jpeg"/>
  <Override PartName="/ppt/media/image4.gif" ContentType="image/gif"/>
  <Override PartName="/ppt/media/image6.jpeg" ContentType="image/jpeg"/>
  <Override PartName="/ppt/media/image5.gif" ContentType="image/gif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43FD-62FD-4040-AC93-400B6B542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668A-B43A-44AE-A6A3-0EB6F3C58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1ED6-DA0A-4425-AEB8-27C70C5A6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D3D7-38E5-44EA-95F3-0ECB9D3DB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8874-EB2B-48C2-BF07-E633E15CA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EAD9-47E2-45D5-8D53-95A6A6467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C0B0-E1BD-414C-B8E3-6CDC417E9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9FE3-3E4A-454B-A912-2CDB4B622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87CD-7D03-424C-B7FB-B40D7E2E6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F86D-A5B6-4C94-88B5-308F19C3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5BAA-7062-43E4-A9D9-E41E9C13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1CFE-0AAA-4EA1-A6BE-E5651D19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E139D-E0B5-425D-86E1-CE3F1597E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j0214098.wav" TargetMode="External"/><Relationship Id="rId2" Type="http://schemas.microsoft.com/office/2007/relationships/media" Target="file:///tmp/home/.config/libreoffice/4/user/gallery/j0214098.wav" TargetMode="External"/><Relationship Id="rId3" Type="http://schemas.openxmlformats.org/officeDocument/2006/relationships/image" Target="../media/image19.png"/><Relationship Id="rId4" Type="http://schemas.openxmlformats.org/officeDocument/2006/relationships/image" Target="../media/image20.gif"/><Relationship Id="rId5" Type="http://schemas.openxmlformats.org/officeDocument/2006/relationships/image" Target="../media/image20.gif"/><Relationship Id="rId6" Type="http://schemas.openxmlformats.org/officeDocument/2006/relationships/image" Target="../media/image20.gi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5435640" y="59500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217440" y="216000"/>
            <a:ext cx="8675640" cy="24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anks For Watching!</a:t>
            </a:r>
            <a:endParaRPr b="0" lang="en-US" sz="1800" spc="1" strike="noStrike">
              <a:ln w="255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0" y="4927680"/>
            <a:ext cx="3073320" cy="1930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6070680" y="4927680"/>
            <a:ext cx="3073320" cy="19303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3132000" y="4927680"/>
            <a:ext cx="3073680" cy="19303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2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19468800">
            <a:off x="-276120" y="2706480"/>
            <a:ext cx="9396360" cy="12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Room 7's Wonderful Book Week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2449440" cy="2160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987640" y="189000"/>
            <a:ext cx="1803600" cy="2232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111560" y="4149720"/>
            <a:ext cx="2308320" cy="2370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6904080" y="4005360"/>
            <a:ext cx="2000160" cy="25635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24000" y="260280"/>
            <a:ext cx="8496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Jack and the Beanstalk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165480" y="1557360"/>
            <a:ext cx="2990880" cy="3533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305400" y="1550880"/>
            <a:ext cx="2514600" cy="3533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291960" y="1557360"/>
            <a:ext cx="2695680" cy="3514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195640" y="1628640"/>
            <a:ext cx="5195880" cy="301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ets climb up the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eanstalk and see what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e find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04000" y="4815000"/>
            <a:ext cx="1513080" cy="1512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 rot="1074600">
            <a:off x="1763640" y="5029200"/>
            <a:ext cx="1513080" cy="1512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 rot="388800">
            <a:off x="7093080" y="333000"/>
            <a:ext cx="1266840" cy="1655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 rot="20177400">
            <a:off x="539280" y="189000"/>
            <a:ext cx="1346400" cy="20444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292720" y="7461360"/>
            <a:ext cx="4321080" cy="3241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51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5219640" y="2205000"/>
            <a:ext cx="3924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>
                        <a:alpha val="50196"/>
                      </a:srgbClr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OOK! 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>
                      <a:alpha val="50196"/>
                    </a:srgbClr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>
                        <a:alpha val="50196"/>
                      </a:srgbClr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IT'S THE 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>
                      <a:alpha val="50196"/>
                    </a:srgbClr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>
                        <a:alpha val="50196"/>
                      </a:srgbClr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FAIRY 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>
                      <a:alpha val="50196"/>
                    </a:srgbClr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>
                        <a:alpha val="50196"/>
                      </a:srgbClr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GODMOTHER!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>
                      <a:alpha val="50196"/>
                    </a:srgbClr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9T02:17:14Z</dcterms:created>
  <dc:creator>Administrator</dc:creator>
  <dc:description/>
  <dc:language>en-US</dc:language>
  <cp:lastModifiedBy>Administrator</cp:lastModifiedBy>
  <dcterms:modified xsi:type="dcterms:W3CDTF">2008-09-25T22:40:39Z</dcterms:modified>
  <cp:revision>10</cp:revision>
  <dc:subject/>
  <dc:title>Slide 1</dc:title>
</cp:coreProperties>
</file>