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9.gif" ContentType="image/gif"/>
  <Override PartName="/ppt/media/image13.jpeg" ContentType="image/jpeg"/>
  <Override PartName="/ppt/media/image20.gif" ContentType="image/gif"/>
  <Override PartName="/ppt/media/image8.jpeg" ContentType="image/jpeg"/>
  <Override PartName="/ppt/media/image2.gif" ContentType="image/gif"/>
  <Override PartName="/ppt/media/image19.png" ContentType="image/pn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0.gif" ContentType="image/gif"/>
  <Override PartName="/ppt/media/image12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5.gif" ContentType="image/gif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7EB6-820C-4FD8-87F7-582B5E9E0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9DF0-8BDB-4560-8B02-2A47D9A7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9FE7-45E3-4ABE-94FC-196D74035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B45A-655C-44D7-ABB0-527D0BC97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42D1-3137-4BB9-A9E5-CBBC44BB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8BFC-48BD-4945-974B-E52C978A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34E1-4623-4A49-BD9C-15772B0F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71BF-3AE9-43B4-B358-743CD9B0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414C-EBDD-4FE7-BC71-A55947BE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211A-332B-4F0E-8722-EA26B543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5B08-76E2-4267-B2D1-C1906260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755D-0ECC-4FA8-87D1-57889266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9FDA-0C18-4161-9CB9-8F2A22880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9.png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43564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217440" y="216000"/>
            <a:ext cx="8675640" cy="24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nks For Watching!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0" y="4927680"/>
            <a:ext cx="3073320" cy="1930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6070680" y="4927680"/>
            <a:ext cx="3073320" cy="1930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3132000" y="4927680"/>
            <a:ext cx="3073680" cy="19303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2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19468800">
            <a:off x="-276120" y="2706480"/>
            <a:ext cx="939636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oom 7's Wonderful Book Week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2449440" cy="2160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987640" y="189000"/>
            <a:ext cx="1803600" cy="2232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111560" y="4149720"/>
            <a:ext cx="2308320" cy="2370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904080" y="4005360"/>
            <a:ext cx="2000160" cy="2563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4000" y="260280"/>
            <a:ext cx="8496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Jack and the Beanstalk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165480" y="1557360"/>
            <a:ext cx="2990880" cy="3533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305400" y="1550880"/>
            <a:ext cx="2514600" cy="3533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91960" y="1557360"/>
            <a:ext cx="2695680" cy="3514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195640" y="1628640"/>
            <a:ext cx="5195880" cy="301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ts climb up the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eanstalk and see what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 find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04000" y="4815000"/>
            <a:ext cx="1513080" cy="1512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 rot="1074600">
            <a:off x="1763640" y="5029200"/>
            <a:ext cx="1513080" cy="1512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 rot="388800">
            <a:off x="7093080" y="333000"/>
            <a:ext cx="1266840" cy="1655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 rot="20177400">
            <a:off x="539280" y="189000"/>
            <a:ext cx="1346400" cy="2044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292720" y="7461360"/>
            <a:ext cx="4321080" cy="3241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51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5219640" y="2205000"/>
            <a:ext cx="3924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>
                        <a:alpha val="50196"/>
                      </a:srgbClr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OOK!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>
                        <a:alpha val="50196"/>
                      </a:srgbClr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T'S THE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>
                        <a:alpha val="50196"/>
                      </a:srgbClr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AIRY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>
                        <a:alpha val="50196"/>
                      </a:srgbClr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GODMOTHER!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2:17:14Z</dcterms:created>
  <dc:creator>Administrator</dc:creator>
  <dc:description/>
  <dc:language>en-US</dc:language>
  <cp:lastModifiedBy>Administrator</cp:lastModifiedBy>
  <dcterms:modified xsi:type="dcterms:W3CDTF">2008-09-25T22:40:39Z</dcterms:modified>
  <cp:revision>10</cp:revision>
  <dc:subject/>
  <dc:title>Slide 1</dc:title>
</cp:coreProperties>
</file>