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854-8E52-4CA9-AB1D-94F0101C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A4F-66D7-4EB1-94C0-982D5434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168-2EA9-423C-9BAD-78543E86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FB3-3EA5-4D22-9ECD-E4B38F62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D59-F13E-48F6-8532-2D8237A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276-7242-415A-BD71-A96CECC3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681-7107-4C2B-848B-1C2B943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A49-DBCB-4A48-9C94-76E02974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53F-FD96-4C69-B75D-10B5475A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B27-BDC3-4AEF-AEF9-84A050F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140-05EF-4AF5-9784-AF74414A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19D-DDDD-46C5-BCCE-10F9A8B2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C832-3D92-43A0-B189-882C37F0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435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17440" y="216000"/>
            <a:ext cx="867564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4927680"/>
            <a:ext cx="3073320" cy="193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70680" y="4927680"/>
            <a:ext cx="3073320" cy="193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132000" y="4927680"/>
            <a:ext cx="307368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468800">
            <a:off x="-276120" y="2706480"/>
            <a:ext cx="93963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om 7's Wonderful Book Wee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87640" y="189000"/>
            <a:ext cx="18036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111560" y="4149720"/>
            <a:ext cx="2308320" cy="237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904080" y="4005360"/>
            <a:ext cx="2000160" cy="2563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260280"/>
            <a:ext cx="849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ck and the Beanstal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65480" y="1557360"/>
            <a:ext cx="2990880" cy="353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5400" y="1550880"/>
            <a:ext cx="2514600" cy="35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91960" y="1557360"/>
            <a:ext cx="269568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5640" y="1628640"/>
            <a:ext cx="519588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ts climb up th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anstalk and see what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 find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04000" y="48150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1074600">
            <a:off x="1763640" y="50292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388800">
            <a:off x="7093080" y="333000"/>
            <a:ext cx="126684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rot="20177400">
            <a:off x="539280" y="189000"/>
            <a:ext cx="1346400" cy="2044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7461360"/>
            <a:ext cx="4321080" cy="324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219640" y="2205000"/>
            <a:ext cx="392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OK!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T'S THE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AIRY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DMOTHER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7:14Z</dcterms:created>
  <dc:creator>Administrator</dc:creator>
  <dc:description/>
  <dc:language>en-US</dc:language>
  <cp:lastModifiedBy>Administrator</cp:lastModifiedBy>
  <dcterms:modified xsi:type="dcterms:W3CDTF">2008-09-25T22:40:39Z</dcterms:modified>
  <cp:revision>10</cp:revision>
  <dc:subject/>
  <dc:title>Slide 1</dc:title>
</cp:coreProperties>
</file>