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gif" ContentType="image/gif"/>
  <Override PartName="/ppt/media/image13.jpeg" ContentType="image/jpeg"/>
  <Override PartName="/ppt/media/image20.gif" ContentType="image/gif"/>
  <Override PartName="/ppt/media/image8.jpeg" ContentType="image/jpeg"/>
  <Override PartName="/ppt/media/image2.gif" ContentType="image/gif"/>
  <Override PartName="/ppt/media/image19.png" ContentType="image/pn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0.gif" ContentType="image/gif"/>
  <Override PartName="/ppt/media/image12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DF2-E09B-446C-A388-FDB65A43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059E-AAED-4B65-8F9B-0041CA34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B6DE-F718-4C55-88C2-3E68441B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6E2-CD3A-4558-9B80-F777442F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1A13-66C0-4262-848F-86222CD4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B43-FD1B-414C-842F-535C0BCD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6DAD-2874-4F26-A2EA-A9E8B56F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3F6D-D95D-4C94-893F-8DFE326E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F38-EF6C-4F7D-B72E-A6D72AFA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9EA1-D734-42EA-BDC4-F567900B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19E-4AD3-4DF7-8EF4-5E9F3758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2CA3-1AFC-4CB2-B52C-020D0528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A52D-BEA8-4FEA-BF92-6E60AD42C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43564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17440" y="216000"/>
            <a:ext cx="867564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s For Watching!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4927680"/>
            <a:ext cx="3073320" cy="1930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070680" y="4927680"/>
            <a:ext cx="3073320" cy="1930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132000" y="4927680"/>
            <a:ext cx="3073680" cy="1930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9468800">
            <a:off x="-276120" y="2706480"/>
            <a:ext cx="939636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oom 7's Wonderful Book Week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449440" cy="2160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87640" y="189000"/>
            <a:ext cx="1803600" cy="223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111560" y="4149720"/>
            <a:ext cx="2308320" cy="237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904080" y="4005360"/>
            <a:ext cx="2000160" cy="2563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260280"/>
            <a:ext cx="849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ack and the Beanstalk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65480" y="1557360"/>
            <a:ext cx="2990880" cy="3533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05400" y="1550880"/>
            <a:ext cx="2514600" cy="3533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91960" y="1557360"/>
            <a:ext cx="2695680" cy="3514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195640" y="1628640"/>
            <a:ext cx="5195880" cy="30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ts climb up the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eanstalk and see what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 find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04000" y="4815000"/>
            <a:ext cx="1513080" cy="1512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1074600">
            <a:off x="1763640" y="5029200"/>
            <a:ext cx="1513080" cy="151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rot="388800">
            <a:off x="7093080" y="333000"/>
            <a:ext cx="1266840" cy="165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 rot="20177400">
            <a:off x="539280" y="189000"/>
            <a:ext cx="1346400" cy="2044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92720" y="7461360"/>
            <a:ext cx="4321080" cy="324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219640" y="2205000"/>
            <a:ext cx="392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OOK!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T'S THE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AIRY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ODMOTHER!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7:14Z</dcterms:created>
  <dc:creator>Administrator</dc:creator>
  <dc:description/>
  <dc:language>en-US</dc:language>
  <cp:lastModifiedBy>Administrator</cp:lastModifiedBy>
  <dcterms:modified xsi:type="dcterms:W3CDTF">2008-09-25T22:40:39Z</dcterms:modified>
  <cp:revision>10</cp:revision>
  <dc:subject/>
  <dc:title>Slide 1</dc:title>
</cp:coreProperties>
</file>