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rrow.wav" ContentType="audio/x-wav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E63A-4F6B-412C-8715-44CB98DC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F808-B8F7-4453-B02C-15A034A1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23B3-A405-40BE-B1D6-E9AB5DA1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9884-0850-4338-9455-C53D44F1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0D60-51F8-42AC-8B66-A7F72BB6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958A-38B7-4AD2-87C8-0C7939A7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F4CF-358F-42DA-8099-989DD68A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311D-8B09-40DA-99AF-0EC9E7D5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0997-F39A-4C0D-BCB2-CC3BA71F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24A0-2B7F-4775-94DD-38D6615B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44CC-A2C4-4019-9CAA-53ACA075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EFED-6A86-4D2A-80EA-D0A6DE39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49D9-92D8-4F5A-B87D-E99A35171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7129440" cy="5403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 rot="1882200">
            <a:off x="183960" y="2421000"/>
            <a:ext cx="8959680" cy="17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arrington"/>
              </a:rPr>
              <a:t>Room 4's New Desk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slow" advTm="16000">
    <p:randomBar dir="vert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6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1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619280" y="333360"/>
            <a:ext cx="5688000" cy="15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Breaking New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844640"/>
            <a:ext cx="532908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oom 4 has been spotted with glamorous new desks and other classes have been very env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ey were drooling with jealousy as the brand new desks glimmered in the sun , while Room 4 students piled them into th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680200">
            <a:off x="6443280" y="2997360"/>
            <a:ext cx="1800360" cy="1450800"/>
          </a:xfrm>
          <a:prstGeom prst="rect">
            <a:avLst/>
          </a:prstGeom>
          <a:ln w="0">
            <a:noFill/>
          </a:ln>
        </p:spPr>
      </p:pic>
    </p:spTree>
  </p:cSld>
  <p:transition advTm="22000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15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" dur="15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" dur="15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042920" y="3213000"/>
            <a:ext cx="7020000" cy="7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ll about Room 4's Excitement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4797360"/>
            <a:ext cx="863640" cy="64764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51640" y="404640"/>
            <a:ext cx="1224000" cy="11527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2000" y="1628640"/>
            <a:ext cx="865080" cy="64800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549360"/>
            <a:ext cx="719280" cy="57600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08720" y="4797360"/>
            <a:ext cx="936720" cy="79380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877000"/>
            <a:ext cx="718920" cy="57636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56720" y="5950080"/>
            <a:ext cx="863280" cy="64764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365040"/>
            <a:ext cx="4321440" cy="66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ia says that she loves the new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sks they’re clean new and comfor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omas likes that he has his own personal space and that the girls aren’t taking up all the leg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mma loves that she can be more organised now that they have des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wyn is pleased that there are no more tote tr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wheel spokes="1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7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5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3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1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9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7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5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 rot="5400000">
            <a:off x="5218920" y="3141720"/>
            <a:ext cx="62643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at a Chan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rot="21117000">
            <a:off x="3995640" y="3645000"/>
            <a:ext cx="3382920" cy="2609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627280" y="260280"/>
            <a:ext cx="3473640" cy="2951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 rot="798000">
            <a:off x="971280" y="3573360"/>
            <a:ext cx="3274920" cy="2714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9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3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9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627280" y="333360"/>
            <a:ext cx="468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ff"/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redit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0000ff"/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1773360"/>
            <a:ext cx="5400720" cy="62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Slideshow:</a:t>
            </a:r>
            <a:r>
              <a:rPr b="0" i="1" lang="en-US" sz="3600" spc="-1" strike="noStrike">
                <a:solidFill>
                  <a:srgbClr val="ffffff"/>
                </a:solidFill>
                <a:latin typeface="Arial Narrow"/>
              </a:rPr>
              <a:t> By news team members Victoria and 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Interviewees: </a:t>
            </a:r>
            <a:r>
              <a:rPr b="0" i="1" lang="en-US" sz="3600" spc="-1" strike="noStrike">
                <a:solidFill>
                  <a:srgbClr val="ffffff"/>
                </a:solidFill>
                <a:latin typeface="Arial Narrow"/>
              </a:rPr>
              <a:t>Maia, Emma, Arwyn and Thom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 Narrow"/>
              </a:rPr>
              <a:t>(Room 4 studen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Photos: </a:t>
            </a:r>
            <a:r>
              <a:rPr b="0" i="1" lang="en-US" sz="3600" spc="-1" strike="noStrike">
                <a:solidFill>
                  <a:srgbClr val="ffffff"/>
                </a:solidFill>
                <a:latin typeface="Arial Narrow"/>
              </a:rPr>
              <a:t>taken by Victoria and Ell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comb dir="ver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15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15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5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02:13:25Z</dcterms:created>
  <dc:creator>Administrator</dc:creator>
  <dc:description/>
  <dc:language>en-US</dc:language>
  <cp:lastModifiedBy>Administrator</cp:lastModifiedBy>
  <dcterms:modified xsi:type="dcterms:W3CDTF">2008-09-25T22:54:14Z</dcterms:modified>
  <cp:revision>45</cp:revision>
  <dc:subject/>
  <dc:title>Slide 1</dc:title>
</cp:coreProperties>
</file>