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arrow.wav" ContentType="audio/x-wav"/>
  <Override PartName="/ppt/media/image2.gif" ContentType="image/gi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AC44-C62C-4200-975F-EEBBF6982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C4E5-AEB5-4D33-92F7-4D9033C3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0453-9183-4BB3-9D4B-6DA387B6E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F8D1-ABDE-4815-8645-B24E6BD56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C402-A100-41A9-9B8A-970233EC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BAD5-C800-4385-AC8B-447BBFAF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25FC-5D39-4350-8357-37E6695C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BDD3-04C1-4C85-BB43-33D4FD60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2FF1-5198-4669-8497-9ADEEAD3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7DFB-A06A-43E7-ACE9-DB668C1F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E0EC-CBDB-44B1-A287-8D766C1A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B33C-4192-4E10-B852-8069E077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5952-3D93-4BE1-90A2-B2D544903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7129440" cy="5403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2" name=""/>
          <p:cNvSpPr txBox="1"/>
          <p:nvPr/>
        </p:nvSpPr>
        <p:spPr>
          <a:xfrm rot="1882200">
            <a:off x="183960" y="2421000"/>
            <a:ext cx="8959680" cy="17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arrington"/>
              </a:rPr>
              <a:t>Room 4's New Desk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arrington"/>
              <a:ea typeface="Harrington"/>
            </a:endParaRPr>
          </a:p>
        </p:txBody>
      </p:sp>
    </p:spTree>
  </p:cSld>
  <p:transition spd="slow" advTm="16000">
    <p:randomBar dir="vert"/>
    <p:sndAc>
      <p:stSnd>
        <p:snd r:embed="rId2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6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1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619280" y="333360"/>
            <a:ext cx="5688000" cy="153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Breaking New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1844640"/>
            <a:ext cx="532908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oom 4 has been spotted with glamorous new desks and other classes have been very envi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hey were drooling with jealousy as the brand new desks glimmered in the sun , while Room 4 students piled them into the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 rot="20680200">
            <a:off x="6443280" y="2997360"/>
            <a:ext cx="1800360" cy="1450800"/>
          </a:xfrm>
          <a:prstGeom prst="rect">
            <a:avLst/>
          </a:prstGeom>
          <a:ln w="0">
            <a:noFill/>
          </a:ln>
        </p:spPr>
      </p:pic>
    </p:spTree>
  </p:cSld>
  <p:transition advTm="22000">
    <p:newsflash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15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9" dur="15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" dur="15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3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700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042920" y="3213000"/>
            <a:ext cx="7020000" cy="76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ll about Room 4's Excitement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4797360"/>
            <a:ext cx="863640" cy="64764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51640" y="404640"/>
            <a:ext cx="1224000" cy="115272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32000" y="1628640"/>
            <a:ext cx="865080" cy="64800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549360"/>
            <a:ext cx="719280" cy="57600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08720" y="4797360"/>
            <a:ext cx="936720" cy="79380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877000"/>
            <a:ext cx="718920" cy="57636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56720" y="5950080"/>
            <a:ext cx="863280" cy="64764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365040"/>
            <a:ext cx="4321440" cy="66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ia says that she loves the new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sks they’re clean new and comfor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omas likes that he has his own personal space and that the girls aren’t taking up all the leg 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mma loves that she can be more organised now that they have des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wyn is pleased that there are no more tote tr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wheel spokes="1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7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67">
                                          <p:stCondLst>
                                            <p:cond delay="2733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39" fill="hold">
                                          <p:stCondLst>
                                            <p:cond delay="93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249" fill="hold">
                                          <p:stCondLst>
                                            <p:cond delay="96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5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67">
                                          <p:stCondLst>
                                            <p:cond delay="2733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39" fill="hold">
                                          <p:stCondLst>
                                            <p:cond delay="93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249" fill="hold">
                                          <p:stCondLst>
                                            <p:cond delay="96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3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67">
                                          <p:stCondLst>
                                            <p:cond delay="2733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39" fill="hold">
                                          <p:stCondLst>
                                            <p:cond delay="93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249" fill="hold">
                                          <p:stCondLst>
                                            <p:cond delay="96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1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67">
                                          <p:stCondLst>
                                            <p:cond delay="2733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39" fill="hold">
                                          <p:stCondLst>
                                            <p:cond delay="93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" dur="249" fill="hold">
                                          <p:stCondLst>
                                            <p:cond delay="96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9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67">
                                          <p:stCondLst>
                                            <p:cond delay="2733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39" fill="hold">
                                          <p:stCondLst>
                                            <p:cond delay="93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249" fill="hold">
                                          <p:stCondLst>
                                            <p:cond delay="96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7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67">
                                          <p:stCondLst>
                                            <p:cond delay="2733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39" fill="hold">
                                          <p:stCondLst>
                                            <p:cond delay="93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249" fill="hold">
                                          <p:stCondLst>
                                            <p:cond delay="96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5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67">
                                          <p:stCondLst>
                                            <p:cond delay="2733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" dur="39" fill="hold">
                                          <p:stCondLst>
                                            <p:cond delay="93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" dur="249" fill="hold">
                                          <p:stCondLst>
                                            <p:cond delay="96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 rot="5400000">
            <a:off x="5218920" y="3141720"/>
            <a:ext cx="626436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at a Chan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 rot="21117000">
            <a:off x="3995640" y="3645000"/>
            <a:ext cx="3382920" cy="2609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627280" y="260280"/>
            <a:ext cx="3473640" cy="2951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 rot="798000">
            <a:off x="971280" y="3573360"/>
            <a:ext cx="3274920" cy="27147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1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9" dur="1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0" dur="1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5" dur="3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9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627280" y="333360"/>
            <a:ext cx="4680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ff"/>
                    </a:gs>
                    <a:gs pos="100000">
                      <a:srgbClr val="ffffff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redit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50000">
                    <a:srgbClr val="0000ff"/>
                  </a:gs>
                  <a:gs pos="100000">
                    <a:srgbClr val="ffffff"/>
                  </a:gs>
                </a:gsLst>
                <a:lin ang="81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40000" y="1773360"/>
            <a:ext cx="5400720" cy="62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Slideshow:</a:t>
            </a:r>
            <a:r>
              <a:rPr b="0" i="1" lang="en-US" sz="3600" spc="-1" strike="noStrike">
                <a:solidFill>
                  <a:srgbClr val="ffffff"/>
                </a:solidFill>
                <a:latin typeface="Arial Narrow"/>
              </a:rPr>
              <a:t> By news team members Victoria and E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Interviewees: </a:t>
            </a:r>
            <a:r>
              <a:rPr b="0" i="1" lang="en-US" sz="3600" spc="-1" strike="noStrike">
                <a:solidFill>
                  <a:srgbClr val="ffffff"/>
                </a:solidFill>
                <a:latin typeface="Arial Narrow"/>
              </a:rPr>
              <a:t>Maia, Emma, Arwyn and Thom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 Narrow"/>
              </a:rPr>
              <a:t>(Room 4 student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Photos: </a:t>
            </a:r>
            <a:r>
              <a:rPr b="0" i="1" lang="en-US" sz="3600" spc="-1" strike="noStrike">
                <a:solidFill>
                  <a:srgbClr val="ffffff"/>
                </a:solidFill>
                <a:latin typeface="Arial Narrow"/>
              </a:rPr>
              <a:t>taken by Victoria and Ell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comb dir="vert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6" dur="15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5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0" dur="15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5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8T02:13:25Z</dcterms:created>
  <dc:creator>Administrator</dc:creator>
  <dc:description/>
  <dc:language>en-US</dc:language>
  <cp:lastModifiedBy>Administrator</cp:lastModifiedBy>
  <dcterms:modified xsi:type="dcterms:W3CDTF">2008-09-25T22:54:14Z</dcterms:modified>
  <cp:revision>45</cp:revision>
  <dc:subject/>
  <dc:title>Slide 1</dc:title>
</cp:coreProperties>
</file>