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9B1-72EE-4FC2-8DB8-2015D0F4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B1D-A94F-4160-8166-480725BB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560-3965-4942-B634-382356AF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9BE-44D6-4CF1-919C-ABC4DF74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446-3AC1-4C49-8B88-F4CC357D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FE3-35F0-4822-A618-4525F6C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255-4AB8-4BE3-B705-51420F8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30D-8CE5-43B6-9F6D-773DA434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9EE-2A1C-48AA-AAA5-77D7080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4B9-A167-468E-A821-2CB50F5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42C-2484-4158-B6DC-17B5E30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24F-455B-408E-BC01-A3652A01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8616-BA6D-4F32-AE4F-4FE289183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129440" cy="54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1882200">
            <a:off x="183960" y="2421000"/>
            <a:ext cx="895968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Room 4's New Des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 advTm="16000">
    <p:randomBar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19280" y="333360"/>
            <a:ext cx="5688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reaking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44640"/>
            <a:ext cx="5329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oom 4 has been spotted with glamorous new desks and other classes have been very en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y were drooling with jealousy as the brand new desks glimmered in the sun , while Room 4 students piled them into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80200">
            <a:off x="6443280" y="2997360"/>
            <a:ext cx="1800360" cy="145080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42920" y="3213000"/>
            <a:ext cx="702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about Room 4's Excite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97360"/>
            <a:ext cx="86364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04640"/>
            <a:ext cx="1224000" cy="115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628640"/>
            <a:ext cx="865080" cy="648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9360"/>
            <a:ext cx="719280" cy="576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4797360"/>
            <a:ext cx="936720" cy="793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77000"/>
            <a:ext cx="718920" cy="576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5950080"/>
            <a:ext cx="86328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5040"/>
            <a:ext cx="4321440" cy="66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a says that she loves the ne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ks they’re clean new and 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likes that he has his own personal space and that the girls aren’t taking up all the le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ma loves that she can be more organised now that they have de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wyn is pleased that there are no more tote t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5218920" y="314172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17000">
            <a:off x="3995640" y="3645000"/>
            <a:ext cx="3382920" cy="26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3473640" cy="29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798000">
            <a:off x="971280" y="3573360"/>
            <a:ext cx="327492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27280" y="33336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540072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lideshow: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 By news team members Victoria and 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terviewee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Maia, Emma, Arwyn and Tho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(Room 4 stud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hoto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taken by Victoria and Ell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mb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2:13:25Z</dcterms:created>
  <dc:creator>Administrator</dc:creator>
  <dc:description/>
  <dc:language>en-US</dc:language>
  <cp:lastModifiedBy>Administrator</cp:lastModifiedBy>
  <dcterms:modified xsi:type="dcterms:W3CDTF">2008-09-25T22:54:14Z</dcterms:modified>
  <cp:revision>45</cp:revision>
  <dc:subject/>
  <dc:title>Slide 1</dc:title>
</cp:coreProperties>
</file>