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D14D4-1633-4BF9-9E90-B12478FF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C86F-B49E-4726-B17B-C919BADB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2185-E1EB-41B1-B70C-01AC2075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5E00-6A05-443E-B552-55FE8E11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4930-3768-4752-9EF0-9C3245E1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FF17-3F8F-40EA-80AB-9FEE111A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CA18-5677-4519-BCC5-E44517D6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E1D3-307A-42C2-ACC9-2BC68C18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582D-B2A5-4568-949B-18392F99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D765-D310-4EDE-8817-3EEB69AD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FACF-5D9C-4F84-8027-69C4532B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6A484-46A9-4A95-82B6-877F4EDD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91D8-F4D9-4048-A912-7B4F573E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E56B-47E4-4B32-9C85-856BC5CC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EC2B-0323-4B12-8CB9-F53B329F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5DEC-45D3-43DC-9E89-E612AC90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4441-01CA-4D7E-BE44-1B4B098A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F62FF-C463-4203-BFCC-8608B665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A8123-4EB7-4318-A970-AF50CF3B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5E87C-5438-4551-A767-9F4C1E8E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421EE-5E45-42A4-A3B2-E7EB22D8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21A9-96D9-4CDA-A43D-BF2E5572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3E31-3774-4A34-94AB-D4178014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8C20-1411-445F-9E8B-2D4ACBBA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4F16-C3C5-49B4-B123-BAE2FE75D7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863E-4955-4E93-BABD-EDA56892A5F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Room 2 (along with Emily Hilli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413000"/>
            <a:ext cx="860400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0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0186a"/>
                  </a:solidFill>
                  <a:miter/>
                </a:ln>
                <a:gradFill rotWithShape="0">
                  <a:gsLst>
                    <a:gs pos="0">
                      <a:srgbClr val="f0186a"/>
                    </a:gs>
                    <a:gs pos="50000">
                      <a:srgbClr val="35b0e7"/>
                    </a:gs>
                    <a:gs pos="100000">
                      <a:srgbClr val="f0186a"/>
                    </a:gs>
                  </a:gsLst>
                  <a:lin ang="5400000"/>
                </a:gradFill>
                <a:latin typeface="Curlz MT"/>
              </a:rPr>
              <a:t>Blow your taste buds with Room 2</a:t>
            </a:r>
            <a:endParaRPr b="0" lang="en-US" sz="6600" spc="1" strike="noStrike">
              <a:ln w="9360">
                <a:solidFill>
                  <a:srgbClr val="f0186a"/>
                </a:solidFill>
                <a:miter/>
              </a:ln>
              <a:gradFill rotWithShape="0">
                <a:gsLst>
                  <a:gs pos="0">
                    <a:srgbClr val="f0186a"/>
                  </a:gs>
                  <a:gs pos="50000">
                    <a:srgbClr val="35b0e7"/>
                  </a:gs>
                  <a:gs pos="100000">
                    <a:srgbClr val="f0186a"/>
                  </a:gs>
                </a:gsLst>
                <a:lin ang="5400000"/>
              </a:gradFill>
              <a:latin typeface="Curlz MT"/>
              <a:ea typeface="Curlz M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70800">
            <a:off x="468360" y="4292640"/>
            <a:ext cx="3348000" cy="188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880200">
            <a:off x="6300720" y="3860280"/>
            <a:ext cx="18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Tahoma"/>
              </a:rPr>
              <a:t>Room 2 where on a rollercoaster ride to get their costumes finished in time!!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1350000">
            <a:off x="5795640" y="4220640"/>
            <a:ext cx="2982960" cy="2237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20665200">
            <a:off x="684000" y="4149360"/>
            <a:ext cx="288108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771640" y="2060640"/>
            <a:ext cx="3270240" cy="2452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5640" y="2133720"/>
            <a:ext cx="18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lu, Jessie and Jess making the liquorice allso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atie is a lolly pop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220500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m yum a Wonka Bar. Too bad you can’t eat it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1844640"/>
            <a:ext cx="1439640" cy="863640"/>
          </a:xfrm>
          <a:prstGeom prst="wedgeEllipseCallout">
            <a:avLst>
              <a:gd name="adj1" fmla="val -43717"/>
              <a:gd name="adj2" fmla="val 6176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0.02963 C -0.02518 0.00695 -0.03611 -0.03171 -0.03021 -0.07037 C -0.02709 -0.08379 -0.02309 -0.09699 -0.01719 -0.10764 C -0.0132 -0.07708 0.000869999999999999 -0.04907 0.02187 -0.03171 C 0.02187 -0.06898 0.03785 -0.10509 0.06493 -0.12106 C 0.07396 -0.12777 0.08385 -0.13032 0.09392 -0.13171 C 0.07882 -0.10902 0.07083 -0.07708 0.07396 -0.04375 C 0.09583 -0.06759 0.12691 -0.07315 0.15382 -0.05578 C 0.16285 -0.05046 0.17187 -0.04097 0.17795 -0.03171 C 0.15486 -0.03426 0.1309 -0.02245 0.11389 0.00162 C 0.1408 0.00973 0.16389 0.03773 0.17083 0.07639 C 0.17291 0.08959 0.17291 0.10301 0.17083 0.11621 C 0.15781 0.09098 0.13594 0.07361 0.1118 0.07107 C 0.12396 0.1044 0.12083 0.1456 0.10295 0.17639 C 0.09583 0.18704 0.08785 0.1963 0.07882 0.20162 C 0.08594 0.17223 0.08194 0.13889 0.06892 0.11227 C 0.05694 0.1456 0.0309 0.16829 0.00087 0.16829 C -0.01007 0.16829 -0.02014 0.16574 -0.02917 0.16019 C -0.00712 0.14954 0.00989 0.12431 0.01788 0.09352 C -0.01007 0.10162 -0.03906 0.08959 -0.05816 0.05903 C -0.06511 0.04699 -0.0691 0.03496 -0.07205 0.02153 C -0.05209 0.03889 -0.02604 0.04167 -0.00313 0.02963 Z">
                                      <p:cBhvr>
                                        <p:cTn id="5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Tahoma"/>
              </a:rPr>
              <a:t>Room 2 had heaps of fun watching the Storylines Production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270240" cy="2452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20857200">
            <a:off x="324000" y="3068280"/>
            <a:ext cx="2622240" cy="1967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675600">
            <a:off x="5579640" y="2781360"/>
            <a:ext cx="3198960" cy="239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766960" cy="2075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12000" y="5661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sha is being Catherine    McT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177336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is playing the Bubble 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8446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and Lisha holding their favourite 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5516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is scared of Lisha!!!  RUN CHRIS RUN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0" idx="2"/>
            <a:endCxn id="146" idx="0"/>
          </p:cNvCxnSpPr>
          <p:nvPr/>
        </p:nvCxnSpPr>
        <p:spPr>
          <a:xfrm flipH="1">
            <a:off x="1546920" y="5011200"/>
            <a:ext cx="297720" cy="505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8" name=""/>
          <p:cNvCxnSpPr>
            <a:stCxn id="139" idx="1"/>
            <a:endCxn id="145" idx="2"/>
          </p:cNvCxnSpPr>
          <p:nvPr/>
        </p:nvCxnSpPr>
        <p:spPr>
          <a:xfrm flipH="1" flipV="1">
            <a:off x="1655280" y="2760480"/>
            <a:ext cx="1116720" cy="3830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9" name=""/>
          <p:cNvCxnSpPr>
            <a:stCxn id="142" idx="3"/>
            <a:endCxn id="143" idx="0"/>
          </p:cNvCxnSpPr>
          <p:nvPr/>
        </p:nvCxnSpPr>
        <p:spPr>
          <a:xfrm>
            <a:off x="5754600" y="5475240"/>
            <a:ext cx="1086480" cy="186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0" name=""/>
          <p:cNvCxnSpPr>
            <a:stCxn id="141" idx="0"/>
            <a:endCxn id="144" idx="2"/>
          </p:cNvCxnSpPr>
          <p:nvPr/>
        </p:nvCxnSpPr>
        <p:spPr>
          <a:xfrm flipV="1">
            <a:off x="7413480" y="2413800"/>
            <a:ext cx="705240" cy="389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4:03Z</dcterms:created>
  <dc:creator>Administrator</dc:creator>
  <dc:description/>
  <dc:language>en-US</dc:language>
  <cp:lastModifiedBy>Administrator</cp:lastModifiedBy>
  <dcterms:modified xsi:type="dcterms:W3CDTF">2008-09-25T22:42:06Z</dcterms:modified>
  <cp:revision>10</cp:revision>
  <dc:subject/>
  <dc:title>Slide 1</dc:title>
</cp:coreProperties>
</file>