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3E3F-7520-4F6F-92E2-FFAA92E5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A1B1D-7404-4D28-9534-97ED71AA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684D0-24C5-4F41-9818-9FC48962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CAD19-BBDA-4C60-9910-F51D10FB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3ECB-42EF-44CD-9284-10784789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C9C1-4401-4DBB-9491-6E612CB8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D10C-8DD7-4D47-B14F-CFC6F14B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0B54-54C0-41B7-9637-6E3E0339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BAD7-FA4C-47BD-AEF6-A4C79437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1255-086A-4C0A-8A13-2CDF284B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C926-35E6-4353-A860-2806EF98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FA42F-F26D-4E50-8799-BFEBDFF6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610B-4F4D-480E-8F03-48E48808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5E43-5607-46E8-8684-073F1BEC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37D8-D666-4C3B-8A9A-5B769638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73FE-FD05-4400-9229-EBEE4F36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FF7B-18E8-40E0-9F48-9AB6BF17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D4D50-34D1-457F-B135-647E0286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D6D91-14BE-40D9-BB4D-6E247106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F8356-2088-48B8-99FB-69EB63CC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4CA2B-1ED5-4C1B-867F-24779054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556A8-9676-44F5-B371-624E569A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D0612-4798-40DC-B13F-83A07584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1097E-FC15-4065-9A5B-0C61377D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FD14-4870-4EBA-B12B-464D378E367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C87D-6564-4059-B0A7-450824F59B4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Room 2 (along with Emily Hilli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413000"/>
            <a:ext cx="860400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0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0186a"/>
                  </a:solidFill>
                  <a:miter/>
                </a:ln>
                <a:gradFill rotWithShape="0">
                  <a:gsLst>
                    <a:gs pos="0">
                      <a:srgbClr val="f0186a"/>
                    </a:gs>
                    <a:gs pos="50000">
                      <a:srgbClr val="35b0e7"/>
                    </a:gs>
                    <a:gs pos="100000">
                      <a:srgbClr val="f0186a"/>
                    </a:gs>
                  </a:gsLst>
                  <a:lin ang="5400000"/>
                </a:gradFill>
                <a:latin typeface="Curlz MT"/>
              </a:rPr>
              <a:t>Blow your taste buds with Room 2</a:t>
            </a:r>
            <a:endParaRPr b="0" lang="en-US" sz="6600" spc="1" strike="noStrike">
              <a:ln w="9360">
                <a:solidFill>
                  <a:srgbClr val="f0186a"/>
                </a:solidFill>
                <a:miter/>
              </a:ln>
              <a:gradFill rotWithShape="0">
                <a:gsLst>
                  <a:gs pos="0">
                    <a:srgbClr val="f0186a"/>
                  </a:gs>
                  <a:gs pos="50000">
                    <a:srgbClr val="35b0e7"/>
                  </a:gs>
                  <a:gs pos="100000">
                    <a:srgbClr val="f0186a"/>
                  </a:gs>
                </a:gsLst>
                <a:lin ang="5400000"/>
              </a:gradFill>
              <a:latin typeface="Curlz MT"/>
              <a:ea typeface="Curlz MT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0770800">
            <a:off x="468360" y="4292640"/>
            <a:ext cx="3348000" cy="1886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rot="880200">
            <a:off x="6300720" y="3860280"/>
            <a:ext cx="18734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00"/>
                </a:solidFill>
                <a:latin typeface="Tahoma"/>
              </a:rPr>
              <a:t>Room 2 where on a rollercoaster ride to get their costumes finished in time!!!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1350000">
            <a:off x="5795640" y="4220640"/>
            <a:ext cx="2982960" cy="2237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rot="20665200">
            <a:off x="684000" y="4149360"/>
            <a:ext cx="2881080" cy="2162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771640" y="2060640"/>
            <a:ext cx="3270240" cy="2452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55640" y="2133720"/>
            <a:ext cx="18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ulu, Jessie and Jess making the liquorice allso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atie is a lolly pop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04000" y="220500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mm yum a Wonka Bar. Too bad you can’t eat it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1844640"/>
            <a:ext cx="1439640" cy="863640"/>
          </a:xfrm>
          <a:prstGeom prst="wedgeEllipseCallout">
            <a:avLst>
              <a:gd name="adj1" fmla="val -43717"/>
              <a:gd name="adj2" fmla="val 6176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3 0.02963 C -0.02518 0.00695 -0.03611 -0.03171 -0.03021 -0.07037 C -0.02709 -0.08379 -0.02309 -0.09699 -0.01719 -0.10764 C -0.0132 -0.07708 0.000869999999999999 -0.04907 0.02187 -0.03171 C 0.02187 -0.06898 0.03785 -0.10509 0.06493 -0.12106 C 0.07396 -0.12777 0.08385 -0.13032 0.09392 -0.13171 C 0.07882 -0.10902 0.07083 -0.07708 0.07396 -0.04375 C 0.09583 -0.06759 0.12691 -0.07315 0.15382 -0.05578 C 0.16285 -0.05046 0.17187 -0.04097 0.17795 -0.03171 C 0.15486 -0.03426 0.1309 -0.02245 0.11389 0.00162 C 0.1408 0.00973 0.16389 0.03773 0.17083 0.07639 C 0.17291 0.08959 0.17291 0.10301 0.17083 0.11621 C 0.15781 0.09098 0.13594 0.07361 0.1118 0.07107 C 0.12396 0.1044 0.12083 0.1456 0.10295 0.17639 C 0.09583 0.18704 0.08785 0.1963 0.07882 0.20162 C 0.08594 0.17223 0.08194 0.13889 0.06892 0.11227 C 0.05694 0.1456 0.0309 0.16829 0.00087 0.16829 C -0.01007 0.16829 -0.02014 0.16574 -0.02917 0.16019 C -0.00712 0.14954 0.00989 0.12431 0.01788 0.09352 C -0.01007 0.10162 -0.03906 0.08959 -0.05816 0.05903 C -0.06511 0.04699 -0.0691 0.03496 -0.07205 0.02153 C -0.05209 0.03889 -0.02604 0.04167 -0.00313 0.02963 Z">
                                      <p:cBhvr>
                                        <p:cTn id="5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00"/>
                </a:solidFill>
                <a:latin typeface="Tahoma"/>
              </a:rPr>
              <a:t>Room 2 had heaps of fun watching the Storylines Production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270240" cy="2452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rot="20857200">
            <a:off x="324000" y="3068280"/>
            <a:ext cx="2622240" cy="1967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 rot="675600">
            <a:off x="5579640" y="2781360"/>
            <a:ext cx="3198960" cy="239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766960" cy="2075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012000" y="56610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sha is being Catherine    McT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93080" y="177336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is is playing the Bubble 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84464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is and Lisha holding their favourite 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5516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is is scared of Lisha!!!  RUN CHRIS RUN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0" idx="2"/>
            <a:endCxn id="146" idx="0"/>
          </p:cNvCxnSpPr>
          <p:nvPr/>
        </p:nvCxnSpPr>
        <p:spPr>
          <a:xfrm flipH="1">
            <a:off x="1546920" y="5011200"/>
            <a:ext cx="297720" cy="5058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8" name=""/>
          <p:cNvCxnSpPr>
            <a:stCxn id="139" idx="1"/>
            <a:endCxn id="145" idx="2"/>
          </p:cNvCxnSpPr>
          <p:nvPr/>
        </p:nvCxnSpPr>
        <p:spPr>
          <a:xfrm flipH="1" flipV="1">
            <a:off x="1655280" y="2760480"/>
            <a:ext cx="1116720" cy="3830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9" name=""/>
          <p:cNvCxnSpPr>
            <a:stCxn id="142" idx="3"/>
            <a:endCxn id="143" idx="0"/>
          </p:cNvCxnSpPr>
          <p:nvPr/>
        </p:nvCxnSpPr>
        <p:spPr>
          <a:xfrm>
            <a:off x="5754600" y="5475240"/>
            <a:ext cx="1086480" cy="186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0" name=""/>
          <p:cNvCxnSpPr>
            <a:stCxn id="141" idx="0"/>
            <a:endCxn id="144" idx="2"/>
          </p:cNvCxnSpPr>
          <p:nvPr/>
        </p:nvCxnSpPr>
        <p:spPr>
          <a:xfrm flipV="1">
            <a:off x="7413480" y="2413800"/>
            <a:ext cx="705240" cy="389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4:03Z</dcterms:created>
  <dc:creator>Administrator</dc:creator>
  <dc:description/>
  <dc:language>en-US</dc:language>
  <cp:lastModifiedBy>Administrator</cp:lastModifiedBy>
  <dcterms:modified xsi:type="dcterms:W3CDTF">2008-09-25T22:42:06Z</dcterms:modified>
  <cp:revision>10</cp:revision>
  <dc:subject/>
  <dc:title>Slide 1</dc:title>
</cp:coreProperties>
</file>