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2707-FDBA-459A-9CE0-4B093B28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E573-98DD-404F-A85B-B65D4FF0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F491-4617-45ED-B483-22E8A56A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AF78-616C-4F3D-82BA-0D73875A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F909-9941-4984-98F4-4DE6FA27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EEA1-2360-4C2A-8171-6F18F5F2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9BE0-6B02-4520-BEC8-D3147E19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1BB9-8370-4796-ABF7-1073C860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9611-84F9-46D4-B31B-2BABB329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D292-255B-4AB5-ABD7-85A62E0D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29F7-CB2B-41D6-8095-5F9F8F0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7102-FE64-4AE7-B68E-5626635A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487D-87A2-46CD-B217-0C2A6866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436C-9703-4F3E-9929-DD6AA94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18DB-FB40-4F6F-B743-FD661B1B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01E1-4AB7-49E2-8793-7FEE8870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47D2-D813-46A7-B0AA-97E3A066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EF4D-6B08-42CE-9DB8-E96E6246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47E7-7178-4E7A-9285-7F9232E2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1EC1-F578-4473-94A2-66B75B3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3735-2CBC-4AC4-9C87-A8D522B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1BD2-ACFA-4220-B7C8-E823003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A78E-8978-42DB-8F58-5B712A1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7A23-75BC-4C4B-925C-4F0BAE0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A0DA-BCF0-4DFB-90D7-DBB66957AE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ACEF-B546-43A0-A20E-F3A55550C6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Room 2 (along with Emily Hill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413000"/>
            <a:ext cx="8604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0186a"/>
                  </a:solidFill>
                  <a:miter/>
                </a:ln>
                <a:gradFill rotWithShape="0">
                  <a:gsLst>
                    <a:gs pos="0">
                      <a:srgbClr val="f0186a"/>
                    </a:gs>
                    <a:gs pos="50000">
                      <a:srgbClr val="35b0e7"/>
                    </a:gs>
                    <a:gs pos="100000">
                      <a:srgbClr val="f0186a"/>
                    </a:gs>
                  </a:gsLst>
                  <a:lin ang="5400000"/>
                </a:gradFill>
                <a:latin typeface="Curlz MT"/>
              </a:rPr>
              <a:t>Blow your taste buds with Room 2</a:t>
            </a:r>
            <a:endParaRPr b="0" lang="en-US" sz="6600" spc="1" strike="noStrike">
              <a:ln w="9360">
                <a:solidFill>
                  <a:srgbClr val="f0186a"/>
                </a:solidFill>
                <a:miter/>
              </a:ln>
              <a:gradFill rotWithShape="0">
                <a:gsLst>
                  <a:gs pos="0">
                    <a:srgbClr val="f0186a"/>
                  </a:gs>
                  <a:gs pos="50000">
                    <a:srgbClr val="35b0e7"/>
                  </a:gs>
                  <a:gs pos="100000">
                    <a:srgbClr val="f0186a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70800">
            <a:off x="468360" y="4292640"/>
            <a:ext cx="3348000" cy="18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880200">
            <a:off x="6300720" y="3860280"/>
            <a:ext cx="18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where on a rollercoaster ride to get their costumes finished in time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350000">
            <a:off x="5795640" y="422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665200">
            <a:off x="684000" y="414936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3270240" cy="2452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13372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lu, Jessie and Jess making the liquorice allso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atie is a lolly pop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205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m yum a Wonka Bar. Too bad you can’t eat it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44640"/>
            <a:ext cx="1439640" cy="863640"/>
          </a:xfrm>
          <a:prstGeom prst="wedgeEllipseCallout">
            <a:avLst>
              <a:gd name="adj1" fmla="val -43717"/>
              <a:gd name="adj2" fmla="val 6176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2963 C -0.02518 0.00695 -0.03611 -0.03171 -0.03021 -0.07037 C -0.02709 -0.08379 -0.02309 -0.09699 -0.01719 -0.10764 C -0.0132 -0.07708 0.000869999999999999 -0.04907 0.02187 -0.03171 C 0.02187 -0.06898 0.03785 -0.10509 0.06493 -0.12106 C 0.07396 -0.12777 0.08385 -0.13032 0.09392 -0.13171 C 0.07882 -0.10902 0.07083 -0.07708 0.07396 -0.04375 C 0.09583 -0.06759 0.12691 -0.07315 0.15382 -0.05578 C 0.16285 -0.05046 0.17187 -0.04097 0.17795 -0.03171 C 0.15486 -0.03426 0.1309 -0.02245 0.11389 0.00162 C 0.1408 0.00973 0.16389 0.03773 0.17083 0.07639 C 0.17291 0.08959 0.17291 0.10301 0.17083 0.11621 C 0.15781 0.09098 0.13594 0.07361 0.1118 0.07107 C 0.12396 0.1044 0.12083 0.1456 0.10295 0.17639 C 0.09583 0.18704 0.08785 0.1963 0.07882 0.20162 C 0.08594 0.17223 0.08194 0.13889 0.06892 0.11227 C 0.05694 0.1456 0.0309 0.16829 0.00087 0.16829 C -0.01007 0.16829 -0.02014 0.16574 -0.02917 0.16019 C -0.00712 0.14954 0.00989 0.12431 0.01788 0.09352 C -0.01007 0.10162 -0.03906 0.08959 -0.05816 0.05903 C -0.06511 0.04699 -0.0691 0.03496 -0.07205 0.02153 C -0.05209 0.03889 -0.02604 0.04167 -0.00313 0.02963 Z">
                                      <p:cBhvr>
                                        <p:cTn id="5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had heaps of fun watching the Storylines Produc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27024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857200">
            <a:off x="324000" y="3068280"/>
            <a:ext cx="2622240" cy="19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675600">
            <a:off x="5579640" y="2781360"/>
            <a:ext cx="319896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766960" cy="207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2000" y="5661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ha is being Catherine    McT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177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playing the Bubble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84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and Lisha holding their favourit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516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scared of Lisha!!!  RUN CHRIS RUN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0" idx="2"/>
            <a:endCxn id="146" idx="0"/>
          </p:cNvCxnSpPr>
          <p:nvPr/>
        </p:nvCxnSpPr>
        <p:spPr>
          <a:xfrm flipH="1">
            <a:off x="1546920" y="5011200"/>
            <a:ext cx="29772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39" idx="1"/>
            <a:endCxn id="145" idx="2"/>
          </p:cNvCxnSpPr>
          <p:nvPr/>
        </p:nvCxnSpPr>
        <p:spPr>
          <a:xfrm flipH="1" flipV="1">
            <a:off x="1655280" y="2760480"/>
            <a:ext cx="1116720" cy="383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>
            <a:stCxn id="142" idx="3"/>
            <a:endCxn id="143" idx="0"/>
          </p:cNvCxnSpPr>
          <p:nvPr/>
        </p:nvCxnSpPr>
        <p:spPr>
          <a:xfrm>
            <a:off x="5754600" y="5475240"/>
            <a:ext cx="1086480" cy="186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>
            <a:stCxn id="141" idx="0"/>
            <a:endCxn id="144" idx="2"/>
          </p:cNvCxnSpPr>
          <p:nvPr/>
        </p:nvCxnSpPr>
        <p:spPr>
          <a:xfrm flipV="1">
            <a:off x="7413480" y="2413800"/>
            <a:ext cx="705240" cy="389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4:03Z</dcterms:created>
  <dc:creator>Administrator</dc:creator>
  <dc:description/>
  <dc:language>en-US</dc:language>
  <cp:lastModifiedBy>Administrator</cp:lastModifiedBy>
  <dcterms:modified xsi:type="dcterms:W3CDTF">2008-09-25T22:42:06Z</dcterms:modified>
  <cp:revision>10</cp:revision>
  <dc:subject/>
  <dc:title>Slide 1</dc:title>
</cp:coreProperties>
</file>