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3B69-A6E8-4DAA-BC3B-C8BC266E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B8C7-E75A-4AE7-BD57-A113B6D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56DF-B5D4-476C-B29C-0ABF9608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10CE-B896-4556-9BAE-BCB9E955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CAF1-B227-419F-A80F-740CA1BB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655F-71B4-49A8-AA23-9B168A13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FE96-145A-4104-9A63-0E693976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0E45-6223-4353-988E-2BFD1065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5A3E-547A-47B7-A49B-052419A1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9EE1-79D7-41D9-86F2-045E743B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7D7E-E7A2-4292-B2C4-E820D45F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C179-1D6C-4766-B4A8-6F20D2D0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A0DB-52C6-4EFE-8F7F-112F0D49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109C-F41D-4AB7-ACFC-5BFE4CA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8D79-EED1-475D-AF1D-4096D9B7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6E1C-8A66-48A2-82C3-26E852E7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7E21-AED1-465D-82AF-5347765E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E76F-CD0A-46AB-AA83-0BE266B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675B-2752-428D-ACD3-2B3EF9F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3BBB-D209-49AC-81C9-E5770F5C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783E-895B-4C7A-9578-90BB4699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71E4-348F-45F9-B40B-19E26B1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4A17-20B1-4733-ADE2-55A92A43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AF7D-AFCE-4038-99A6-98BFA246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5186-1E61-4FF1-BD1A-86ADF6856D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9A79-A894-4020-A639-DD9D10ABF9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Room 2 (along with Emily Hill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413000"/>
            <a:ext cx="86040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0186a"/>
                  </a:solidFill>
                  <a:miter/>
                </a:ln>
                <a:gradFill rotWithShape="0">
                  <a:gsLst>
                    <a:gs pos="0">
                      <a:srgbClr val="f0186a"/>
                    </a:gs>
                    <a:gs pos="50000">
                      <a:srgbClr val="35b0e7"/>
                    </a:gs>
                    <a:gs pos="100000">
                      <a:srgbClr val="f0186a"/>
                    </a:gs>
                  </a:gsLst>
                  <a:lin ang="5400000"/>
                </a:gradFill>
                <a:latin typeface="Curlz MT"/>
              </a:rPr>
              <a:t>Blow your taste buds with Room 2</a:t>
            </a:r>
            <a:endParaRPr b="0" lang="en-US" sz="6600" spc="1" strike="noStrike">
              <a:ln w="9360">
                <a:solidFill>
                  <a:srgbClr val="f0186a"/>
                </a:solidFill>
                <a:miter/>
              </a:ln>
              <a:gradFill rotWithShape="0">
                <a:gsLst>
                  <a:gs pos="0">
                    <a:srgbClr val="f0186a"/>
                  </a:gs>
                  <a:gs pos="50000">
                    <a:srgbClr val="35b0e7"/>
                  </a:gs>
                  <a:gs pos="100000">
                    <a:srgbClr val="f0186a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70800">
            <a:off x="468360" y="4292640"/>
            <a:ext cx="3348000" cy="188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880200">
            <a:off x="6300720" y="3860280"/>
            <a:ext cx="18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where on a rollercoaster ride to get their costumes finished in time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1350000">
            <a:off x="5795640" y="4220640"/>
            <a:ext cx="2982960" cy="22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20665200">
            <a:off x="684000" y="414936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71640" y="2060640"/>
            <a:ext cx="3270240" cy="2452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213372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lu, Jessie and Jess making the liquorice allso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atie is a lolly pop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2205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m yum a Wonka Bar. Too bad you can’t eat it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1844640"/>
            <a:ext cx="1439640" cy="863640"/>
          </a:xfrm>
          <a:prstGeom prst="wedgeEllipseCallout">
            <a:avLst>
              <a:gd name="adj1" fmla="val -43717"/>
              <a:gd name="adj2" fmla="val 6176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2963 C -0.02518 0.00695 -0.03611 -0.03171 -0.03021 -0.07037 C -0.02709 -0.08379 -0.02309 -0.09699 -0.01719 -0.10764 C -0.0132 -0.07708 0.000869999999999999 -0.04907 0.02187 -0.03171 C 0.02187 -0.06898 0.03785 -0.10509 0.06493 -0.12106 C 0.07396 -0.12777 0.08385 -0.13032 0.09392 -0.13171 C 0.07882 -0.10902 0.07083 -0.07708 0.07396 -0.04375 C 0.09583 -0.06759 0.12691 -0.07315 0.15382 -0.05578 C 0.16285 -0.05046 0.17187 -0.04097 0.17795 -0.03171 C 0.15486 -0.03426 0.1309 -0.02245 0.11389 0.00162 C 0.1408 0.00973 0.16389 0.03773 0.17083 0.07639 C 0.17291 0.08959 0.17291 0.10301 0.17083 0.11621 C 0.15781 0.09098 0.13594 0.07361 0.1118 0.07107 C 0.12396 0.1044 0.12083 0.1456 0.10295 0.17639 C 0.09583 0.18704 0.08785 0.1963 0.07882 0.20162 C 0.08594 0.17223 0.08194 0.13889 0.06892 0.11227 C 0.05694 0.1456 0.0309 0.16829 0.00087 0.16829 C -0.01007 0.16829 -0.02014 0.16574 -0.02917 0.16019 C -0.00712 0.14954 0.00989 0.12431 0.01788 0.09352 C -0.01007 0.10162 -0.03906 0.08959 -0.05816 0.05903 C -0.06511 0.04699 -0.0691 0.03496 -0.07205 0.02153 C -0.05209 0.03889 -0.02604 0.04167 -0.00313 0.02963 Z">
                                      <p:cBhvr>
                                        <p:cTn id="5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had heaps of fun watching the Storylines Productio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270240" cy="24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857200">
            <a:off x="324000" y="3068280"/>
            <a:ext cx="2622240" cy="19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675600">
            <a:off x="5579640" y="2781360"/>
            <a:ext cx="319896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766960" cy="207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12000" y="5661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sha is being Catherine    McT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17733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playing the Bubble 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844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and Lisha holding their favourite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516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scared of Lisha!!!  RUN CHRIS RUN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0" idx="2"/>
            <a:endCxn id="146" idx="0"/>
          </p:cNvCxnSpPr>
          <p:nvPr/>
        </p:nvCxnSpPr>
        <p:spPr>
          <a:xfrm flipH="1">
            <a:off x="1546920" y="5011200"/>
            <a:ext cx="29772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8" name=""/>
          <p:cNvCxnSpPr>
            <a:stCxn id="139" idx="1"/>
            <a:endCxn id="145" idx="2"/>
          </p:cNvCxnSpPr>
          <p:nvPr/>
        </p:nvCxnSpPr>
        <p:spPr>
          <a:xfrm flipH="1" flipV="1">
            <a:off x="1655280" y="2760480"/>
            <a:ext cx="1116720" cy="383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9" name=""/>
          <p:cNvCxnSpPr>
            <a:stCxn id="142" idx="3"/>
            <a:endCxn id="143" idx="0"/>
          </p:cNvCxnSpPr>
          <p:nvPr/>
        </p:nvCxnSpPr>
        <p:spPr>
          <a:xfrm>
            <a:off x="5754600" y="5475240"/>
            <a:ext cx="1086480" cy="186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0" name=""/>
          <p:cNvCxnSpPr>
            <a:stCxn id="141" idx="0"/>
            <a:endCxn id="144" idx="2"/>
          </p:cNvCxnSpPr>
          <p:nvPr/>
        </p:nvCxnSpPr>
        <p:spPr>
          <a:xfrm flipV="1">
            <a:off x="7413480" y="2413800"/>
            <a:ext cx="705240" cy="389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4:03Z</dcterms:created>
  <dc:creator>Administrator</dc:creator>
  <dc:description/>
  <dc:language>en-US</dc:language>
  <cp:lastModifiedBy>Administrator</cp:lastModifiedBy>
  <dcterms:modified xsi:type="dcterms:W3CDTF">2008-09-25T22:42:06Z</dcterms:modified>
  <cp:revision>10</cp:revision>
  <dc:subject/>
  <dc:title>Slide 1</dc:title>
</cp:coreProperties>
</file>