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rrow.wav" ContentType="audio/x-wav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880-1BE6-4B69-8653-A75CCD9E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667-A8F0-47EE-98F1-A4E2B3E1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3FE-FFD2-4F99-AE9C-34382266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D95-EDC4-4495-9958-6325D82F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34A-B17A-4A9A-96E1-0DA134DD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661-4240-4D6F-8A85-13E5048E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93C-6DDB-4CB1-9C02-4B39BF95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928-42A3-45AB-841E-6E0D5BB7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DF0-F5FD-4137-BFBE-CE00B9E6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D502-4AE7-4FF9-AF7A-BAA8DA8E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BEC-CA62-40DE-B9BA-243B3E87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DB1-FA08-4EA9-897F-D73BF132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A89E-27D1-4715-AAF8-532742C7B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129440" cy="540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 rot="1882200">
            <a:off x="183960" y="2421000"/>
            <a:ext cx="8959680" cy="17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rrington"/>
              </a:rPr>
              <a:t>Room 4's New Desk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 advTm="16000">
    <p:randomBar dir="vert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19280" y="333360"/>
            <a:ext cx="568800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reaking New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844640"/>
            <a:ext cx="5329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oom 4 has been spotted with glamorous new desks and other classes have been very en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y were drooling with jealousy as the brand new desks glimmered in the sun , while Room 4 students piled them into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680200">
            <a:off x="6443280" y="2997360"/>
            <a:ext cx="1800360" cy="1450800"/>
          </a:xfrm>
          <a:prstGeom prst="rect">
            <a:avLst/>
          </a:prstGeom>
          <a:ln w="0">
            <a:noFill/>
          </a:ln>
        </p:spPr>
      </p:pic>
    </p:spTree>
  </p:cSld>
  <p:transition advTm="22000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042920" y="3213000"/>
            <a:ext cx="7020000" cy="7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l about Room 4's Excitement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4797360"/>
            <a:ext cx="863640" cy="647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404640"/>
            <a:ext cx="1224000" cy="115272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1628640"/>
            <a:ext cx="865080" cy="6480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549360"/>
            <a:ext cx="719280" cy="5760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720" y="4797360"/>
            <a:ext cx="936720" cy="7938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877000"/>
            <a:ext cx="718920" cy="57636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6720" y="5950080"/>
            <a:ext cx="863280" cy="64764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365040"/>
            <a:ext cx="4321440" cy="66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ia says that she loves the new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ks they’re clean new and comfor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omas likes that he has his own personal space and that the girls aren’t taking up all the leg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ma loves that she can be more organised now that they have de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wyn is pleased that there are no more tote tr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wheel spokes="1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7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3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1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9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7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5218920" y="314172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a Chan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1117000">
            <a:off x="3995640" y="3645000"/>
            <a:ext cx="3382920" cy="260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3473640" cy="295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798000">
            <a:off x="971280" y="3573360"/>
            <a:ext cx="3274920" cy="2714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627280" y="333360"/>
            <a:ext cx="46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edi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1773360"/>
            <a:ext cx="5400720" cy="62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lideshow: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 By news team members Victoria and 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nterviewees: 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Maia, Emma, Arwyn and Thom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(Room 4 stude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Photos: 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taken by Victoria and Ell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comb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1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2:13:25Z</dcterms:created>
  <dc:creator>Administrator</dc:creator>
  <dc:description/>
  <dc:language>en-US</dc:language>
  <cp:lastModifiedBy>Administrator</cp:lastModifiedBy>
  <dcterms:modified xsi:type="dcterms:W3CDTF">2008-09-25T22:54:14Z</dcterms:modified>
  <cp:revision>45</cp:revision>
  <dc:subject/>
  <dc:title>Slide 1</dc:title>
</cp:coreProperties>
</file>