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A2A4-912D-4C83-BED2-9F648808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623F-8D6C-4D9C-B11C-C500726A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106D-3029-4FF5-9FE9-F16F42A7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EA7F-8FF2-4CA8-BACF-4A049D3A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C343-AE3A-4C7D-8217-949247CC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F71E-684A-4427-88AD-6319AC8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B0E3-47AD-4CF1-B820-2071478C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D3EA-1A4C-4EE6-B057-1F0B983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A961-8254-42C3-BAC1-E942601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D90-6155-482F-8C12-CB78E7E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C342-E8EF-4EDD-A8AA-4460A7B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04DE-0671-47BE-BF6A-54863EA9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3CC8-BC53-432C-A7B8-55D75FE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2DCB-0B33-44FD-9847-C270045E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C7E0-C9EB-4AB5-8719-605B614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4C84-C5ED-4417-987D-548C5961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787-BD20-432E-BFA6-6C3A856B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0CCD-7ED7-4147-BE4E-C503768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8D59-C339-4244-BADC-E163F54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0791-FE05-4CC0-BE5F-FD90F12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418E-B241-4C4F-93A3-DCC142E9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4C6E-EC1D-454A-9B6E-48F3DE1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BCAD-1F2C-4DD6-96F0-E2C82974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525D-CE6A-4F41-8569-32BCCF7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E57-F155-4B8B-A8DB-363DF521E2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895-CFAB-4FD7-9446-BE5B592024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oom 2 (along with Emily Hilli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413000"/>
            <a:ext cx="86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0186a"/>
                  </a:solidFill>
                  <a:miter/>
                </a:ln>
                <a:gradFill rotWithShape="0">
                  <a:gsLst>
                    <a:gs pos="0">
                      <a:srgbClr val="f0186a"/>
                    </a:gs>
                    <a:gs pos="50000">
                      <a:srgbClr val="35b0e7"/>
                    </a:gs>
                    <a:gs pos="100000">
                      <a:srgbClr val="f0186a"/>
                    </a:gs>
                  </a:gsLst>
                  <a:lin ang="5400000"/>
                </a:gradFill>
                <a:latin typeface="Curlz MT"/>
              </a:rPr>
              <a:t>Blow your taste buds with Room 2</a:t>
            </a:r>
            <a:endParaRPr b="0" lang="en-US" sz="6600" spc="1" strike="noStrike">
              <a:ln w="9360">
                <a:solidFill>
                  <a:srgbClr val="f0186a"/>
                </a:solidFill>
                <a:miter/>
              </a:ln>
              <a:gradFill rotWithShape="0">
                <a:gsLst>
                  <a:gs pos="0">
                    <a:srgbClr val="f0186a"/>
                  </a:gs>
                  <a:gs pos="50000">
                    <a:srgbClr val="35b0e7"/>
                  </a:gs>
                  <a:gs pos="100000">
                    <a:srgbClr val="f0186a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70800">
            <a:off x="468360" y="4292640"/>
            <a:ext cx="3348000" cy="18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880200">
            <a:off x="6300720" y="3860280"/>
            <a:ext cx="18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where on a rollercoaster ride to get their costumes finished in time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350000">
            <a:off x="5795640" y="422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665200">
            <a:off x="684000" y="414936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3270240" cy="245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213372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lu, Jessie and Jess making the liquorice allso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tie is a lolly pop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2205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m yum a Wonka Bar. Too bad you can’t eat it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44640"/>
            <a:ext cx="1439640" cy="863640"/>
          </a:xfrm>
          <a:prstGeom prst="wedgeEllipseCallout">
            <a:avLst>
              <a:gd name="adj1" fmla="val -43717"/>
              <a:gd name="adj2" fmla="val 6176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2963 C -0.02518 0.00695 -0.03611 -0.03171 -0.03021 -0.07037 C -0.02709 -0.08379 -0.02309 -0.09699 -0.01719 -0.10764 C -0.0132 -0.07708 0.000869999999999999 -0.04907 0.02187 -0.03171 C 0.02187 -0.06898 0.03785 -0.10509 0.06493 -0.12106 C 0.07396 -0.12777 0.08385 -0.13032 0.09392 -0.13171 C 0.07882 -0.10902 0.07083 -0.07708 0.07396 -0.04375 C 0.09583 -0.06759 0.12691 -0.07315 0.15382 -0.05578 C 0.16285 -0.05046 0.17187 -0.04097 0.17795 -0.03171 C 0.15486 -0.03426 0.1309 -0.02245 0.11389 0.00162 C 0.1408 0.00973 0.16389 0.03773 0.17083 0.07639 C 0.17291 0.08959 0.17291 0.10301 0.17083 0.11621 C 0.15781 0.09098 0.13594 0.07361 0.1118 0.07107 C 0.12396 0.1044 0.12083 0.1456 0.10295 0.17639 C 0.09583 0.18704 0.08785 0.1963 0.07882 0.20162 C 0.08594 0.17223 0.08194 0.13889 0.06892 0.11227 C 0.05694 0.1456 0.0309 0.16829 0.00087 0.16829 C -0.01007 0.16829 -0.02014 0.16574 -0.02917 0.16019 C -0.00712 0.14954 0.00989 0.12431 0.01788 0.09352 C -0.01007 0.10162 -0.03906 0.08959 -0.05816 0.05903 C -0.06511 0.04699 -0.0691 0.03496 -0.07205 0.02153 C -0.05209 0.03889 -0.02604 0.04167 -0.00313 0.02963 Z">
                                      <p:cBhvr>
                                        <p:cTn id="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Room 2 had heaps of fun watching the Storylines Produc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27024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857200">
            <a:off x="324000" y="3068280"/>
            <a:ext cx="2622240" cy="19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675600">
            <a:off x="5579640" y="2781360"/>
            <a:ext cx="3198960" cy="239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766960" cy="207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2000" y="5661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ha is being Catherine    Mc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17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playing the Bubble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844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and Lisha holding their favourit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516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is is scared of Lisha!!!  RUN CHRIS RUN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2"/>
            <a:endCxn id="146" idx="0"/>
          </p:cNvCxnSpPr>
          <p:nvPr/>
        </p:nvCxnSpPr>
        <p:spPr>
          <a:xfrm flipH="1">
            <a:off x="1546920" y="5011200"/>
            <a:ext cx="29772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39" idx="1"/>
            <a:endCxn id="145" idx="2"/>
          </p:cNvCxnSpPr>
          <p:nvPr/>
        </p:nvCxnSpPr>
        <p:spPr>
          <a:xfrm flipH="1" flipV="1">
            <a:off x="1655280" y="2760480"/>
            <a:ext cx="1116720" cy="383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2" idx="3"/>
            <a:endCxn id="143" idx="0"/>
          </p:cNvCxnSpPr>
          <p:nvPr/>
        </p:nvCxnSpPr>
        <p:spPr>
          <a:xfrm>
            <a:off x="5754600" y="5475240"/>
            <a:ext cx="1086480" cy="186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>
            <a:stCxn id="141" idx="0"/>
            <a:endCxn id="144" idx="2"/>
          </p:cNvCxnSpPr>
          <p:nvPr/>
        </p:nvCxnSpPr>
        <p:spPr>
          <a:xfrm flipV="1">
            <a:off x="7413480" y="2413800"/>
            <a:ext cx="705240" cy="389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4:03Z</dcterms:created>
  <dc:creator>Administrator</dc:creator>
  <dc:description/>
  <dc:language>en-US</dc:language>
  <cp:lastModifiedBy>Administrator</cp:lastModifiedBy>
  <dcterms:modified xsi:type="dcterms:W3CDTF">2008-09-25T22:42:06Z</dcterms:modified>
  <cp:revision>10</cp:revision>
  <dc:subject/>
  <dc:title>Slide 1</dc:title>
</cp:coreProperties>
</file>