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1129-6254-4C8C-8B53-D42C36D53C8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150-75F2-4002-81F8-73032D79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14A-3A29-43B4-BB5E-CEEA54EA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21AE-C6E9-406C-A7C5-8EA5CCC2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05A-BB70-4F2B-8B92-6B5D7C9F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E36-6169-4EEA-9577-C6B10CC8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C08-C5C6-4180-974A-C043BBC1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4388-7690-463C-AD7F-69FAD53E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28E-EA5A-44C0-813B-9BF184EE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F42-222A-4DB6-BA15-F06CDA62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0DA-99DD-463E-9963-66B2AF11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220-D758-46B8-9677-A688451D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72C-C468-43D5-B8AF-41FAB4AD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D41C-3F1A-4F2F-9220-0088A0601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835280" y="620640"/>
            <a:ext cx="5616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71403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Arial Black"/>
              </a:rPr>
              <a:t>Life Edu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71403"/>
                  </a:gs>
                  <a:gs pos="100000">
                    <a:srgbClr val="00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3025800" cy="2269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24360" y="3429000"/>
            <a:ext cx="29466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132000" y="4365720"/>
            <a:ext cx="2873520" cy="21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47628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76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of the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700280"/>
            <a:ext cx="316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enjoy it and so do the kids, I like going back to class and seeing them so relax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6519" t="30252" r="20537" b="34663"/>
          <a:stretch/>
        </p:blipFill>
        <p:spPr>
          <a:xfrm>
            <a:off x="3728880" y="1700280"/>
            <a:ext cx="407988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209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: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: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redits were brought to you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al thank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 Benson, Miss Tuck, Celia and Mrs Scogg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476280"/>
            <a:ext cx="6913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71403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We asked Celia a few question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71403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73204" t="6361" r="0" b="0"/>
          <a:stretch/>
        </p:blipFill>
        <p:spPr>
          <a:xfrm rot="1403400">
            <a:off x="1476000" y="2637000"/>
            <a:ext cx="1501920" cy="3933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73204" t="6361" r="0" b="0"/>
          <a:stretch/>
        </p:blipFill>
        <p:spPr>
          <a:xfrm>
            <a:off x="3708360" y="2565360"/>
            <a:ext cx="1501920" cy="3933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rcRect l="73204" t="6361" r="0" b="0"/>
          <a:stretch/>
        </p:blipFill>
        <p:spPr>
          <a:xfrm rot="19966200">
            <a:off x="5940360" y="2637000"/>
            <a:ext cx="1501920" cy="3933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40464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did the Life Ed van start coming to Mellons B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989000"/>
            <a:ext cx="30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ia said to us that the Life Ed van started coming to Mellons Bay 6 years ago since she has been the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19640" y="1916280"/>
            <a:ext cx="5435280" cy="4076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47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you think the program has gone well over the y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348000" y="1989000"/>
            <a:ext cx="5508720" cy="413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1844640"/>
            <a:ext cx="287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has changed a lot, it meets school needs and that we use current and relevan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2133720"/>
            <a:ext cx="8497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71403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Arial Black"/>
              </a:rPr>
              <a:t>We asked Mr Benson a few Question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71403"/>
                  </a:gs>
                  <a:gs pos="100000">
                    <a:srgbClr val="00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4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404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your kids learning in life ed v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2205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y food and what choices we can make in life so that we can be healt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53430" t="5475" r="20537" b="23309"/>
          <a:stretch/>
        </p:blipFill>
        <p:spPr>
          <a:xfrm>
            <a:off x="4572000" y="1341360"/>
            <a:ext cx="2421000" cy="4969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00000" y="40464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of the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484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1403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284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5013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1403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4000" y="249228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71403"/>
                    </a:gs>
                    <a:gs pos="50000">
                      <a:srgbClr val="00ff00"/>
                    </a:gs>
                    <a:gs pos="100000">
                      <a:srgbClr val="f71403"/>
                    </a:gs>
                  </a:gsLst>
                  <a:lin ang="5400000"/>
                </a:gradFill>
                <a:latin typeface="Arial Black"/>
              </a:rPr>
              <a:t>We asked Mrs Scoggins a few question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71403"/>
                  </a:gs>
                  <a:gs pos="50000">
                    <a:srgbClr val="00ff00"/>
                  </a:gs>
                  <a:gs pos="100000">
                    <a:srgbClr val="f71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4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47628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60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your kids learning in life ed v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773360"/>
            <a:ext cx="309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does food come from, what nutritional value do we receive from specific food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53430" t="5475" r="20537" b="23309"/>
          <a:stretch/>
        </p:blipFill>
        <p:spPr>
          <a:xfrm>
            <a:off x="4572000" y="1341360"/>
            <a:ext cx="2421000" cy="4969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1:38:15Z</dcterms:created>
  <dc:creator>Administrator</dc:creator>
  <dc:description/>
  <dc:language>en-US</dc:language>
  <cp:lastModifiedBy>Administrator</cp:lastModifiedBy>
  <dcterms:modified xsi:type="dcterms:W3CDTF">2008-11-06T01:00:43Z</dcterms:modified>
  <cp:revision>11</cp:revision>
  <dc:subject/>
  <dc:title>Slide 1</dc:title>
</cp:coreProperties>
</file>