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78D-6423-485F-AD6E-4EDDEA0FF1B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15A-F953-4131-BB5F-3A73EE1F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C7A-A83D-474D-8AF9-8B280DCA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105-3918-446E-9A99-95602132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00D-DFB9-4E1D-91A5-BEACD802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990-F111-48A5-9C38-4CEFF815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315-2946-49EB-A11F-547FFC2F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AAF-59DD-46CD-8330-816330D3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691-5866-44D0-8089-57250950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14E-29AD-4664-B8C7-7A2BF963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D1E-B441-4ECC-81E1-37F2DFA4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8C4-A2FD-498A-9C79-C3AA2C8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FAB-24A1-4717-A729-36A8EAD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C46-2389-44D1-AAEA-A3C5B2597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620640"/>
            <a:ext cx="561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Life Edu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25800" cy="226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76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76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316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it and so do the kids, I like going back to class and seeing them so rela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6519" t="30252" r="20537" b="34663"/>
          <a:stretch/>
        </p:blipFill>
        <p:spPr>
          <a:xfrm>
            <a:off x="3728880" y="1700280"/>
            <a:ext cx="4079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0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redits were brought to you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thank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 Benson, Miss Tuck, Celia and Mrs Scog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476280"/>
            <a:ext cx="69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71403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We asked Celia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71403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3204" t="6361" r="0" b="0"/>
          <a:stretch/>
        </p:blipFill>
        <p:spPr>
          <a:xfrm rot="1403400">
            <a:off x="1476000" y="263700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3204" t="6361" r="0" b="0"/>
          <a:stretch/>
        </p:blipFill>
        <p:spPr>
          <a:xfrm>
            <a:off x="3708360" y="256536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73204" t="6361" r="0" b="0"/>
          <a:stretch/>
        </p:blipFill>
        <p:spPr>
          <a:xfrm rot="19966200">
            <a:off x="5940360" y="2637000"/>
            <a:ext cx="1501920" cy="393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did the Life Ed van start coming to Mellons B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98900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ia said to us that the Life Ed van started coming to Mellons Bay 6 years ago since she has been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5435280" cy="407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think the program has gone well over the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844640"/>
            <a:ext cx="28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has changed a lot, it meets school needs and that we use current and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133720"/>
            <a:ext cx="8497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We asked Mr Benson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and what choices we can make in life so that we can be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04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484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28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01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249228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1403"/>
                    </a:gs>
                    <a:gs pos="50000">
                      <a:srgbClr val="00ff00"/>
                    </a:gs>
                    <a:gs pos="100000">
                      <a:srgbClr val="f71403"/>
                    </a:gs>
                  </a:gsLst>
                  <a:lin ang="5400000"/>
                </a:gradFill>
                <a:latin typeface="Arial Black"/>
              </a:rPr>
              <a:t>We asked Mrs Scoggins a few question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1403"/>
                  </a:gs>
                  <a:gs pos="50000">
                    <a:srgbClr val="00ff00"/>
                  </a:gs>
                  <a:gs pos="100000">
                    <a:srgbClr val="f71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6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73360"/>
            <a:ext cx="309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es food come from, what nutritional value do we receive from specific foo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38:15Z</dcterms:created>
  <dc:creator>Administrator</dc:creator>
  <dc:description/>
  <dc:language>en-US</dc:language>
  <cp:lastModifiedBy>Administrator</cp:lastModifiedBy>
  <dcterms:modified xsi:type="dcterms:W3CDTF">2008-11-06T01:00:43Z</dcterms:modified>
  <cp:revision>11</cp:revision>
  <dc:subject/>
  <dc:title>Slide 1</dc:title>
</cp:coreProperties>
</file>