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9D4C-624B-4C28-B56A-63F4158F11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218-8331-4F2B-9B5F-4672809D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098-C786-413F-93C1-1FA21A3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060-4061-4E15-8CF9-E925FC3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AC1-70D6-4353-8D55-460DD055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FF4-DBFF-4EF6-AF97-0F5B4B83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E53-3AC9-45C9-8DE4-C6FD3B88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326-69F0-4E2D-834B-877B689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7F1-7905-47AC-A0BB-3861820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859-EE48-4493-BEAF-F811674B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CF7-C197-4442-962F-6DB71CD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288-0715-4F6A-A24B-3502A3B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CFA-A6CB-4924-9F64-FC11236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C6B-C403-42AE-A8F0-D337AB00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35280" y="620640"/>
            <a:ext cx="561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Lif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302580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873520" cy="21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76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76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00280"/>
            <a:ext cx="316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it and so do the kids, I like going back to class and seeing them so rela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6519" t="30252" r="20537" b="34663"/>
          <a:stretch/>
        </p:blipFill>
        <p:spPr>
          <a:xfrm>
            <a:off x="3728880" y="1700280"/>
            <a:ext cx="4079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209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redits were brought to you by Cameron and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 thank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Benson, Miss Tuck, Celia and Mrs Scogg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476280"/>
            <a:ext cx="6913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71403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We asked Celia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71403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73204" t="6361" r="0" b="0"/>
          <a:stretch/>
        </p:blipFill>
        <p:spPr>
          <a:xfrm rot="1403400">
            <a:off x="1476000" y="263700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3204" t="6361" r="0" b="0"/>
          <a:stretch/>
        </p:blipFill>
        <p:spPr>
          <a:xfrm>
            <a:off x="3708360" y="2565360"/>
            <a:ext cx="150192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73204" t="6361" r="0" b="0"/>
          <a:stretch/>
        </p:blipFill>
        <p:spPr>
          <a:xfrm rot="19966200">
            <a:off x="5940360" y="2637000"/>
            <a:ext cx="1501920" cy="393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0464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did the Life Ed van start coming to Mellons B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98900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ia said to us that the Life Ed van started coming to Mellons Bay 6 years ago since she has been the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1916280"/>
            <a:ext cx="5435280" cy="407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think the program has gone well over the y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44640"/>
            <a:ext cx="28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has changed a lot, it meets school needs and that we use current and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2133720"/>
            <a:ext cx="8497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71403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We asked Mr Benson a few Question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71403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205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and what choices we can make in life so that we can be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404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of the prog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484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2846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01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1403"/>
                </a:solidFill>
                <a:latin typeface="Arial"/>
              </a:rPr>
              <a:t>FANTASTIC AND EXCIT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4000" y="249228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71403"/>
                    </a:gs>
                    <a:gs pos="50000">
                      <a:srgbClr val="00ff00"/>
                    </a:gs>
                    <a:gs pos="100000">
                      <a:srgbClr val="f71403"/>
                    </a:gs>
                  </a:gsLst>
                  <a:lin ang="5400000"/>
                </a:gradFill>
                <a:latin typeface="Arial Black"/>
              </a:rPr>
              <a:t>We asked Mrs Scoggins a few question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71403"/>
                  </a:gs>
                  <a:gs pos="50000">
                    <a:srgbClr val="00ff00"/>
                  </a:gs>
                  <a:gs pos="100000">
                    <a:srgbClr val="f714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4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4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6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r kids learning in life ed v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73360"/>
            <a:ext cx="309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es food come from, what nutritional value do we receive from specific foo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53430" t="5475" r="20537" b="23309"/>
          <a:stretch/>
        </p:blipFill>
        <p:spPr>
          <a:xfrm>
            <a:off x="4572000" y="1341360"/>
            <a:ext cx="242100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38:15Z</dcterms:created>
  <dc:creator>Administrator</dc:creator>
  <dc:description/>
  <dc:language>en-US</dc:language>
  <cp:lastModifiedBy>Administrator</cp:lastModifiedBy>
  <dcterms:modified xsi:type="dcterms:W3CDTF">2008-11-06T01:00:43Z</dcterms:modified>
  <cp:revision>11</cp:revision>
  <dc:subject/>
  <dc:title>Slide 1</dc:title>
</cp:coreProperties>
</file>