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995-3CAB-4423-8433-AF1924B92B5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687-1ED7-4180-A85A-2A1F0AFE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0F7-9C7B-4D9F-BE3E-F1D5F3A5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2D5-4EC2-4D07-B4F5-613BE9C5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934-A40A-4D48-8D12-0EFBB21D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76C-20B0-4573-978B-F263C2F2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454-90E0-486F-ACC6-271CC36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300-245D-412C-8448-9489C59F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354-E665-4029-8412-FDA45591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56A-DE8B-4438-91B1-E660764A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F9E-08D0-4FF6-899E-4957CCE8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F5F-651B-4105-9BD6-EEC38DD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CB7-51CF-42F0-B2FA-9AA2EE6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2B0C-6DC7-4DDB-9F86-FC8A0D90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620640"/>
            <a:ext cx="56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Lif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76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316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it and so do the kids, I like going back to class and seeing them so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6519" t="30252" r="20537" b="34663"/>
          <a:stretch/>
        </p:blipFill>
        <p:spPr>
          <a:xfrm>
            <a:off x="3728880" y="1700280"/>
            <a:ext cx="4079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redits were brought to you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Benson, Miss Tuck, Celia and Mrs Scog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476280"/>
            <a:ext cx="69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71403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We asked Celia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71403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3204" t="6361" r="0" b="0"/>
          <a:stretch/>
        </p:blipFill>
        <p:spPr>
          <a:xfrm rot="1403400">
            <a:off x="1476000" y="263700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3204" t="6361" r="0" b="0"/>
          <a:stretch/>
        </p:blipFill>
        <p:spPr>
          <a:xfrm>
            <a:off x="3708360" y="256536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73204" t="6361" r="0" b="0"/>
          <a:stretch/>
        </p:blipFill>
        <p:spPr>
          <a:xfrm rot="19966200">
            <a:off x="5940360" y="2637000"/>
            <a:ext cx="150192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did the Life Ed van start coming to Mellons B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98900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ia said to us that the Life Ed van started coming to Mellons Bay 6 years ago since she has been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3528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think the program has gone well over the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44640"/>
            <a:ext cx="28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changed a lot, it meets school needs and that we use current and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13372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We asked Mr Benson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and what choices we can make in life so that we can be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04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484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01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49228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1403"/>
                    </a:gs>
                    <a:gs pos="50000">
                      <a:srgbClr val="00ff00"/>
                    </a:gs>
                    <a:gs pos="100000">
                      <a:srgbClr val="f71403"/>
                    </a:gs>
                  </a:gsLst>
                  <a:lin ang="5400000"/>
                </a:gradFill>
                <a:latin typeface="Arial Black"/>
              </a:rPr>
              <a:t>We asked Mrs Scoggins a few question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1403"/>
                  </a:gs>
                  <a:gs pos="50000">
                    <a:srgbClr val="00ff00"/>
                  </a:gs>
                  <a:gs pos="100000">
                    <a:srgbClr val="f71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73360"/>
            <a:ext cx="309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es food come from, what nutritional value do we receive from specific foo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38:15Z</dcterms:created>
  <dc:creator>Administrator</dc:creator>
  <dc:description/>
  <dc:language>en-US</dc:language>
  <cp:lastModifiedBy>Administrator</cp:lastModifiedBy>
  <dcterms:modified xsi:type="dcterms:W3CDTF">2008-11-06T01:00:43Z</dcterms:modified>
  <cp:revision>11</cp:revision>
  <dc:subject/>
  <dc:title>Slide 1</dc:title>
</cp:coreProperties>
</file>