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B76-226D-473B-9CC0-19BD3D65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13A-AAD4-4FA9-B736-77FCB8B9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612-812B-4A1E-BE0B-6A172584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686-E050-4E7E-A994-3DBCC57B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7AC-96BE-4354-A2D4-62D880B5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EF0-0019-4B42-AF76-BE7242A9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0CD-F511-4C78-8693-071A6812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0B9-CB19-4B0E-B0FE-7A156A4A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09B-914B-48D0-9E25-095B40ED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221-1940-4A98-8870-E55ECA7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C12-571F-40A9-880A-440DDADE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E2E-570D-431F-B226-07DF202B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E5E1-3661-4C94-9F3B-750D3852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133720"/>
            <a:ext cx="6481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Huff ‘N’ Puffath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00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rot="20458200">
            <a:off x="1332000" y="27079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7082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n Wednesday 21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f May, Mellons Bay had their first 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ff ‘N’ Puffatho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raise money for the new senior adventure play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children ran a maximum of 10 laps and were sponsored a certain amount of money for each lap they comple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fter the race we all s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down on a ma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ooled d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It was real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re were spot prizes and wh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children completed 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ir laps they recei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ANZ drink bottl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3003480" cy="400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4292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940360" y="4390920"/>
            <a:ext cx="3203640" cy="24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3671640" cy="278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2924280"/>
            <a:ext cx="2124000" cy="16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940360" y="4076640"/>
            <a:ext cx="285840" cy="21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0" y="4653000"/>
            <a:ext cx="211932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195640" y="2924280"/>
            <a:ext cx="952200" cy="1081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ank you for watch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Special thanks t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iss Tuck    Photograp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Parents    ANZ (bottl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rs Brown    Mr Har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Everyone who participat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News team reporter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ax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Dari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53:05Z</dcterms:created>
  <dc:creator>Administrator</dc:creator>
  <dc:description/>
  <dc:language>en-US</dc:language>
  <cp:lastModifiedBy>Administrator</cp:lastModifiedBy>
  <dcterms:modified xsi:type="dcterms:W3CDTF">2008-11-06T01:02:37Z</dcterms:modified>
  <cp:revision>13</cp:revision>
  <dc:subject/>
  <dc:title>Slide 1</dc:title>
</cp:coreProperties>
</file>