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AC1-316C-4C8C-877D-B19095B9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6D8-336B-42FC-A102-8A5A688F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256-E50E-4502-92CC-9F7FE7C4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622-B06A-4D4C-AA7E-F850293A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D09-6D55-45EE-A27F-231FEA07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3AE-B298-4E8B-92BF-BF83E9EA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F4E-E710-4295-B0EE-02FF436B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842-8A23-413B-AE8E-6E2C5FCC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AFF-9C07-483A-A3B1-F110AF1F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C7B-F3EB-422F-B372-92FFE1F3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6BD2-10AB-4EBF-B5E0-2CF76835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5E8-3B82-4A59-9815-3BC81799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265F-70B0-47B0-9339-C14C68E29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2133720"/>
            <a:ext cx="64818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ff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 Black"/>
              </a:rPr>
              <a:t>Huff ‘N’ Puffath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ff00"/>
                  </a:gs>
                  <a:gs pos="100000">
                    <a:srgbClr val="0000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 rot="20458200">
            <a:off x="1332000" y="270792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270828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n Wednesday 21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of May, Mellons Bay had their first e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uff ‘N’ Puffathon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raise money for the new senior adventure playgr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children ran a maximum of 10 laps and were sponsored a certain amount of money for each lap they complet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fter the race we all s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down on a mat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ooled dow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It was real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f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re were spot prizes and wh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children completed 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ir laps they receiv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 ANZ drink bottl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2000" cy="28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03640" y="0"/>
            <a:ext cx="3003480" cy="4005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2843280" cy="4292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940360" y="4390920"/>
            <a:ext cx="3203640" cy="2467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195640" y="4076640"/>
            <a:ext cx="3671640" cy="278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0" y="2924280"/>
            <a:ext cx="2124000" cy="165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5940360" y="4076640"/>
            <a:ext cx="285840" cy="21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0" y="4653000"/>
            <a:ext cx="2119320" cy="2205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2195640" y="2924280"/>
            <a:ext cx="952200" cy="108108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Thank you for watching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Special thanks t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Miss Tuck    Photograph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Parents    ANZ (bottle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Mrs Brown    Mr Har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Everyone who participate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News team reporter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Max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Dari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1:53:05Z</dcterms:created>
  <dc:creator>Administrator</dc:creator>
  <dc:description/>
  <dc:language>en-US</dc:language>
  <cp:lastModifiedBy>Administrator</cp:lastModifiedBy>
  <dcterms:modified xsi:type="dcterms:W3CDTF">2008-11-06T01:02:37Z</dcterms:modified>
  <cp:revision>13</cp:revision>
  <dc:subject/>
  <dc:title>Slide 1</dc:title>
</cp:coreProperties>
</file>