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86E-2917-419E-8E51-9ACD2A0F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61D-954A-4D01-AE6C-8671480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1C8-E9E2-441E-87D2-F0914708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CB9-C2D9-4F6A-97AC-317FF3CE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E61-21A4-4B28-924A-F81B2F2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C0A-053E-4DED-8A3C-238267FC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BA3-F761-45EE-9BC5-4C8298EE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329-EA44-4118-A3B7-CAD043AB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AC6-A758-48FB-A92A-018F9B2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568-8E79-4542-A09D-DF3D63D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575-856C-4FB4-89F6-CCEEB62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71A-455A-42AE-B59B-00080AE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13C4-06DC-417A-B373-D8BCD846D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133720"/>
            <a:ext cx="6481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Huff ‘N’ Puffath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rot="20458200">
            <a:off x="1332000" y="27079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708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Wednesday 2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f May, Mellons Bay had their first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ff ‘N’ Puffath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raise money for the new senior adventur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children ran a maximum of 10 laps and were sponsored a certain amount of money for each lap they comple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fter the race we all 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down on a ma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oled d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 was re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were spot prizes and wh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hildren completed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ir laps they rece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ANZ drink bottl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0360" y="4390920"/>
            <a:ext cx="320364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124000" cy="16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11932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195640" y="2924280"/>
            <a:ext cx="952200" cy="1081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ank you for watch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Special thanks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iss Tuck    Photograp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Parents    ANZ (bott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rs Brown    Mr Ha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Everyone who participat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News team report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ax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Dari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53:05Z</dcterms:created>
  <dc:creator>Administrator</dc:creator>
  <dc:description/>
  <dc:language>en-US</dc:language>
  <cp:lastModifiedBy>Administrator</cp:lastModifiedBy>
  <dcterms:modified xsi:type="dcterms:W3CDTF">2008-11-06T01:02:37Z</dcterms:modified>
  <cp:revision>13</cp:revision>
  <dc:subject/>
  <dc:title>Slide 1</dc:title>
</cp:coreProperties>
</file>