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47DD-2A3C-401A-849A-C795E6CD0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1BE4-DBA8-4D5F-8F85-586A6290F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A57E-CD67-4939-B938-A53CF7EA2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2DDE-35B0-4D7C-99BB-DD9347ED3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247E-DEB1-4016-B561-E950C2381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B3AC-E4C5-434A-9B09-DCEE9F1F4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E251-899A-4B70-9928-BE212BAF2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4E35-A857-4011-A643-2BCA129F0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6C30-9E0A-4FAA-8557-99731B377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C50C-4537-4A2B-AB16-F9B84F0A5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7112-9261-449E-B1F9-4C98BD693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8A86-E7C7-4E53-8958-AA51F6156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0EAF2-7319-425F-830C-ABF84750F8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03280" y="2133720"/>
            <a:ext cx="648180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44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00ff00"/>
                    </a:gs>
                    <a:gs pos="100000">
                      <a:srgbClr val="0000ff"/>
                    </a:gs>
                  </a:gsLst>
                  <a:lin ang="5400000"/>
                </a:gradFill>
                <a:latin typeface="Arial Black"/>
              </a:rPr>
              <a:t>Huff ‘N’ Puffath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50000">
                    <a:srgbClr val="00ff00"/>
                  </a:gs>
                  <a:gs pos="100000">
                    <a:srgbClr val="0000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 rot="20458200">
            <a:off x="1332000" y="2707920"/>
            <a:ext cx="10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32000" y="2708280"/>
            <a:ext cx="107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n Wednesday 21</a:t>
            </a:r>
            <a:r>
              <a:rPr b="0" lang="en-US" sz="3600" spc="-1" strike="noStrike" baseline="30000">
                <a:solidFill>
                  <a:srgbClr val="ffff00"/>
                </a:solidFill>
                <a:latin typeface="Arial"/>
              </a:rPr>
              <a:t>st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of May, Mellons Bay had their first ev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Huff ‘N’ Puffathon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o raise money for the new senior adventure playgrou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155736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he children ran a maximum of 10 laps and were sponsored a certain amount of money for each lap they completed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After the race we all sa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down on a mat 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cooled dow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It was reall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fu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here were spot prizes and whe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he children completed a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heir laps they receiv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n ANZ drink bottle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cover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132000" cy="2852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203640" y="0"/>
            <a:ext cx="3003480" cy="4005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300720" y="0"/>
            <a:ext cx="2843280" cy="4292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5940360" y="4390920"/>
            <a:ext cx="3203640" cy="2467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2195640" y="4076640"/>
            <a:ext cx="3671640" cy="2781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0" y="2924280"/>
            <a:ext cx="2124000" cy="1657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7"/>
          <a:stretch/>
        </p:blipFill>
        <p:spPr>
          <a:xfrm>
            <a:off x="5940360" y="4076640"/>
            <a:ext cx="285840" cy="21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8"/>
          <a:stretch/>
        </p:blipFill>
        <p:spPr>
          <a:xfrm>
            <a:off x="0" y="4653000"/>
            <a:ext cx="2119320" cy="2205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9"/>
          <a:stretch/>
        </p:blipFill>
        <p:spPr>
          <a:xfrm>
            <a:off x="2195640" y="2924280"/>
            <a:ext cx="952200" cy="1081080"/>
          </a:xfrm>
          <a:prstGeom prst="rect">
            <a:avLst/>
          </a:prstGeom>
          <a:ln w="0">
            <a:noFill/>
          </a:ln>
        </p:spPr>
      </p:pic>
    </p:spTree>
  </p:cSld>
  <p:transition advTm="12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Onyx"/>
              </a:rPr>
              <a:t>THE E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954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Onyx"/>
              </a:rPr>
              <a:t>Thank you for watching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954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954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Onyx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Onyx"/>
              </a:rPr>
              <a:t>Special thanks to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954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Onyx"/>
              </a:rPr>
              <a:t>                      </a:t>
            </a:r>
            <a:r>
              <a:rPr b="0" lang="en-US" sz="5400" spc="-1" strike="noStrike">
                <a:solidFill>
                  <a:srgbClr val="ffffff"/>
                </a:solidFill>
                <a:latin typeface="Onyx"/>
              </a:rPr>
              <a:t>Miss Tuck    Photographe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954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Onyx"/>
              </a:rPr>
              <a:t>                         </a:t>
            </a:r>
            <a:r>
              <a:rPr b="0" lang="en-US" sz="5400" spc="-1" strike="noStrike">
                <a:solidFill>
                  <a:srgbClr val="ffffff"/>
                </a:solidFill>
                <a:latin typeface="Onyx"/>
              </a:rPr>
              <a:t>Parents    ANZ (bottles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954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Onyx"/>
              </a:rPr>
              <a:t>                    </a:t>
            </a:r>
            <a:r>
              <a:rPr b="0" lang="en-US" sz="5400" spc="-1" strike="noStrike">
                <a:solidFill>
                  <a:srgbClr val="ffffff"/>
                </a:solidFill>
                <a:latin typeface="Onyx"/>
              </a:rPr>
              <a:t>Mrs Brown    Mr Hard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954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Onyx"/>
              </a:rPr>
              <a:t>                  </a:t>
            </a:r>
            <a:r>
              <a:rPr b="0" lang="en-US" sz="5400" spc="-1" strike="noStrike">
                <a:solidFill>
                  <a:srgbClr val="ffffff"/>
                </a:solidFill>
                <a:latin typeface="Onyx"/>
              </a:rPr>
              <a:t>Everyone who participated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954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Onyx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954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Onyx"/>
              </a:rPr>
              <a:t>News team reporters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954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Onyx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Onyx"/>
              </a:rPr>
              <a:t>Max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954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Onyx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Onyx"/>
              </a:rPr>
              <a:t>Dari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954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954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01:53:05Z</dcterms:created>
  <dc:creator>Administrator</dc:creator>
  <dc:description/>
  <dc:language>en-US</dc:language>
  <cp:lastModifiedBy>Administrator</cp:lastModifiedBy>
  <dcterms:modified xsi:type="dcterms:W3CDTF">2008-11-06T01:02:37Z</dcterms:modified>
  <cp:revision>13</cp:revision>
  <dc:subject/>
  <dc:title>Slide 1</dc:title>
</cp:coreProperties>
</file>