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B01-786C-4AE8-821D-4475B3B2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C86-3C86-492B-A348-45230021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FF6-36F0-4EB0-BE28-9ED53BEB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F70-57FE-4CE1-853D-6981DB66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E5F-6646-405A-9987-BC7311E8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DB6-3999-47EA-926D-BEBECFDD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2F4-2895-42DD-B73C-3D1E15FA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A16-5200-4074-A1E3-69030EB6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36A-B31A-4288-9DF1-A5EE6698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566-46E2-40D7-901E-E984787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744-E0C4-4351-ADF9-00D2D9A5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C94-66B8-4FB8-9752-80848CF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508F-5B67-4624-8633-E36131790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133720"/>
            <a:ext cx="6481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Huff ‘N’ Puffath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00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rot="20458200">
            <a:off x="1332000" y="27079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7082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 Wednesday 21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f May, Mellons Bay had their first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ff ‘N’ Puffatho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raise money for the new senior adventur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children ran a maximum of 10 laps and were sponsored a certain amount of money for each lap they comple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fter the race we all s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down on a ma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ooled dow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t was real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re were spot prizes and wh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children completed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ir laps they recei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ANZ drink bottl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28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3003480" cy="400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429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0360" y="4390920"/>
            <a:ext cx="3203640" cy="24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95640" y="4076640"/>
            <a:ext cx="3671640" cy="278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2924280"/>
            <a:ext cx="2124000" cy="16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940360" y="4076640"/>
            <a:ext cx="285840" cy="21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0" y="4653000"/>
            <a:ext cx="211932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195640" y="2924280"/>
            <a:ext cx="952200" cy="1081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Thank you for watch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Special thanks t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iss Tuck    Photograp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Parents    ANZ (bottle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rs Brown    Mr Har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Everyone who participat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News team reporter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Max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Onyx"/>
              </a:rPr>
              <a:t>Dari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1:53:05Z</dcterms:created>
  <dc:creator>Administrator</dc:creator>
  <dc:description/>
  <dc:language>en-US</dc:language>
  <cp:lastModifiedBy>Administrator</cp:lastModifiedBy>
  <dcterms:modified xsi:type="dcterms:W3CDTF">2008-11-06T01:02:37Z</dcterms:modified>
  <cp:revision>13</cp:revision>
  <dc:subject/>
  <dc:title>Slide 1</dc:title>
</cp:coreProperties>
</file>