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0694-AF2B-4BEE-B28A-83472DAA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C4D2-7F24-40C7-95A6-20A2523F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E624-78CD-49BE-A7B5-565D7C3C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6BA6-4DD1-452C-AF79-8716D0E0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4F68-538B-4BF2-A4C4-6537C5A2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F19B-173A-415C-BB37-794C3A56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376A-F5ED-44F4-AC9C-8B799668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E27A-A53B-4E35-8570-09B70611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7DC1-383E-4BD0-A70D-63B9C74F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B307-97B3-4377-A1CE-06FA5D7D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698-1B3E-4FEE-8532-8BD1F6B8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6F16-CCA6-42D4-BA24-5779DB80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42D2-8FCD-4EAD-99E1-1D54F93B4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2133720"/>
            <a:ext cx="64818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ff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Arial Black"/>
              </a:rPr>
              <a:t>Huff ‘N’ Puffath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ff00"/>
                  </a:gs>
                  <a:gs pos="100000">
                    <a:srgbClr val="0000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 rot="20458200">
            <a:off x="1332000" y="270792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270828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n Wednesday 21</a:t>
            </a:r>
            <a:r>
              <a:rPr b="0" lang="en-US" sz="36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of May, Mellons Bay had their first e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uff ‘N’ Puffathon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 raise money for the new senior adventure playgr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e children ran a maximum of 10 laps and were sponsored a certain amount of money for each lap they complete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After the race we all s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down on a mat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ooled dow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It was real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fu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re were spot prizes and wh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children completed 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ir laps they receiv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n ANZ drink bottl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32000" cy="2852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03640" y="0"/>
            <a:ext cx="3003480" cy="4005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2843280" cy="4292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940360" y="4390920"/>
            <a:ext cx="3203640" cy="2467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195640" y="4076640"/>
            <a:ext cx="3671640" cy="2781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0" y="2924280"/>
            <a:ext cx="2124000" cy="1657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5940360" y="4076640"/>
            <a:ext cx="285840" cy="21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0" y="4653000"/>
            <a:ext cx="2119320" cy="2205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2195640" y="2924280"/>
            <a:ext cx="952200" cy="108108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Thank you for watching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Special thanks to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                    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Miss Tuck    Photograph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                       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Parents    ANZ (bottles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                  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Mrs Brown    Mr Hard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                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Everyone who participated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News team reporter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Max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Dari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1:53:05Z</dcterms:created>
  <dc:creator>Administrator</dc:creator>
  <dc:description/>
  <dc:language>en-US</dc:language>
  <cp:lastModifiedBy>Administrator</cp:lastModifiedBy>
  <dcterms:modified xsi:type="dcterms:W3CDTF">2008-11-06T01:02:37Z</dcterms:modified>
  <cp:revision>13</cp:revision>
  <dc:subject/>
  <dc:title>Slide 1</dc:title>
</cp:coreProperties>
</file>