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1E2E6-16B9-4785-ACCC-40B1E0B3C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13131-6D1C-4761-9048-3CBC1CA7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25F26-39C4-4A26-8313-0F033D187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CD1D2-5554-4948-B981-EFC3F7DFF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F7766-3C81-48EA-A549-1DD669E80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4A318-0E2F-448C-BB7B-2EF8738FB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3A63-DC9E-4548-88C8-3FA16BC2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49D1-ED67-4DCC-829E-C7B5898A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C9D7B-2DF8-4F20-8910-3D337EA87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12D8-5DC7-4D32-BB3E-963D49C8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92C7-CD11-493B-BC1A-F1046E07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5DDED-8AB8-49C1-95FF-A5361F5DD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54E1-F29B-4628-967A-0684C53D7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ews team)</a:t>
            </a:r>
            <a:endParaRPr b="0" lang="en-US" sz="3200" spc="-1" strike="noStrike">
              <a:solidFill>
                <a:srgbClr val="000000"/>
              </a:solidFill>
              <a:latin typeface="Arial"/>
            </a:endParaRPr>
          </a:p>
        </p:txBody>
      </p:sp>
      <p:sp>
        <p:nvSpPr>
          <p:cNvPr id="42" name=""/>
          <p:cNvSpPr txBox="1"/>
          <p:nvPr/>
        </p:nvSpPr>
        <p:spPr>
          <a:xfrm rot="21181200">
            <a:off x="1403280" y="620640"/>
            <a:ext cx="6553440" cy="1224000"/>
          </a:xfrm>
          <a:prstGeom prst="rect">
            <a:avLst/>
          </a:prstGeom>
        </p:spPr>
        <p:txBody>
          <a:bodyPr wrap="none" lIns="90000" rIns="90000" tIns="46800" bIns="46800" anchor="t" anchorCtr="1">
            <a:prstTxWarp prst="textPlain">
              <a:avLst>
                <a:gd name="adj" fmla="val 4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rPr>
              <a:t>The Choir Festival</a:t>
            </a:r>
            <a:endPar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the middle of Term 2 50 children where chosen to go into the Choir Festival held in the BBI school hall. We practised for ages on Tuesday and Friday afternoons. Then after all our practises it was finally time for a night of singing. SHOW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iting Backstage</a:t>
            </a:r>
            <a:endParaRPr b="0" lang="en-US" sz="4400" spc="-1" strike="noStrike">
              <a:solidFill>
                <a:srgbClr val="000000"/>
              </a:solidFill>
              <a:latin typeface="Arial"/>
            </a:endParaRPr>
          </a:p>
        </p:txBody>
      </p:sp>
      <p:sp>
        <p:nvSpPr>
          <p:cNvPr id="46"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n we got at the Festival we were told to go to our chosen classroom for Mellons Bay which was Room 25. In that classroom we talked, where told about behaviour and we also had a practise of the item we had worked on to per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W TIME!!!</a:t>
            </a:r>
            <a:endParaRPr b="0" lang="en-US" sz="4400" spc="-1" strike="noStrike">
              <a:solidFill>
                <a:srgbClr val="000000"/>
              </a:solidFill>
              <a:latin typeface="Arial"/>
            </a:endParaRPr>
          </a:p>
        </p:txBody>
      </p:sp>
      <p:sp>
        <p:nvSpPr>
          <p:cNvPr id="48" name="PlaceHolder 2"/>
          <p:cNvSpPr>
            <a:spLocks noGrp="1"/>
          </p:cNvSpPr>
          <p:nvPr>
            <p:ph/>
          </p:nvPr>
        </p:nvSpPr>
        <p:spPr>
          <a:xfrm>
            <a:off x="611280" y="3716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it was time to go on stage. We all got into our places outside the classroom and walked into the jam-packed hall. In there we got into our places and got ready to start. We were all very exc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to Sing</a:t>
            </a: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whole concert went very well and after all the singing we were very tired. It was a great experience for all of us and we will always remember that mo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19:42Z</dcterms:created>
  <dc:creator>Administrator</dc:creator>
  <dc:description/>
  <dc:language>en-US</dc:language>
  <cp:lastModifiedBy>Administrator</cp:lastModifiedBy>
  <dcterms:modified xsi:type="dcterms:W3CDTF">2008-11-06T01:07:52Z</dcterms:modified>
  <cp:revision>5</cp:revision>
  <dc:subject/>
  <dc:title>Slide 1</dc:title>
</cp:coreProperties>
</file>