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2F1-C255-4D9A-A09B-3495117D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514-5ED8-4E22-B08A-82FA7672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322-1CF7-4BD7-8967-FB28A56E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376-B07F-46B0-9478-2CE8168F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0A8-E048-4087-9F31-2EA4726C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7E7-FF34-493D-81D2-62138A42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873-3BCC-43DC-AE2C-BEF21FDF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983-255D-443E-B901-C5970621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79C-8E65-44EC-948E-BD21E06A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3EC-2C3A-4DA7-BFD6-E3EEF98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678-E5E3-4657-968B-518169C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CCC-1F97-4A7C-AC7B-0CDF3A6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62E7-8E0D-4198-A53F-0AAA4D2DD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audio" Target="file:///tmp/home/.config/libreoffice/4/user/gallery/kdsyay08.wav" TargetMode="External"/><Relationship Id="rId5" Type="http://schemas.microsoft.com/office/2007/relationships/media" Target="file:///tmp/home/.config/libreoffice/4/user/gallery/kdsyay08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341360"/>
            <a:ext cx="6981840" cy="80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Rounded MT Bold"/>
              </a:rPr>
              <a:t>Room 3's AWESOME bookwee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95640" y="3068640"/>
            <a:ext cx="4321080" cy="3241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7020000" y="342900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170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1104840" cy="153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548160" cy="26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3332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69 -0.0037 L -0.44983 -0.0037 E">
                                      <p:cBhvr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5672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7 0.124 -0.16667 C 0.124 -0.07467 0.179 -0.00133 0.248 -0.00133 C 0.179 -0.00133 0.125 0.07467 0.125 0.16667 C 0.125 0.07467 0.069 0 0 0 Z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7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3.7037E-007 C -0.01788 0.00463 -0.03142 0.02176 -0.05191 0.04306 C -0.0816 0.07361 -0.11615 0.10648 -0.13142 0.15486 C -0.13594 0.16921 -0.1375 0.18657 -0.13941 0.20162 C -0.13924 0.20995 -0.13976 0.25162 -0.13542 0.26551 C -0.11424 0.33565 -0.06962 0.37523 -0.02031 0.40417 C -0.01076 0.41018 -0.00122 0.41736 0.0092 0.42083 C 0.03281 0.42685 0.0809 0.43241 0.0809 0.4331 C 0.09653 0.43079 0.1125 0.43032 0.12795 0.42755 C 0.13941 0.42523 0.14479 0.40417 0.14965 0.39236 C 0.15243 0.35347 0.15243 0.35949 0.14878 0.2912 C 0.14514 0.22662 0.1283 0.14583 0.07309 0.13704 C 0.04427 0.13912 0.01528 0.14097 -0.01354 0.14259 C -0.05312 0.15139 -0.09115 0.16597 -0.13142 0.16829 C -0.15799 0.17106 -0.18455 0.17384 -0.21094 0.16528 C -0.21719 0.16157 -0.21753 0.16157 -0.21997 0.15208 C -0.2191 0.14028 -0.22066 0.12708 -0.21701 0.11597 C -0.21128 0.09907 -0.20382 0.0875 -0.19531 0.07361 C -0.18368 0.05463 -0.17969 0.04468 -0.16215 0.0375 C -0.14792 0.03912 -0.13976 0.04676 -0.12569 0.05463 C -0.10122 0.06852 -0.07639 0.08079 -0.05278 0.09745 C -0.00885 0.12755 0.03993 0.14653 0.0809 0.18426 C 0.10313 0.20486 0.12396 0.22824 0.14566 0.25 C 0.1566 0.26065 0.16858 0.26944 0.17813 0.28171 C 0.24132 0.36296 0.3224 0.45093 0.41215 0.46968 C 0.43611 0.46481 0.42604 0.47199 0.41997 0.41018 C 0.41597 0.36898 0.39306 0.30393 0.38056 0.27384 C 0.35122 0.20208 0.32292 0.10972 0.27049 0.06296 C 0.21771 0.01505 0.16892 -0.01111 0.10642 -0.01991 C 0.08108 -0.01944 0.05573 -0.02037 0.03073 -0.01875 C 0.01285 -0.01713 -0.0059 -0.00764 -0.02222 3.7037E-007 C -0.07118 0.02407 -0.12135 0.06296 -0.15017 0.12431 C -0.16927 0.16528 -0.19253 0.2044 -0.21094 0.2456 C -0.24514 0.32176 -0.2809 0.38241 -0.32899 0.44352 C -0.35208 0.47245 -0.37413 0.5037 -0.40677 0.50995 C -0.41615 0.5081 -0.42587 0.5088 -0.43524 0.50602 C -0.4441 0.50324 -0.45295 0.47708 -0.45295 0.47755 C -0.45799 0.45648 -0.46319 0.43796 -0.46667 0.41643 C -0.46788 0.38125 -0.47118 0.3463 -0.47465 0.31111 C -0.47535 0.28773 -0.47743 0.26389 -0.4776 0.24051 C -0.47778 0.20833 -0.47778 0.17662 -0.47639 0.14421 C -0.47604 0.13634 -0.47431 0.12801 -0.47274 0.12037 C -0.46684 0.08704 -0.45677 0.03194 -0.42743 0.02407 C -0.41562 0.02454 -0.40365 0.02338 -0.39201 0.02569 C -0.36753 0.02893 -0.3342 0.05903 -0.31528 0.07361 C -0.26198 0.11366 -0.21667 0.17268 -0.16007 0.2044 C -0.08698 0.24491 -0.01076 0.26111 0.06615 0.28611 C 0.09792 0.29606 0.12934 0.31065 0.16146 0.31898 C 0.21979 0.33449 0.27465 0.34005 0.33351 0.34468 C 0.35972 0.34282 0.39358 0.35579 0.41007 0.32338 C 0.41285 0.30949 0.41424 0.28171 0.41424 0.28218 C 0.41302 0.20093 0.41597 0.11597 0.39358 0.03843 C 0.3901 0.02685 0.38472 0.01574 0.38056 0.00393 C 0.36858 -0.03264 0.35573 -0.0794 0.3217 -0.08403 C 0.27465 -0.08056 0.24549 -0.0338 0.21163 0.00509 C 0.18125 0.04028 0.13194 0.08518 0.10365 0.12523 C 0.08559 0.15093 0.06753 0.17662 0.04948 0.20162 C 0.04132 0.21319 0.03142 0.22315 0.02483 0.23611 C 0.01198 0.26227 0.00139 0.29005 -0.01354 0.31389 C -0.01997 0.32407 -0.02708 0.33403 -0.03316 0.34468 C -0.04236 0.36018 -0.05052 0.37639 -0.05868 0.39236 C -0.08108 0.4375 -0.09514 0.48981 -0.13941 0.49537 C -0.15243 0.49421 -0.16562 0.49421 -0.17865 0.49143 C -0.20885 0.48426 -0.2375 0.4581 -0.26319 0.43634 C -0.28056 0.42199 -0.30052 0.40972 -0.31441 0.38843 C -0.34358 0.34398 -0.36684 0.28287 -0.37517 0.22431 C -0.37257 0.19768 -0.37222 0.16435 -0.36146 0.13912 C -0.33177 0.06806 -0.25885 0.04236 -0.20417 0.04028 C -0.18542 0.0419 -0.16667 0.0412 -0.14826 0.04514 C -0.13802 0.04745 -0.1283 0.05301 -0.11875 0.05856 C -0.06979 0.08704 -0.02743 0.11366 0.01007 0.16528 C 0.03003 0.19375 0.04861 0.22315 0.06806 0.25231 C 0.10816 0.31111 0.14618 0.37245 0.18611 0.43241 C 0.24931 0.52755 0.32378 0.64352 0.42292 0.66065 C 0.45087 0.65556 0.45156 0.65556 0.46823 0.62616 C 0.49028 0.53981 0.47778 0.59838 0.47309 0.40579 C 0.47118 0.32847 0.44601 0.2294 0.41997 0.16319 C 0.37448 0.04676 0.40903 0.1169 0.37188 0.06134 C 0.34028 0.01505 0.37309 0.05579 0.34722 0.02801 C 0.34427 0.02454 0.34167 0.02014 0.33837 0.01736 C 0.33472 0.01458 0.32656 0.01065 0.32656 0.01134 C 0.29201 0.02014 0.26198 0.0831 0.24097 0.11088 C 0.21146 0.15093 0.17969 0.18773 0.15052 0.22824 C 0.10156 0.29722 0.05608 0.37014 0.00712 0.43912 C -0.00174 0.45139 -0.00556 0.46875 -0.01267 0.4831 C -0.02222 0.50324 -0.05885 0.56991 -0.07361 0.59722 C -0.07847 0.60556 -0.08212 0.6162 -0.08819 0.62338 C -0.0967 0.63333 -0.1059 0.64236 -0.11372 0.65278 C -0.12622 0.66968 -0.13681 0.68403 -0.15312 0.69282 C -0.16076 0.69745 -0.17674 0.70347 -0.17674 0.70417 C -0.20122 0.70185 -0.23177 0.70417 -0.25417 0.68634 C -0.26806 0.67569 -0.28125 0.66227 -0.29462 0.65 C -0.30035 0.64514 -0.31146 0.63565 -0.31146 0.63611 C -0.33247 0.5912 -0.31927 0.61736 -0.35365 0.56111 C -0.37309 0.5287 -0.38698 0.47315 -0.39792 0.43241 C -0.40087 0.40023 -0.40365 0.36898 -0.39983 0.33634 C -0.39531 0.29722 -0.3717 0.2662 -0.35087 0.24167 C -0.31753 0.20324 -0.28125 0.18102 -0.23854 0.16991 C -0.21042 0.17106 -0.20868 0.16643 -0.18854 0.17662 C -0.11667 0.21111 -0.08437 0.30903 -0.0401 0.38472 C -0.00677 0.4419 0.01302 0.46134 0.05625 0.51829 C 0.08819 0.5588 0.08594 0.56944 0.12309 0.60162 C 0.16267 0.63681 0.21354 0.65787 0.25972 0.66505 C 0.26458 0.66458 0.29306 0.66458 0.30191 0.65278 C 0.30677 0.64676 0.30851 0.63727 0.31198 0.63009 C 0.31684 0.5838 0.31424 0.53704 0.30694 0.49259 C 0.30087 0.45579 0.29809 0.44583 0.28524 0.41134 C 0.24132 0.29329 0.17431 0.16319 0.06806 0.1537 C 0.06198 0.1537 0.03819 0.1537 0.02882 0.15764 C -0.00538 0.17199 -0.02344 0.21157 -0.04097 0.25116 C -0.06389 0.30278 -0.075 0.35741 -0.08056 0.41643 C -0.07587 0.46528 -0.07726 0.51273 -0.06163 0.55718 C -0.02847 0.65069 0.05 0.69745 0.12014 0.72245 C 0.13872 0.72014 0.15781 0.72083 0.17622 0.7169 C 0.20729 0.71065 0.21563 0.63889 0.22031 0.6088 C 0.22031 0.60556 0.22309 0.45301 0.21354 0.40579 C 0.18472 0.26505 0.13628 0.19259 0.0533 0.10023 C 0.00382 0.04468 -0.0783 0.02616 -0.13941 0.02014 C -0.15642 0.0206 -0.17361 0.01898 -0.19045 0.0213 C -0.26632 0.03356 -0.30087 0.11875 -0.31719 0.20995 C -0.32066 0.25833 -0.32431 0.31065 -0.31632 0.35903 C -0.3099 0.39792 -0.29861 0.43634 -0.29167 0.47546 C -0.29132 0.4831 -0.29132 0.49028 -0.29062 0.49768 C -0.28941 0.51204 -0.28576 0.53935 -0.28576 0.53981 C -0.28698 0.5588 -0.28594 0.59329 -0.3026 0.60162 C -0.31753 0.58171 -0.31806 0.55046 -0.32118 0.52384 C -0.32795 0.46597 -0.33507 0.41018 -0.33906 0.35231 C -0.33872 0.29722 -0.34462 0.22616 -0.33299 0.16829 C -0.33003 0.1537 -0.32917 0.14028 -0.32014 0.13079 C -0.28333 0.14028 -0.24913 0.16528 -0.21701 0.19097 C -0.19097 0.21204 -0.16181 0.22662 -0.13837 0.25231 C -0.07066 0.32778 -0.00503000000000001 0.40579 0.06128 0.4831 C 0.12813 0.56227 0.20122 0.63958 0.29323 0.64792 C 0.3158 0.65185 0.33281 0.64398 0.34722 0.61944 C 0.35868 0.57546 0.35573 0.59722 0.35729 0.5544 C 0.35694 0.54051 0.35521 0.46088 0.35208 0.43912 C 0.32813 0.28125 0.26823 0.12523 0.15243 0.06018 C 0.11858 0.04074 0.08576 0.0412 0.04948 0.03843 C 0.00278 0.04306 -0.0033 0.03681 -0.0401 0.05579 C -0.17222 0.12431 -0.25052 0.32893 -0.32014 0.48472 C -0.33576 0.51991 -0.36059 0.54537 -0.38108 0.57546 C -0.43056 0.64838 -0.49184 0.7169 -0.56771 0.72523 C -0.57292 0.72361 -0.57865 0.72407 -0.58281 0.72083 C -0.58663 0.71898 -0.60087 0.68403 -0.60295 0.67963 C -0.61024 0.64954 -0.61441 0.62176 -0.61771 0.59005 C -0.6191 0.54051 -0.62153 0.49977 -0.61858 0.45023 C -0.61233 0.33287 -0.55781 0.17755 -0.48924 0.10417 C -0.44792 0.05972 -0.3974 0.03958 -0.34583 0.03194 C -0.32778 0.03241 -0.2842 0.03079 -0.26111 0.0375 C -0.24306 0.04236 -0.21233 0.05903 -0.19635 0.06806 C -0.16181 0.08796 -0.12535 0.10579 -0.09514 0.13704 C -0.0566 0.17824 -0.00469 0.24444 0.02969 0.29005 C 0.07361 0.34745 0.11389 0.40579 0.15365 0.46875 C 0.19462 0.53333 0.22899 0.59606 0.26372 0.66782 C 0.28681 0.71574 0.31406 0.77917 0.36007 0.78819 C 0.36753 0.78634 0.36788 0.78426 0.37378 0.77801 C 0.37795 0.76528 0.37899 0.75255 0.38056 0.73866 C 0.38264 0.68518 0.38316 0.68125 0.37969 0.60116 C 0.37847 0.5706 0.37431 0.54051 0.37274 0.50995 C 0.36389 0.34468 0.31875 0.0919 0.1684 0.07755 C 0.15781 0.07801 0.1408 0.07755 0.13003 0.08518 C 0.10399 0.10463 0.08941 0.13704 0.06997 0.16528 C 0.06302 0.17546 0.05451 0.1838 0.04757 0.19375 C 0.00174 0.25949 -0.03663 0.33565 -0.07361 0.41134 C -0.08003 0.42407 -0.08247 0.43981 -0.08819 0.45255 C -0.09288 0.46319 -0.13559 0.55486 -0.15208 0.58333 C -0.19167 0.65116 -0.2309 0.7213 -0.27604 0.78264 C -0.28802 0.79861 -0.30781 0.82477 -0.32517 0.83032 C -0.3349 0.8338 -0.35469 0.83495 -0.35469 0.83542 C -0.42778 0.82037 -0.46389 0.74583 -0.5 0.66782 C -0.5401 0.58171 -0.56545 0.48148 -0.57986 0.38194 C -0.57986 0.34838 -0.57986 0.31505 -0.57934 0.28171 C -0.57691 0.20995 -0.53194 0.19606 -0.48924 0.19213 C -0.43125 0.19491 -0.36736 0.20718 -0.31719 0.25116 C -0.25486 0.30509 -0.20347 0.37847 -0.15208 0.45023 C -0.12899 0.48148 -0.08177 0.54444 -0.05382 0.58056 C -0.00538 0.64444 0.03906 0.69398 0.09549 0.74514 C 0.10417 0.75255 0.11424 0.75741 0.12413 0.76088 C 0.13663 0.76574 0.1625 0.77037 0.1625 0.77083 C 0.18733 0.76574 0.19479 0.76852 0.20469 0.73681 C 0.20174 0.67292 0.19132 0.64398 0.17431 0.58056 C 0.1474 0.48264 0.12153 0.37917 0.07587 0.29329 C 0.05017 0.24606 0.0099 0.18542 -0.03698 0.18032 C -0.04861 0.18032 -0.06007 0.17986 -0.07153 0.18148 C -0.08437 0.1838 -0.09462 0.19815 -0.10486 0.20718 C -0.11649 0.21713 -0.12274 0.21759 -0.13351 0.2294 C -0.19618 0.30069 -0.22187 0.40903 -0.2533 0.50764 C -0.27361 0.5706 -0.27899 0.60787 -0.32014 0.6463 C -0.34861 0.64236 -0.35764 0.59954 -0.36736 0.56782 C -0.37014 0.55833 -0.37535 0.55093 -0.3783 0.54213 C -0.3842 0.52268 -0.38785 0.50208 -0.39306 0.48194 C -0.39531 0.47315 -0.39983 0.45648 -0.39983 0.45694 C -0.40486 0.41574 -0.40608 0.41643 -0.40278 0.3662 C -0.40035 0.32963 -0.375 0.30393 -0.35764 0.28287 C -0.33819 0.25949 -0.33559 0.26389 -0.31042 0.24653 C -0.27986 0.22708 -0.2474 0.19815 -0.21424 0.19097 C -0.17083 0.18218 -0.19323 0.18542 -0.14722 0.1794 C -0.09149 0.17986 -0.02847 0.17546 0.02292 0.21273 C 0.1191 0.28171 0.18958 0.40185 0.26858 0.50046 C 0.3191 0.56389 0.36736 0.63403 0.42882 0.67685 C 0.44913 0.6912 0.46059 0.70231 0.48299 0.70509 C 0.4934 0.70347 0.49479 0.70625 0.4967 0.69398 C 0.49514 0.63218 0.4941 0.56875 0.4809 0.5081 C 0.46962 0.45694 0.45729 0.42755 0.43889 0.37407 C 0.4217 0.32407 0.40365 0.28449 0.37378 0.2456 C 0.34045 0.20208 0.29375 0.13819 0.24306 0.13264 C 0.23924 0.13264 0.2224 0.13264 0.21632 0.13634 C 0.21024 0.14028 0.20104 0.14977 0.19497 0.15602 C 0.17396 0.19884 0.16007 0.24838 0.14288 0.29329 C 0.13108 0.32407 0.11858 0.35463 0.10642 0.38472 C 0.08125 0.44745 0.04097 0.5037 0.0092 0.56111 C -0.02639 0.62454 -0.05122 0.67523 -0.1 0.72245 C -0.13108 0.75255 -0.1776 0.75648 -0.21424 0.76088 C -0.2599 0.75926 -0.30625 0.76574 -0.35174 0.75579 C -0.37309 0.75069 -0.39115 0.73032 -0.41059 0.7169 C -0.49826 0.65787 -0.54358 0.57153 -0.57934 0.44861 C -0.58663 0.38565 -0.5974 0.31111 -0.58142 0.25 C -0.56736 0.19537 -0.53976 0.12245 -0.50087 0.09352 C -0.48281 0.08032 -0.4651 0.0669 -0.44705 0.05301 C -0.4217 0.03472 -0.38142 0.03518 -0.35365 0.03079 C -0.28299 0.03843 -0.21128 0.05139 -0.15122 0.1081 C -0.12812 0.12986 -0.06545 0.21551 -0.05677 0.22708 C -0.00434 0.29676 0.04549 0.36968 0.09653 0.44074 C 0.16597 0.53704 0.22708 0.60556 0.32934 0.61829 C 0.34045 0.6162 0.34497 0.62014 0.35122 0.60995 C 0.3559 0.60324 0.36094 0.58495 0.36094 0.58565 C 0.36059 0.56875 0.36094 0.49028 0.35608 0.4581 C 0.34271 0.36968 0.30278 0.28727 0.25868 0.22153 C 0.21146 0.15093 0.15851 0.07477 0.09167 0.03843 C 0.0842 0.03958 0.07691 0.03843 0.06997 0.0412 C 0.06285 0.04398 0.0526 0.06643 0.04948 0.07361 C 0.03767 0.09907 0.02535 0.12431 0.01476 0.15093 C -0.02066 0.24444 -0.06354 0.34236 -0.08733 0.44352 C -0.10087 0.50093 -0.11042 0.55162 -0.12066 0.60995 C -0.12292 0.66782 -0.13507 0.71458 -0.16007 0.76088 C -0.16267 0.76574 -0.17535 0.76921 -0.17951 0.77037 C -0.18993 0.76852 -0.1967 0.76968 -0.20521 0.7625 C -0.21562 0.75255 -0.21927 0.73356 -0.22483 0.71968 C -0.25799 0.63727 -0.20625 0.77593 -0.25139 0.65671 C -0.28819 0.56042 -0.31823 0.46481 -0.33003 0.35671 C -0.33073 0.34074 -0.33264 0.32407 -0.33212 0.30833 C -0.32917 0.22315 -0.32604 0.15046 -0.29462 0.07755 C -0.28628 0.0581 -0.275 0.03958 -0.25833 0.03634 C -0.2342 0.04792 -0.23559 0.05856 -0.21701 0.08981 C -0.19844 0.12037 -0.18507 0.15139 -0.16979 0.18426 C -0.14392 0.24005 -0.11042 0.28843 -0.08229 0.3419 C -0.05365 0.39583 -0.02691 0.45139 0.00104 0.50602 C 0.00712 0.51759 0.01788 0.52384 0.02569 0.53264 C 0.05851 0.5706 0.08767 0.60787 0.13194 0.61273 C 0.15226 0.60833 0.15 0.61157 0.16059 0.5912 C 0.1691 0.49028 0.14323 0.36806 0.09861 0.28727 C 0.08542 0.26343 0.06979 0.24167 0.05521 0.21875 C 0.00382 0.13981 -0.06424 0.08241 -0.14323 0.07477 C -0.16302 0.07523 -0.18316 0.0713 -0.20226 0.07847 C -0.23108 0.09028 -0.24809 0.12037 -0.26424 0.15208 C -0.27656 0.2 -0.27431 0.17986 -0.27604 0.21273 C -0.27465 0.23333 -0.27448 0.25393 -0.27205 0.275 C -0.26962 0.2956 -0.25799 0.31667 -0.2474 0.33125 C -0.21701 0.3713 -0.19549 0.38843 -0.15312 0.39792 C -0.14097 0.39583 -0.10521 0.39236 -0.08906 0.38194 C -0.05503 0.36018 -0.04062 0.31065 -0.03021 0.26551 C -0.01944 0.0919 -0.07413 -0.03495 -0.18351 -0.1162 C -0.21632 -0.13982 -0.25052 -0.15787 -0.28785 -0.16019 C -0.3125 -0.15903 -0.33247 -0.16505 -0.35174 -0.14398 C -0.36059 -0.13403 -0.37049 -0.10394 -0.37049 -0.10347 C -0.37691 -0.04607 -0.3776 -0.03542 -0.36927 0.04514 C -0.36806 0.05741 -0.36424 0.06806 -0.36042 0.07847 C -0.35243 0.1037 -0.34566 0.12986 -0.33403 0.15208 C -0.31753 0.1838 -0.30087 0.22037 -0.27604 0.24167 C -0.20729 0.30069 -0.13715 0.32569 -0.05677 0.33403 C -0.03142 0.33125 -0.00538 0.33125 0.01997 0.32731 C 0.05313 0.3213 0.08872 0.28773 0.11736 0.26343 C 0.13958 0.22315 0.14826 0.20648 0.1566 0.15602 C 0.15313 0.11134 0.15521 0.08704 0.14375 0.04954 C 0.10938 -0.06227 0.02847 -0.1162 -0.05677 -0.1213 C -0.08247 -0.1206 -0.0941 -0.1213 -0.11562 -0.11065 C -0.11806 -0.10671 -0.12483 -0.09792 -0.12569 -0.09236 C -0.12708 -0.08287 -0.12743 -0.06389 -0.12743 -0.06343 C -0.11997 0.09745 -0.01458 0.21875 0.09167 0.26944 C 0.10208 0.27454 0.15017 0.28773 0.1625 0.2912 C 0.24722 0.28843 0.27674 0.29884 0.33941 0.23495 C 0.36302 0.1787 0.35799 0.2044 0.36302 0.16157 C 0.36094 0.1287 0.36146 0.09537 0.35729 0.06296 C 0.35035 0.01134 0.3217 -0.0294 0.2842 -0.03727 C 0.27674 -0.03727 0.2691 -0.03727 0.26181 -0.03611 C 0.24201 -0.03218 0.22622 -0.00718 0.21458 0.01227 C 0.18802 0.05579 0.17587 0.11412 0.16615 0.16829 C 0.1684 0.21435 0.16753 0.26065 0.17222 0.30556 C 0.17378 0.31852 0.17951 0.32963 0.18507 0.34074 C 0.21441 0.39514 0.25712 0.42963 0.30608 0.44583 C 0.3158 0.44931 0.32622 0.44861 0.33628 0.45023 C 0.36163 0.44583 0.38715 0.44306 0.41215 0.43634 C 0.45955 0.42477 0.48542 0.3669 0.50347 0.31227 C 0.51979 0.20995 0.43837 0.12917 0.37587 0.09907 C 0.3474 0.08518 0.34444 0.08704 0.31563 0.0831 C 0.28264 0.08356 0.24965 0.08079 0.21632 0.08403 C 0.16389 0.08912 0.11424 0.12755 0.075 0.17268 C 0.04531 0.24213 0.05365 0.20995 0.0434 0.26435 C 0.0401 0.30787 0.03767 0.32731 0.04149 0.37685 C 0.04427 0.41088 0.06597 0.4669 0.07413 0.49143 C 0.07882 0.50532 0.08611 0.51759 0.09167 0.53148 C 0.09618 0.54259 0.09896 0.55486 0.10451 0.56551 C 0.12118 0.59768 0.14844 0.62662 0.17708 0.63403 C 0.18368 0.63287 0.19045 0.63287 0.19688 0.63009 C 0.20191 0.62731 0.21059 0.61829 0.21059 0.61898 C 0.2151 0.6088 0.22153 0.60046 0.22448 0.59005 C 0.22882 0.57338 0.23819 0.53935 0.23819 0.53981 C 0.24514 0.48264 0.24688 0.48542 0.23524 0.40185 C 0.2342 0.39514 0.2099 0.32731 0.2066 0.32176 C 0.16094 0.24282 0.09601 0.1581 0.02483 0.12431 C -0.00521 0.10972 -0.04323 0.10463 -0.07448 0.09907 C -0.1309 0.09907 -0.24062 0.07569 -0.28889 0.15208 C -0.3 0.17037 -0.30104 0.1787 -0.30764 0.2 C -0.31215 0.25046 -0.31424 0.29005 -0.30451 0.3419 C -0.29306 0.40301 -0.25885 0.46481 -0.22795 0.50995 C -0.17222 0.5912 -0.13264 0.64954 -0.04983 0.66505 C -0.03785 0.66389 -0.02552 0.66574 -0.01354 0.66227 C -0.00729 0.66065 0.00903 0.64444 0.01302 0.63773 C 0.04288 0.59282 0.05226 0.53704 0.05833 0.47824 C 0.05694 0.44143 0.05747 0.40417 0.05434 0.36736 C 0.04913 0.30949 0.01788 0.24838 -0.01076 0.20833 C -0.0783 0.11134 -0.15434 0.03403 -0.25417 0.02014 C -0.26389 0.0206 -0.27344 0.02014 -0.28299 0.0213 C -0.30816 0.02523 -0.31476 0.05625 -0.32413 0.0831 C -0.32743 0.12986 -0.33003 0.17106 -0.32413 0.21875 C -0.31649 0.28009 -0.2842 0.33565 -0.26024 0.38472 C -0.23003 0.44653 -0.1816 0.4831 -0.13646 0.52106 C -0.1276 0.52755 -0.12014 0.53704 -0.11076 0.54329 C -0.08299 0.56042 -0.05243 0.56435 -0.02222 0.56551 C -0.00625 0.56319 0.0099 0.56157 0.02569 0.55718 C 0.05434 0.54884 0.06528 0.51319 0.07413 0.48102 C 0.0776 0.4331 0.07917 0.42477 0.07309 0.35671 C 0.07031 0.32847 0.03941 0.24838 0.03472 0.23889 C -0.02743 0.12245 -0.11406 0.01782 -0.22292 0.00301 C -0.23993 0.00347 -0.25729 0.00185 -0.27396 0.00393 C -0.33437 0.01181 -0.36771 0.09028 -0.38698 0.1588 C -0.39201 0.19375 -0.39601 0.22662 -0.39792 0.26157 C -0.39566 0.34236 -0.38663 0.45023 -0.32205 0.48472 C -0.31146 0.49028 -0.29896 0.49375 -0.28785 0.49537 C -0.28333 0.49491 -0.2783 0.49653 -0.27396 0.49421 C -0.27222 0.49306 -0.27222 0.48981 -0.27118 0.48704 C -0.26997 0.48472 -0.26806 0.48194 -0.26701 0.47917 C -0.26146 0.46528 -0.26007 0.45093 -0.25833 0.43518 C -0.25955 0.3963 -0.25937 0.35671 -0.26215 0.31782 C -0.26406 0.29444 -0.27535 0.26343 -0.28299 0.24329 C -0.31736 0.15093 -0.38611 0.10463 -0.4599 0.09468 C -0.47917 0.09583 -0.49861 0.09537 -0.51771 0.09907 C -0.56024 0.10741 -0.58854 0.15255 -0.6059 0.20162 C -0.60938 0.24329 -0.61215 0.26227 -0.6059 0.30949 C -0.59809 0.37083 -0.56146 0.43079 -0.53125 0.47431 C -0.46806 0.56505 -0.4717 0.55648 -0.40365 0.63287 C -0.37934 0.66018 -0.34549 0.66736 -0.31632 0.68449 C -0.26337 0.7169 -0.20694 0.7213 -0.15017 0.72523 C -0.13177 0.72292 -0.11319 0.72292 -0.09514 0.71852 C -0.05278 0.70787 -0.0342 0.66852 -0.01267 0.62338 C -0.00712 0.61227 -0.00434 0.59838 -0.00069 0.58611 C 0.00608 0.56227 0.01806 0.51551 0.01806 0.51597 C 0.02222 0.4787 0.02569 0.44306 0.02674 0.40579 C 0.02569 0.38565 0.02604 0.36574 0.02378 0.3456 C 0.01892 0.30509 -0.01337 0.26829 -0.04097 0.25787 C -0.0467 0.25556 -0.06128 0.25393 -0.06667 0.25393 C -0.07396 0.25393 -0.08125 0.25393 -0.08819 0.25509 C -0.15069 0.26782 -0.17986 0.38681 -0.19931 0.45417 C -0.20278 0.47824 -0.20712 0.50093 -0.20625 0.52593 C -0.20521 0.55162 -0.20382 0.57662 -0.20052 0.60162 C -0.19062 0.67245 -0.1408 0.72083 -0.09323 0.73866 C -0.07882 0.74352 -0.05226 0.74514 -0.03819 0.74583 C 0.000690000000000003 0.74421 0.03177 0.74421 0.06615 0.71852 C 0.08802 0.70185 0.10851 0.66852 0.12101 0.63958 C 0.15243 0.56782 0.17448 0.49306 0.18212 0.41018 C 0.1842 0.34514 0.17778 0.26505 0.14965 0.20995 C 0.12188 0.15532 0.07535 0.12431 0.0276 0.12037 C -0.00712 0.12639 -0.00278 0.12639 -0.02726 0.13634 C -0.04323 0.15208 -0.06181 0.16435 -0.07448 0.18426 C -0.08872 0.20718 -0.09601 0.23773 -0.10382 0.26551 C -0.10642 0.29329 -0.11389 0.33287 -0.10694 0.36065 C -0.09097 0.4213 -0.06753 0.4669 -0.03316 0.51157 C 0.00729 0.56435 0.04844 0.6162 0.10156 0.64514 C 0.13681 0.66389 0.1599 0.66574 0.19688 0.67292 C 0.24774 0.67014 0.29948 0.67523 0.35017 0.6662 C 0.36389 0.66389 0.38767 0.6412 0.38767 0.64167 C 0.41285 0.60393 0.42708 0.56944 0.43368 0.51921 C 0.43212 0.48542 0.43316 0.45093 0.42882 0.41806 C 0.42656 0.39977 0.40625 0.35509 0.39844 0.34074 C 0.35365 0.25509 0.27326 0.19375 0.19688 0.18032 C 0.17986 0.17708 0.16267 0.1787 0.14566 0.17755 C 0.03993 0.1794 -0.13212 0.17384 -0.17587 0.34074 C -0.17517 0.35856 -0.17622 0.37639 -0.17378 0.39421 C -0.17274 0.40023 -0.15625 0.45093 -0.15312 0.4581 C -0.13819 0.49028 -0.12483 0.51991 -0.10295 0.54329 C -0.05833 0.5912 -0.00208 0.61343 0.05226 0.63287 C 0.09306 0.63056 0.13767 0.63681 0.16528 0.58889 C 0.17205 0.57662 0.17396 0.56944 0.17813 0.55486 C 0.19479 0.45093 0.16476 0.37454 0.12917 0.28843 C 0.11997 0.26667 0.10104 0.23056 0.0809 0.22431 C 0.07274 0.22153 0.05521 0.22153 0.05521 0.22222 C 0.0401 0.22384 0.02743 0.22315 0.01389 0.23218 C -0.0375 0.26667 -0.05712 0.30625 -0.06962 0.38194 C -0.07708 0.52546 -0.025 0.67292 0.08681 0.69861 C 0.10694 0.69745 0.12743 0.69861 0.14774 0.69514 C 0.15243 0.69514 0.15694 0.69074 0.16146 0.68727 C 0.19271 0.6662 0.2 0.6294 0.20573 0.58611 C 0.20469 0.56111 0.20486 0.53542 0.2026 0.50995 C 0.19844 0.46088 0.16545 0.41806 0.13108 0.40741 C 0.10451 0.39907 0.07552 0.40023 0.04844 0.39792 C -0.00451 0.40579 -0.07014 0.43426 -0.1 0.49931 C -0.10781 0.51643 -0.1099 0.5338 -0.11372 0.55278 C -0.11406 0.56157 -0.11597 0.58727 -0.11372 0.59838 C -0.09306 0.69514 0.00781 0.74861 0.07413 0.77037 C 0.10208 0.77986 0.11111 0.77801 0.13785 0.77986 C 0.16128 0.77685 0.18976 0.77986 0.20469 0.74792 C 0.20694 0.74306 0.2099 0.73866 0.21163 0.7331 C 0.2151 0.72083 0.22031 0.69514 0.22031 0.6956 C 0.22257 0.65556 0.22361 0.64838 0.21944 0.5912 C 0.21719 0.55833 0.20365 0.52153 0.18889 0.49537 C 0.15104 0.42917 0.12118 0.40347 0.05833 0.39421 C 0.0401 0.39468 0.02222 0.39352 0.00434 0.39514 C -0.04896 0.40139 -0.09115 0.44306 -0.10885 0.50995 C -0.10851 0.52037 -0.10937 0.53056 -0.10799 0.54051 C -0.10747 0.54444 -0.10486 0.54722 -0.10295 0.55 C -0.09358 0.56667 -0.08177 0.57222 -0.06667 0.57384 C -0.04306 0.58056 -0.02656 0.57222 -0.01076 0.55 C -0.00573 0.51481 0.01059 0.46806 -0.01076 0.43912 E">
                                      <p:cBhvr>
                                        <p:cTn id="3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2:23:24Z</dcterms:created>
  <dc:creator>Administrator</dc:creator>
  <dc:description/>
  <dc:language>en-US</dc:language>
  <cp:lastModifiedBy>Administrator</cp:lastModifiedBy>
  <dcterms:modified xsi:type="dcterms:W3CDTF">2008-09-25T22:39:50Z</dcterms:modified>
  <cp:revision>4</cp:revision>
  <dc:subject/>
  <dc:title>Slide 1</dc:title>
</cp:coreProperties>
</file>