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jpeg" ContentType="image/jpeg"/>
  <Override PartName="/ppt/media/image29.wmf" ContentType="image/x-wmf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17.jpeg" ContentType="image/jpeg"/>
  <Override PartName="/ppt/media/image45.wmf" ContentType="image/x-wmf"/>
  <Override PartName="/ppt/media/image49.gif" ContentType="image/gif"/>
  <Override PartName="/ppt/media/image2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3.gif" ContentType="image/gif"/>
  <Override PartName="/ppt/media/image4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55.wmf" ContentType="image/x-wmf"/>
  <Override PartName="/ppt/media/image8.gif" ContentType="image/gif"/>
  <Override PartName="/ppt/media/image26.jpeg" ContentType="image/jpeg"/>
  <Override PartName="/ppt/media/image52.gif" ContentType="image/gif"/>
  <Override PartName="/ppt/media/image40.wmf" ContentType="image/x-wmf"/>
  <Override PartName="/ppt/media/image34.jpeg" ContentType="image/jpeg"/>
  <Override PartName="/ppt/media/image10.jpeg" ContentType="image/jpeg"/>
  <Override PartName="/ppt/media/image35.jpeg" ContentType="image/jpeg"/>
  <Override PartName="/ppt/media/image50.wmf" ContentType="image/x-wmf"/>
  <Override PartName="/ppt/media/image54.gif" ContentType="image/gif"/>
  <Override PartName="/ppt/media/image36.gif" ContentType="image/gif"/>
  <Override PartName="/ppt/media/image39.jpeg" ContentType="image/jpeg"/>
  <Override PartName="/ppt/media/image41.gif" ContentType="image/gif"/>
  <Override PartName="/ppt/media/image44.wmf" ContentType="image/x-wmf"/>
  <Override PartName="/ppt/media/image43.jpeg" ContentType="image/jpeg"/>
  <Override PartName="/ppt/media/image46.jpeg" ContentType="image/jpeg"/>
  <Override PartName="/ppt/media/image47.gif" ContentType="image/gif"/>
  <Override PartName="/ppt/media/image37.wmf" ContentType="image/x-wmf"/>
  <Override PartName="/ppt/media/image30.jpeg" ContentType="image/jpeg"/>
  <Override PartName="/ppt/media/image56.jpeg" ContentType="image/jpeg"/>
  <Override PartName="/ppt/media/image33.wmf" ContentType="image/x-wmf"/>
  <Override PartName="/ppt/media/image31.jpeg" ContentType="image/jpeg"/>
  <Override PartName="/ppt/media/image13.jpeg" ContentType="image/jpeg"/>
  <Override PartName="/ppt/media/image20.gif" ContentType="image/gif"/>
  <Override PartName="/ppt/media/image53.wmf" ContentType="image/x-wmf"/>
  <Override PartName="/ppt/media/image12.wmf" ContentType="image/x-wmf"/>
  <Override PartName="/ppt/media/image24.gif" ContentType="image/gif"/>
  <Override PartName="/ppt/media/image11.jpeg" ContentType="image/jpeg"/>
  <Override PartName="/ppt/media/image27.jpeg" ContentType="image/jpeg"/>
  <Override PartName="/ppt/media/image9.wmf" ContentType="image/x-wmf"/>
  <Override PartName="/ppt/media/image4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0D6-D8C3-4A50-A4A3-4F9B4355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C6D-F5AB-4D22-8C88-F78DEFE0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177-4AB4-49F0-820B-31D9067D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714-076A-40EE-A4F3-C8907D89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B1A-D216-432D-B9AB-8B6E9FC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346-AE9D-4F10-9BD6-61297897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3E2-E81F-4209-A023-A3D86BA8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0EF-BF25-4B29-8A8A-95C0F99E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120-1B29-4265-BFDA-3894D2C3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642-7BE3-421E-91A8-083D387D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180-3D7D-4488-B1D6-6AF907AA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48C-2212-410D-8CDC-B896119D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2389-1D76-4A59-9BCB-62F8EE34F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wmf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6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206800"/>
            <a:ext cx="878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dies and gentlemen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41840" cy="378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76720" y="3773520"/>
            <a:ext cx="3959280" cy="2968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Bradley Hosking doing his speech on The Abyss!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3657600" cy="2414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06200" y="5157720"/>
            <a:ext cx="3313440" cy="1663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90760" cy="4941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016000"/>
            <a:ext cx="1944720" cy="484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Ella Macleod doing her speech on What’s Really In Our Foo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56000" y="1577880"/>
            <a:ext cx="35287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03640" y="4508640"/>
            <a:ext cx="2376360" cy="2259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576600" cy="472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Maia Mclean doing her speech on Reincarnation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148280" y="1488960"/>
            <a:ext cx="1863720" cy="301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864" r="4788" b="-1123"/>
          <a:stretch/>
        </p:blipFill>
        <p:spPr>
          <a:xfrm>
            <a:off x="3564000" y="4076640"/>
            <a:ext cx="2879640" cy="278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480" y="773280"/>
            <a:ext cx="2585880" cy="3447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92720" y="393372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66ff"/>
                </a:solidFill>
                <a:uFillTx/>
                <a:latin typeface="Arial"/>
              </a:rPr>
              <a:t>Regan King doing his speech on Wolve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71640" y="2754360"/>
            <a:ext cx="2367000" cy="410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1722600"/>
            <a:ext cx="3708360" cy="2063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99040" y="2665440"/>
            <a:ext cx="3144960" cy="419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692440"/>
            <a:ext cx="3144960" cy="419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Emily Wagstaff doing her speech on Feeling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73400" y="1679400"/>
            <a:ext cx="2766960" cy="1965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2744640" cy="20462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8000" y="289080"/>
            <a:ext cx="9144000" cy="58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here are ou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onderful pr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nner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28342" r="71444" b="0"/>
          <a:stretch/>
        </p:blipFill>
        <p:spPr>
          <a:xfrm>
            <a:off x="3243240" y="2924280"/>
            <a:ext cx="2049480" cy="38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elissa Bath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OURTH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80000" y="3645000"/>
            <a:ext cx="3336840" cy="24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8000" y="351936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311640" cy="29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6142" t="22254" r="40472" b="0"/>
          <a:stretch/>
        </p:blipFill>
        <p:spPr>
          <a:xfrm>
            <a:off x="3419640" y="2852640"/>
            <a:ext cx="2226960" cy="388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Hillier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THIR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6000"/>
          </a:blip>
          <a:srcRect l="50639" t="19902" r="27630" b="0"/>
          <a:stretch/>
        </p:blipFill>
        <p:spPr>
          <a:xfrm>
            <a:off x="4035600" y="2708280"/>
            <a:ext cx="1473120" cy="40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546360" cy="3546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80000" y="2852640"/>
            <a:ext cx="2824200" cy="386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ctoria Thirlwall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SECOND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337500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54880" y="2852640"/>
            <a:ext cx="1257120" cy="386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>
            <a:lum bright="6000"/>
          </a:blip>
          <a:srcRect l="68652" t="12820" r="2391" b="0"/>
          <a:stretch/>
        </p:blipFill>
        <p:spPr>
          <a:xfrm>
            <a:off x="3630600" y="2852640"/>
            <a:ext cx="1725480" cy="3899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76360" y="128520"/>
            <a:ext cx="802800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gratulations 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ly Wagstaff f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ing FIRST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2276640"/>
            <a:ext cx="85690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oys and girls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4000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87640" y="4578480"/>
            <a:ext cx="3075120" cy="230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08000" y="333360"/>
            <a:ext cx="896616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..and good luck to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mily Wagstaff whe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he goes to represent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ellons Bay in the interschool competition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bright="6000"/>
          </a:blip>
          <a:stretch/>
        </p:blipFill>
        <p:spPr>
          <a:xfrm rot="1393800">
            <a:off x="5795640" y="3357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lum bright="6000"/>
          </a:blip>
          <a:stretch/>
        </p:blipFill>
        <p:spPr>
          <a:xfrm rot="20287200">
            <a:off x="360360" y="3357360"/>
            <a:ext cx="2987640" cy="2241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189000"/>
            <a:ext cx="83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anks so much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 watching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33336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COME TO TH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EAR 6 SPEECH FINALS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214720" cy="300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2160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43640" y="3497400"/>
            <a:ext cx="2365560" cy="1528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00"/>
                </a:solidFill>
                <a:latin typeface="Arial"/>
              </a:rPr>
              <a:t>FIRST OF ALL MR GIBBS INTRODUCED OUR WONDERFUL CONTESTANTS WHO ARE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3000" fill="hold"/>
                                        <p:tgtEl>
                                          <p:spTgt spid="47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02440" y="1628640"/>
            <a:ext cx="2762280" cy="522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306960" cy="50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 u="sng">
                <a:solidFill>
                  <a:srgbClr val="0066ff"/>
                </a:solidFill>
                <a:uFillTx/>
                <a:latin typeface="Arial"/>
              </a:rPr>
              <a:t>Shuxian Koh doing her speech on How To Live A Happy Lif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67280" y="19080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08360" y="3749760"/>
            <a:ext cx="2212920" cy="27748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719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508720" y="4273560"/>
            <a:ext cx="3456000" cy="25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Melissa Bather doing her speech on Sea Pollu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435640" y="1614600"/>
            <a:ext cx="3672000" cy="25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9280" y="4262400"/>
            <a:ext cx="3384720" cy="2622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Victoria Thirlwall doing her speech on School, What’s In It For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357800"/>
            <a:ext cx="2736720" cy="245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705640" y="1700280"/>
            <a:ext cx="3187440" cy="4249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23120" y="836640"/>
            <a:ext cx="268596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360" y="836640"/>
            <a:ext cx="262116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66ff"/>
                </a:solidFill>
                <a:uFillTx/>
                <a:latin typeface="Arial"/>
              </a:rPr>
              <a:t>Emily Hillier doing her speech on Excus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287964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10080" y="1484280"/>
            <a:ext cx="1969920" cy="280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394344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66ff"/>
                </a:solidFill>
                <a:uFillTx/>
                <a:latin typeface="Arial"/>
              </a:rPr>
              <a:t>Madi Page doing her speech on Embarrass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17301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27840" y="836640"/>
            <a:ext cx="1935000" cy="3087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55:44Z</dcterms:created>
  <dc:creator>Administrator</dc:creator>
  <dc:description/>
  <dc:language>en-US</dc:language>
  <cp:lastModifiedBy>Administrator</cp:lastModifiedBy>
  <dcterms:modified xsi:type="dcterms:W3CDTF">2008-09-26T02:25:42Z</dcterms:modified>
  <cp:revision>18</cp:revision>
  <dc:subject/>
  <dc:title>Slide 1</dc:title>
</cp:coreProperties>
</file>