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jpeg" ContentType="image/jpeg"/>
  <Override PartName="/ppt/media/image29.wmf" ContentType="image/x-wm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7.jpeg" ContentType="image/jpeg"/>
  <Override PartName="/ppt/media/image45.wmf" ContentType="image/x-wmf"/>
  <Override PartName="/ppt/media/image49.gif" ContentType="image/gif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3.gif" ContentType="image/gif"/>
  <Override PartName="/ppt/media/image4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55.wmf" ContentType="image/x-wmf"/>
  <Override PartName="/ppt/media/image8.gif" ContentType="image/gif"/>
  <Override PartName="/ppt/media/image26.jpeg" ContentType="image/jpeg"/>
  <Override PartName="/ppt/media/image52.gif" ContentType="image/gif"/>
  <Override PartName="/ppt/media/image40.wmf" ContentType="image/x-wmf"/>
  <Override PartName="/ppt/media/image34.jpeg" ContentType="image/jpeg"/>
  <Override PartName="/ppt/media/image10.jpeg" ContentType="image/jpeg"/>
  <Override PartName="/ppt/media/image35.jpeg" ContentType="image/jpeg"/>
  <Override PartName="/ppt/media/image50.wmf" ContentType="image/x-wmf"/>
  <Override PartName="/ppt/media/image54.gif" ContentType="image/gif"/>
  <Override PartName="/ppt/media/image36.gif" ContentType="image/gif"/>
  <Override PartName="/ppt/media/image39.jpeg" ContentType="image/jpeg"/>
  <Override PartName="/ppt/media/image41.gif" ContentType="image/gif"/>
  <Override PartName="/ppt/media/image44.wmf" ContentType="image/x-wmf"/>
  <Override PartName="/ppt/media/image43.jpeg" ContentType="image/jpeg"/>
  <Override PartName="/ppt/media/image46.jpeg" ContentType="image/jpeg"/>
  <Override PartName="/ppt/media/image47.gif" ContentType="image/gif"/>
  <Override PartName="/ppt/media/image37.wmf" ContentType="image/x-wmf"/>
  <Override PartName="/ppt/media/image30.jpeg" ContentType="image/jpeg"/>
  <Override PartName="/ppt/media/image56.jpeg" ContentType="image/jpeg"/>
  <Override PartName="/ppt/media/image33.wmf" ContentType="image/x-wmf"/>
  <Override PartName="/ppt/media/image31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27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16E-E476-4523-907C-5A7C856E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C1C-065F-4CD6-BA0A-89CCB14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60A-30B6-4B4C-8147-7477D6FA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7D2-B61D-4FD1-BE97-BF5DC4F3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BD8-0DA0-41DA-8EF0-5B392F80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11F-C559-4A8B-84E2-D09AA00D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A72-26E4-4918-BD96-97680491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C30-6158-48F6-8524-ADB5C9D7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D82-FB13-45D0-A44B-07B9C895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195-24A6-48AD-AE97-1A11A3F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76C-76CE-48A1-8A4F-DCD7025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33A-A205-42D3-93D5-B5F70240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5C9-151E-47C8-AD90-17EC27F2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206800"/>
            <a:ext cx="878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dies and gentlemen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41840" cy="37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76720" y="3773520"/>
            <a:ext cx="3959280" cy="29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Bradley Hosking doing his speech on The Abyss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200" y="5157720"/>
            <a:ext cx="3313440" cy="1663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9076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016000"/>
            <a:ext cx="1944720" cy="484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Ella Macleod doing her speech on What’s Really In Our Foo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56000" y="1577880"/>
            <a:ext cx="35287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37636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576600" cy="472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Maia Mclean doing her speech on Reincarna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48280" y="1488960"/>
            <a:ext cx="1863720" cy="301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864" r="4788" b="-1123"/>
          <a:stretch/>
        </p:blipFill>
        <p:spPr>
          <a:xfrm>
            <a:off x="3564000" y="4076640"/>
            <a:ext cx="2879640" cy="278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480" y="773280"/>
            <a:ext cx="2585880" cy="344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Regan King doing his speech on Wolv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71640" y="2754360"/>
            <a:ext cx="2367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722600"/>
            <a:ext cx="3708360" cy="2063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99040" y="2665440"/>
            <a:ext cx="3144960" cy="41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3144960" cy="419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Emily Wagstaff doing her speech on Feeling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73400" y="1679400"/>
            <a:ext cx="2766960" cy="196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744640" cy="2046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8000" y="289080"/>
            <a:ext cx="914400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here are ou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nderful pr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ner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8342" r="71444" b="0"/>
          <a:stretch/>
        </p:blipFill>
        <p:spPr>
          <a:xfrm>
            <a:off x="3243240" y="2924280"/>
            <a:ext cx="2049480" cy="38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lissa Bath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OURTH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336840" cy="24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3519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311640" cy="29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6142" t="22254" r="40472" b="0"/>
          <a:stretch/>
        </p:blipFill>
        <p:spPr>
          <a:xfrm>
            <a:off x="3419640" y="2852640"/>
            <a:ext cx="222696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Hilli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THIR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50639" t="19902" r="27630" b="0"/>
          <a:stretch/>
        </p:blipFill>
        <p:spPr>
          <a:xfrm>
            <a:off x="4035600" y="2708280"/>
            <a:ext cx="1473120" cy="40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546360" cy="354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824200" cy="386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ctoria Thirlwall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SECON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337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54880" y="2852640"/>
            <a:ext cx="1257120" cy="38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>
            <a:lum bright="6000"/>
          </a:blip>
          <a:srcRect l="68652" t="12820" r="2391" b="0"/>
          <a:stretch/>
        </p:blipFill>
        <p:spPr>
          <a:xfrm>
            <a:off x="3630600" y="2852640"/>
            <a:ext cx="1725480" cy="389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Wagstaff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IRST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2276640"/>
            <a:ext cx="8569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oys and girls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4578480"/>
            <a:ext cx="30751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8000" y="333360"/>
            <a:ext cx="896616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and good luck 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Wagstaff whe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e goes to represen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llons Bay in the interschool competition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 rot="1393800">
            <a:off x="5795640" y="3357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 rot="20287200">
            <a:off x="360360" y="3357360"/>
            <a:ext cx="2987640" cy="224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89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s so much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watching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33336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 TO TH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AR 6 SPEECH FINALS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214720" cy="300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3497400"/>
            <a:ext cx="2365560" cy="1528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00"/>
                </a:solidFill>
                <a:latin typeface="Arial"/>
              </a:rPr>
              <a:t>FIRST OF ALL MR GIBBS INTRODUCED OUR WONDERFUL CONTESTANTS WHO ARE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2440" y="1628640"/>
            <a:ext cx="2762280" cy="522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0696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Shuxian Koh doing her speech on How To Live A Happy Lif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67280" y="19080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08360" y="3749760"/>
            <a:ext cx="2212920" cy="2774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508720" y="4273560"/>
            <a:ext cx="3456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elissa Bather doing her speech on Sea Pollu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161460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4262400"/>
            <a:ext cx="3384720" cy="2622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Victoria Thirlwall doing her speech on School, What’s In It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357800"/>
            <a:ext cx="2736720" cy="24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05640" y="1700280"/>
            <a:ext cx="3187440" cy="424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3120" y="836640"/>
            <a:ext cx="268596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360" y="836640"/>
            <a:ext cx="26211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Emily Hillier doing her speech on Excus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87964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10080" y="1484280"/>
            <a:ext cx="1969920" cy="280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94344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Madi Page doing her speech on Embarra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7301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27840" y="836640"/>
            <a:ext cx="1935000" cy="3087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5:44Z</dcterms:created>
  <dc:creator>Administrator</dc:creator>
  <dc:description/>
  <dc:language>en-US</dc:language>
  <cp:lastModifiedBy>Administrator</cp:lastModifiedBy>
  <dcterms:modified xsi:type="dcterms:W3CDTF">2008-09-26T02:25:42Z</dcterms:modified>
  <cp:revision>18</cp:revision>
  <dc:subject/>
  <dc:title>Slide 1</dc:title>
</cp:coreProperties>
</file>