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3.gif" ContentType="image/gif"/>
  <Override PartName="/ppt/media/image26.gif" ContentType="image/gif"/>
  <Override PartName="/ppt/media/image12.jpeg" ContentType="image/jpeg"/>
  <Override PartName="/ppt/media/image7.jpeg" ContentType="image/jpeg"/>
  <Override PartName="/ppt/media/image24.png" ContentType="image/png"/>
  <Override PartName="/ppt/media/image23.jpeg" ContentType="image/jpeg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9.wmf" ContentType="image/x-wmf"/>
  <Override PartName="/ppt/media/image28.gif" ContentType="image/gif"/>
  <Override PartName="/ppt/media/image14.jpeg" ContentType="image/jpeg"/>
  <Override PartName="/ppt/media/image15.jpeg" ContentType="image/jpe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060-82B8-4BB5-83E0-EE6D98A2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09F-97E8-40BB-AEAF-5F7061A6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602-1AE6-4604-A566-49971735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DCF-1098-4945-B24D-9240F3BB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4A5-006D-4906-825C-F20A0B85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005-5BD1-4BE8-BC1D-F9CD28AD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366-C96F-49A8-A17E-9B2CBB72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31B-5F2B-46B1-AE03-72C94ADE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5A9-3728-4ED8-A85D-6E5C048F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23D-1206-4BBD-8880-F666548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D3E-4661-4ACF-A21A-7C4DE8B9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0BB-F93B-4D89-88D0-C77B33F1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A67D-86DF-47EF-B6C4-ECF647F65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738760" cy="430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03640" y="98100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 Payn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373720"/>
            <a:ext cx="806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y Juggling a soccer ball is a ski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308480" cy="3232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556000" y="836640"/>
            <a:ext cx="39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3640" y="5013360"/>
            <a:ext cx="6697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the olympic gam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797280" cy="284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627280" y="692280"/>
            <a:ext cx="31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icholas Ho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486900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nry VlIl and his chopping bl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 advTm="6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2930400"/>
            <a:ext cx="5235840" cy="392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4587840" cy="344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411280" y="3860640"/>
            <a:ext cx="540072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ile our Judges were deliberating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r audienc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ited patient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69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istral"/>
              </a:rPr>
              <a:t>And the results were finally he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2808360" cy="257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887560" cy="3049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4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5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6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92360" y="981000"/>
            <a:ext cx="554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getting 3r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63640" y="1052640"/>
            <a:ext cx="52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 getting 2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794040" cy="2846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751640" cy="356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68360" y="981000"/>
            <a:ext cx="56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Congratulations Ben Payn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getting 1s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979640" y="476280"/>
            <a:ext cx="443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for watching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70011" t="21027" r="0" b="0"/>
          <a:stretch/>
        </p:blipFill>
        <p:spPr>
          <a:xfrm>
            <a:off x="5148360" y="2565360"/>
            <a:ext cx="1542960" cy="304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41094" t="0" r="26938" b="0"/>
          <a:stretch/>
        </p:blipFill>
        <p:spPr>
          <a:xfrm>
            <a:off x="1619280" y="1916280"/>
            <a:ext cx="1666800" cy="381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58907" b="0"/>
          <a:stretch/>
        </p:blipFill>
        <p:spPr>
          <a:xfrm>
            <a:off x="3276720" y="1773360"/>
            <a:ext cx="1944720" cy="35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76720" y="5157720"/>
            <a:ext cx="1942920" cy="17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547640" y="5516640"/>
            <a:ext cx="1872000" cy="134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003640" y="5562720"/>
            <a:ext cx="15843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65530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Shuxian From News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74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600" spc="-1" strike="noStrike">
                <a:solidFill>
                  <a:srgbClr val="89e9ff"/>
                </a:solidFill>
                <a:latin typeface="Curlz MT"/>
              </a:rPr>
              <a:t>Year 5 speech final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03688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4005360"/>
            <a:ext cx="1860840" cy="285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3280" y="4222800"/>
            <a:ext cx="2614680" cy="169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49360"/>
            <a:ext cx="7993080" cy="79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1ff11"/>
                </a:solidFill>
                <a:latin typeface="Curlz MT"/>
              </a:rPr>
              <a:t>Here are our Contestant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3416040" cy="544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56000" y="620640"/>
            <a:ext cx="3600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mes Brow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5445000"/>
            <a:ext cx="738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Great Great Aunt Kathle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71640" y="1125360"/>
            <a:ext cx="309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3816360" cy="36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58920" y="4148280"/>
            <a:ext cx="3960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ration Chang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5022720" cy="426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700360" y="404640"/>
            <a:ext cx="4103640" cy="9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Reuben Cl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76360" y="5229360"/>
            <a:ext cx="63356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noying brothers and sis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6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05280" cy="3605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3703320" cy="414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1450000">
            <a:off x="2922480" y="60300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aitlin Smi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5013360"/>
            <a:ext cx="2881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-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Vegetab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re O.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20572200">
            <a:off x="2268000" y="907920"/>
            <a:ext cx="51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ames Paranthoie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 rot="20944200">
            <a:off x="2411280" y="5373360"/>
            <a:ext cx="4032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y Little Broth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100560" cy="457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58920" y="5013360"/>
            <a:ext cx="585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n we had a strech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549360"/>
            <a:ext cx="7175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r Graham asked us some 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1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9:20Z</dcterms:created>
  <dc:creator>Administrator</dc:creator>
  <dc:description/>
  <dc:language>en-US</dc:language>
  <cp:lastModifiedBy>Administrator</cp:lastModifiedBy>
  <dcterms:modified xsi:type="dcterms:W3CDTF">2008-09-26T02:24:40Z</dcterms:modified>
  <cp:revision>14</cp:revision>
  <dc:subject/>
  <dc:title>Slide 1</dc:title>
</cp:coreProperties>
</file>