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5.jpeg" ContentType="image/jpeg"/>
  <Override PartName="/ppt/media/image3.gif" ContentType="image/gif"/>
  <Override PartName="/ppt/media/image26.gif" ContentType="image/gif"/>
  <Override PartName="/ppt/media/image12.jpeg" ContentType="image/jpeg"/>
  <Override PartName="/ppt/media/image7.jpeg" ContentType="image/jpeg"/>
  <Override PartName="/ppt/media/image24.png" ContentType="image/png"/>
  <Override PartName="/ppt/media/image23.jpeg" ContentType="image/jpeg"/>
  <Override PartName="/ppt/media/image27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9.wmf" ContentType="image/x-wmf"/>
  <Override PartName="/ppt/media/image28.gif" ContentType="image/gif"/>
  <Override PartName="/ppt/media/image14.jpeg" ContentType="image/jpeg"/>
  <Override PartName="/ppt/media/image15.jpeg" ContentType="image/jpe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70A-040A-4D1A-9725-85A8B003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672-7CE9-4FA2-BF03-E34FDAC0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A6B-2C2D-4008-AD5D-61FB29E2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501-4082-41C3-9A82-6E643B0D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FA6-4D38-40FC-9CA0-BFBEFA4E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6E0-F66E-442E-BF93-6A1D48F8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752-C20F-4240-BB75-2FB9EE9F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726-F1F2-4E69-B669-2DC4948E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973-9E77-4BCD-B09A-96D68B45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9C9-BF5E-48F7-9C55-B7F50176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C78-BD55-44BA-9B65-18315169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4FD-D4F5-4639-AF0D-F2A74B1F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79B5-5464-4D85-B64E-1DF05C9F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738760" cy="4305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03640" y="98100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 Payn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373720"/>
            <a:ext cx="806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y Juggling a soccer ball is a skil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308480" cy="3232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556000" y="836640"/>
            <a:ext cx="39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3640" y="5013360"/>
            <a:ext cx="6697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y of the olympic gam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797280" cy="284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627280" y="692280"/>
            <a:ext cx="31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icholas Ho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486900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enry VlIl and his chopping bl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 advTm="6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2930400"/>
            <a:ext cx="5235840" cy="392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4587840" cy="344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411280" y="3860640"/>
            <a:ext cx="5400720" cy="28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ile our Judges were deliberating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r audienc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aited patientl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69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istral"/>
              </a:rPr>
              <a:t>And the results were finally he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2808360" cy="2579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2887560" cy="3049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4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5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6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92360" y="981000"/>
            <a:ext cx="554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getting 3r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63640" y="1052640"/>
            <a:ext cx="525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r getting 2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3794040" cy="2846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4751640" cy="3562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268360" y="981000"/>
            <a:ext cx="56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 Congratulations Ben Payn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 getting 1st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979640" y="476280"/>
            <a:ext cx="4438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 for watching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70011" t="21027" r="0" b="0"/>
          <a:stretch/>
        </p:blipFill>
        <p:spPr>
          <a:xfrm>
            <a:off x="5148360" y="2565360"/>
            <a:ext cx="1542960" cy="304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41094" t="0" r="26938" b="0"/>
          <a:stretch/>
        </p:blipFill>
        <p:spPr>
          <a:xfrm>
            <a:off x="1619280" y="1916280"/>
            <a:ext cx="1666800" cy="381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0" t="0" r="58907" b="0"/>
          <a:stretch/>
        </p:blipFill>
        <p:spPr>
          <a:xfrm>
            <a:off x="3276720" y="1773360"/>
            <a:ext cx="1944720" cy="354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76720" y="5157720"/>
            <a:ext cx="1942920" cy="17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547640" y="5516640"/>
            <a:ext cx="1872000" cy="1341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003640" y="5562720"/>
            <a:ext cx="15843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88000" y="65530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Shuxian From News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74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600" spc="-1" strike="noStrike">
                <a:solidFill>
                  <a:srgbClr val="89e9ff"/>
                </a:solidFill>
                <a:latin typeface="Curlz MT"/>
              </a:rPr>
              <a:t>Year 5 speech finals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036880" cy="1390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4005360"/>
            <a:ext cx="1860840" cy="285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03280" y="4222800"/>
            <a:ext cx="2614680" cy="169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549360"/>
            <a:ext cx="7993080" cy="79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1ff11"/>
                </a:solidFill>
                <a:latin typeface="Curlz MT"/>
              </a:rPr>
              <a:t>Here are our Contestant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3416040" cy="544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56000" y="620640"/>
            <a:ext cx="3600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ames Brow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640" y="5445000"/>
            <a:ext cx="738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y Great Great Aunt Kathle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3887640" cy="3079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771640" y="1125360"/>
            <a:ext cx="309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3816360" cy="366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258920" y="4148280"/>
            <a:ext cx="3960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ration Chang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5022720" cy="4268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700360" y="404640"/>
            <a:ext cx="4103640" cy="9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Reuben Cl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76360" y="5229360"/>
            <a:ext cx="63356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noying brothers and sis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6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805280" cy="3605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00720" y="2565360"/>
            <a:ext cx="3703320" cy="414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1450000">
            <a:off x="2922480" y="60300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aitlin Smi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00000" y="5013360"/>
            <a:ext cx="2881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-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Vegetab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re O.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524560" cy="414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20572200">
            <a:off x="2268000" y="907920"/>
            <a:ext cx="51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ames Paranthoie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 rot="20944200">
            <a:off x="2411280" y="5373360"/>
            <a:ext cx="40323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y Little Broth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100560" cy="457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258920" y="5013360"/>
            <a:ext cx="585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n we had a strech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549360"/>
            <a:ext cx="7175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r Graham asked us some 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19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set>
                                      <p:cBhvr>
                                        <p:cTn id="4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9:20Z</dcterms:created>
  <dc:creator>Administrator</dc:creator>
  <dc:description/>
  <dc:language>en-US</dc:language>
  <cp:lastModifiedBy>Administrator</cp:lastModifiedBy>
  <dcterms:modified xsi:type="dcterms:W3CDTF">2008-09-26T02:24:40Z</dcterms:modified>
  <cp:revision>14</cp:revision>
  <dc:subject/>
  <dc:title>Slide 1</dc:title>
</cp:coreProperties>
</file>