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20.wmf" ContentType="image/x-wmf"/>
  <Override PartName="/ppt/media/image4.jpeg" ContentType="image/jpeg"/>
  <Override PartName="/ppt/media/image25.jpeg" ContentType="image/jpeg"/>
  <Override PartName="/ppt/media/image3.gif" ContentType="image/gif"/>
  <Override PartName="/ppt/media/image26.gif" ContentType="image/gif"/>
  <Override PartName="/ppt/media/image12.jpeg" ContentType="image/jpeg"/>
  <Override PartName="/ppt/media/image7.jpeg" ContentType="image/jpeg"/>
  <Override PartName="/ppt/media/image24.png" ContentType="image/png"/>
  <Override PartName="/ppt/media/image23.jpeg" ContentType="image/jpeg"/>
  <Override PartName="/ppt/media/image27.gif" ContentType="image/gif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9.wmf" ContentType="image/x-wmf"/>
  <Override PartName="/ppt/media/image28.gif" ContentType="image/gif"/>
  <Override PartName="/ppt/media/image14.jpeg" ContentType="image/jpeg"/>
  <Override PartName="/ppt/media/image15.jpeg" ContentType="image/jpeg"/>
  <Override PartName="/ppt/media/image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9B20-7239-4F57-8AAE-F7D0198E4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0C37-A2F2-4BCA-B519-F103A798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9758-A09B-4C28-81CA-D9023193A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0AE8-D9D9-49BB-949F-76969FD96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3D94-0155-4613-A0FD-41245F4C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1398-4F5A-45A1-8CCF-BBF4B45B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DF61-687B-4914-996D-4DDDEFFE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EF37-EA04-4F24-BB35-C5966F46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2971-78B7-4658-88C1-E030DEA7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834C-2CA2-4339-9144-98C82AF4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E030-6349-4D03-9864-BBB15A7F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5941-C7A7-4E5A-8748-B6A4530A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CEB0-E4A6-475A-908A-40727DF94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image" Target="../media/image26.gif"/><Relationship Id="rId6" Type="http://schemas.openxmlformats.org/officeDocument/2006/relationships/image" Target="../media/image27.gif"/><Relationship Id="rId7" Type="http://schemas.openxmlformats.org/officeDocument/2006/relationships/image" Target="../media/image28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5738760" cy="43052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3203640" y="981000"/>
            <a:ext cx="2879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en Payn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5280" y="5373720"/>
            <a:ext cx="80661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hy Juggling a soccer ball is a skil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600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95640" y="1844640"/>
            <a:ext cx="4308480" cy="3232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2556000" y="836640"/>
            <a:ext cx="3960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ameron Low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763640" y="5013360"/>
            <a:ext cx="66978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istory of the olympic gam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6000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3797280" cy="28479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2627280" y="692280"/>
            <a:ext cx="3168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Nicholas How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4869000"/>
            <a:ext cx="8280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Henry VlIl and his chopping blo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 spd="slow" advTm="6000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547640" y="2930400"/>
            <a:ext cx="5235840" cy="3927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716360" y="1197000"/>
            <a:ext cx="4176720" cy="3132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68360" y="260280"/>
            <a:ext cx="4587840" cy="3441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2411280" y="3860640"/>
            <a:ext cx="5400720" cy="287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hile our Judges were deliberating,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our audience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aited patiently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7000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11280" y="692280"/>
            <a:ext cx="691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Mistral"/>
              </a:rPr>
              <a:t>And the results were finally here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2808360" cy="25797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35640" y="2492280"/>
            <a:ext cx="2887560" cy="30495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newsflash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000" autoRev="1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23,-119)"/>
                                      </p:to>
                                    </p:set>
                                    <p:set>
                                      <p:cBhvr>
                                        <p:cTn id="64" dur="1000" autoRev="1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23,-119)"/>
                                      </p:to>
                                    </p:set>
                                    <p:set>
                                      <p:cBhvr>
                                        <p:cTn id="65" dur="1000" autoRev="1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69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692360" y="981000"/>
            <a:ext cx="5545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ameron Low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r getting 3r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56000" y="3068640"/>
            <a:ext cx="4392360" cy="3294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763640" y="1052640"/>
            <a:ext cx="5256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ngratulation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illy Clark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or getting 2nd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843280" y="3500280"/>
            <a:ext cx="3794040" cy="28465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124000" y="2781360"/>
            <a:ext cx="4751640" cy="3562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268360" y="981000"/>
            <a:ext cx="5688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nd Congratulations Ben Payne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99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or getting 1st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99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6000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484360" y="981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979640" y="476280"/>
            <a:ext cx="4438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nk you for watching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rcRect l="70011" t="21027" r="0" b="0"/>
          <a:stretch/>
        </p:blipFill>
        <p:spPr>
          <a:xfrm>
            <a:off x="5148360" y="2565360"/>
            <a:ext cx="1542960" cy="3046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rcRect l="41094" t="0" r="26938" b="0"/>
          <a:stretch/>
        </p:blipFill>
        <p:spPr>
          <a:xfrm>
            <a:off x="1619280" y="1916280"/>
            <a:ext cx="1666800" cy="3817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rcRect l="0" t="0" r="58907" b="0"/>
          <a:stretch/>
        </p:blipFill>
        <p:spPr>
          <a:xfrm>
            <a:off x="3276720" y="1773360"/>
            <a:ext cx="1944720" cy="3549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3276720" y="5157720"/>
            <a:ext cx="1942920" cy="1700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1547640" y="5516640"/>
            <a:ext cx="1872000" cy="1341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5003640" y="5562720"/>
            <a:ext cx="1584360" cy="129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588000" y="655308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Shuxian From News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lus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4745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000" y="115920"/>
            <a:ext cx="8856720" cy="63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600" spc="-1" strike="noStrike">
                <a:solidFill>
                  <a:srgbClr val="89e9ff"/>
                </a:solidFill>
                <a:latin typeface="Curlz MT"/>
              </a:rPr>
              <a:t>Year 5 speech finals</a:t>
            </a:r>
            <a:endParaRPr b="0" lang="en-US" sz="1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635280" y="4581360"/>
            <a:ext cx="2036880" cy="1390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588000" y="4005360"/>
            <a:ext cx="1860840" cy="2852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03280" y="4222800"/>
            <a:ext cx="2614680" cy="16905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9640" y="549360"/>
            <a:ext cx="7993080" cy="79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11ff11"/>
                </a:solidFill>
                <a:latin typeface="Curlz MT"/>
              </a:rPr>
              <a:t>Here are our Contestants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56000" y="765000"/>
            <a:ext cx="3416040" cy="5445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2556000" y="620640"/>
            <a:ext cx="3600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James Brow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71640" y="5445000"/>
            <a:ext cx="7381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y Great Great Aunt Kathlee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3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3887640" cy="3079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771640" y="1125360"/>
            <a:ext cx="309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illy Clark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140360" y="2421000"/>
            <a:ext cx="3816360" cy="3665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1258920" y="4148280"/>
            <a:ext cx="3960720" cy="12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eneration Change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5000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76360" y="1052640"/>
            <a:ext cx="5022720" cy="4268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2700360" y="404640"/>
            <a:ext cx="4103640" cy="99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Reuben Clar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476360" y="5229360"/>
            <a:ext cx="633564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Annoying brothers and siste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slow" advTm="6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4805280" cy="3605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00720" y="2565360"/>
            <a:ext cx="3703320" cy="4143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 rot="21450000">
            <a:off x="2922480" y="603000"/>
            <a:ext cx="316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Caitlin Smith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00000" y="5013360"/>
            <a:ext cx="28814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0"/>
                <a:gd name="adj2" fmla="val -7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Vegetabl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are O.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5000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5524560" cy="4143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 rot="20572200">
            <a:off x="2268000" y="907920"/>
            <a:ext cx="5185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470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James Paranthoie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62" name=""/>
          <p:cNvSpPr txBox="1"/>
          <p:nvPr/>
        </p:nvSpPr>
        <p:spPr>
          <a:xfrm rot="20944200">
            <a:off x="2411280" y="5373360"/>
            <a:ext cx="4032360" cy="11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My Little Brothe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p:transition spd="slow" advTm="6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58920" y="1197000"/>
            <a:ext cx="6100560" cy="4575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258920" y="5013360"/>
            <a:ext cx="585144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n we had a strech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39640" y="549360"/>
            <a:ext cx="71755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Mr Graham asked us some ques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slow" advTm="19000">
    <p:wipe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1ff11"/>
                                      </p:to>
                                    </p:animClr>
                                    <p:animClr clrSpc="rgb">
                                      <p:cBhvr>
                                        <p:cTn id="4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11ff11"/>
                                      </p:to>
                                    </p:animClr>
                                    <p:set>
                                      <p:cBhvr>
                                        <p:cTn id="45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5000" fill="hold"/>
                                        <p:tgtEl>
                                          <p:spTgt spid="63"/>
                                        </p:tgtEl>
                                      </p:cBhvr>
                                      <p:to x="-0" y="-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1:59:20Z</dcterms:created>
  <dc:creator>Administrator</dc:creator>
  <dc:description/>
  <dc:language>en-US</dc:language>
  <cp:lastModifiedBy>Administrator</cp:lastModifiedBy>
  <dcterms:modified xsi:type="dcterms:W3CDTF">2008-09-26T02:24:40Z</dcterms:modified>
  <cp:revision>14</cp:revision>
  <dc:subject/>
  <dc:title>Slide 1</dc:title>
</cp:coreProperties>
</file>