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.gif" ContentType="image/gif"/>
  <Override PartName="/ppt/media/image6.jpeg" ContentType="image/jpeg"/>
  <Override PartName="/ppt/media/image5.jpeg" ContentType="image/jpeg"/>
  <Override PartName="/ppt/media/image20.wmf" ContentType="image/x-wmf"/>
  <Override PartName="/ppt/media/image4.jpeg" ContentType="image/jpeg"/>
  <Override PartName="/ppt/media/image25.jpeg" ContentType="image/jpeg"/>
  <Override PartName="/ppt/media/image3.gif" ContentType="image/gif"/>
  <Override PartName="/ppt/media/image26.gif" ContentType="image/gif"/>
  <Override PartName="/ppt/media/image12.jpeg" ContentType="image/jpeg"/>
  <Override PartName="/ppt/media/image7.jpeg" ContentType="image/jpeg"/>
  <Override PartName="/ppt/media/image24.png" ContentType="image/png"/>
  <Override PartName="/ppt/media/image23.jpeg" ContentType="image/jpeg"/>
  <Override PartName="/ppt/media/image27.gif" ContentType="image/gif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18.jpeg" ContentType="image/jpeg"/>
  <Override PartName="/ppt/media/image19.wmf" ContentType="image/x-wmf"/>
  <Override PartName="/ppt/media/image28.gif" ContentType="image/gif"/>
  <Override PartName="/ppt/media/image14.jpeg" ContentType="image/jpeg"/>
  <Override PartName="/ppt/media/image15.jpeg" ContentType="image/jpeg"/>
  <Override PartName="/ppt/media/image1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7155E-97A1-4EF6-94B4-41EA1D522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B8671-CD20-4937-B502-50E645B2D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FBE37-20A3-4B57-B0F5-F1337092E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EEDF0-8B9A-436C-A3D9-0DCD78665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E4C19-4917-442D-A7A9-D3EEA000D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4FC35-4524-482A-BC51-602D5DF88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00655-EDF0-4894-8B8F-9951F294D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9723E-F66F-42E7-A5F0-BF664AC53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D5CDA-5E2A-4F81-ACA9-236132E3F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BB46A-B102-4C44-9BC2-6651D6E8A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F95C6-1893-4B82-97A4-F3D34F8EA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A8078-339B-4FBF-B9F7-74111A62B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57F13-5CC3-4A1F-896A-3B79535546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image" Target="../media/image25.jpeg"/><Relationship Id="rId4" Type="http://schemas.openxmlformats.org/officeDocument/2006/relationships/image" Target="../media/image25.jpeg"/><Relationship Id="rId5" Type="http://schemas.openxmlformats.org/officeDocument/2006/relationships/image" Target="../media/image26.gif"/><Relationship Id="rId6" Type="http://schemas.openxmlformats.org/officeDocument/2006/relationships/image" Target="../media/image27.gif"/><Relationship Id="rId7" Type="http://schemas.openxmlformats.org/officeDocument/2006/relationships/image" Target="../media/image28.gif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8.jpeg"/><Relationship Id="rId4" Type="http://schemas.openxmlformats.org/officeDocument/2006/relationships/image" Target="../media/image8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8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692360" y="1484280"/>
            <a:ext cx="5738760" cy="430524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 txBox="1"/>
          <p:nvPr/>
        </p:nvSpPr>
        <p:spPr>
          <a:xfrm>
            <a:off x="3203640" y="981000"/>
            <a:ext cx="287964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66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Ben Payne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ffff00"/>
                  </a:gs>
                  <a:gs pos="100000">
                    <a:srgbClr val="ff66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395280" y="5373720"/>
            <a:ext cx="806616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66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Why Juggling a soccer ball is a skill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ffff00"/>
                  </a:gs>
                  <a:gs pos="100000">
                    <a:srgbClr val="ff66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slow" advTm="6000">
    <p:randomBa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195640" y="1844640"/>
            <a:ext cx="4308480" cy="32320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 txBox="1"/>
          <p:nvPr/>
        </p:nvSpPr>
        <p:spPr>
          <a:xfrm>
            <a:off x="2556000" y="836640"/>
            <a:ext cx="396072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ameron Low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1763640" y="5013360"/>
            <a:ext cx="669780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History of the olympic games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slow" advTm="6000">
    <p:push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2484360" y="2060640"/>
            <a:ext cx="3797280" cy="28479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 txBox="1"/>
          <p:nvPr/>
        </p:nvSpPr>
        <p:spPr>
          <a:xfrm>
            <a:off x="2627280" y="692280"/>
            <a:ext cx="316872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Nicholas How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68360" y="4869000"/>
            <a:ext cx="828036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Henry VlIl and his chopping block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</p:spTree>
  </p:cSld>
  <p:transition spd="slow" advTm="6000">
    <p:pull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547640" y="2930400"/>
            <a:ext cx="5235840" cy="39276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4716360" y="1197000"/>
            <a:ext cx="4176720" cy="31320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468360" y="260280"/>
            <a:ext cx="4587840" cy="34416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2411280" y="3860640"/>
            <a:ext cx="5400720" cy="287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While our Judges were deliberating,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our audience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waited patiently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slow" advTm="7000">
    <p:diamond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611280" y="692280"/>
            <a:ext cx="6913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Mistral"/>
              </a:rPr>
              <a:t>And the results were finally here…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2411280" y="3645000"/>
            <a:ext cx="2808360" cy="257976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5435640" y="2492280"/>
            <a:ext cx="2887560" cy="304956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newsflash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3" dur="1000" autoRev="1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-23,-119)"/>
                                      </p:to>
                                    </p:set>
                                    <p:set>
                                      <p:cBhvr>
                                        <p:cTn id="64" dur="1000" autoRev="1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-23,-119)"/>
                                      </p:to>
                                    </p:set>
                                    <p:set>
                                      <p:cBhvr>
                                        <p:cTn id="65" dur="1000" autoRev="1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xit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 calcmode="lin" valueType="num" from="(#ppt_w)" to="(-#ppt_w*2)">
                                      <p:cBhvr additive="repl">
                                        <p:cTn id="69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0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1+#ppt_h/2)">
                                      <p:cBhvr additive="repl">
                                        <p:cTn id="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1692360" y="981000"/>
            <a:ext cx="554508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ongratulations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ameron Low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for getting 3rd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2556000" y="3068640"/>
            <a:ext cx="4392360" cy="3294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newsflash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1763640" y="1052640"/>
            <a:ext cx="5256360" cy="20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Congratulations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Milly Clark 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for getting 2nd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2843280" y="3500280"/>
            <a:ext cx="3794040" cy="284652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newsflash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124000" y="2781360"/>
            <a:ext cx="4751640" cy="3562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2268360" y="981000"/>
            <a:ext cx="568836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ff99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And Congratulations Ben Payne 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ffff99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ff99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for getting 1st!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ffff99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slow" advTm="6000">
    <p:newsflash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2484360" y="9810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 txBox="1"/>
          <p:nvPr/>
        </p:nvSpPr>
        <p:spPr>
          <a:xfrm>
            <a:off x="1979640" y="476280"/>
            <a:ext cx="443880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Thank you for watching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rcRect l="70011" t="21027" r="0" b="0"/>
          <a:stretch/>
        </p:blipFill>
        <p:spPr>
          <a:xfrm>
            <a:off x="5148360" y="2565360"/>
            <a:ext cx="1542960" cy="30463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rcRect l="41094" t="0" r="26938" b="0"/>
          <a:stretch/>
        </p:blipFill>
        <p:spPr>
          <a:xfrm>
            <a:off x="1619280" y="1916280"/>
            <a:ext cx="1666800" cy="38178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4"/>
          <a:srcRect l="0" t="0" r="58907" b="0"/>
          <a:stretch/>
        </p:blipFill>
        <p:spPr>
          <a:xfrm>
            <a:off x="3276720" y="1773360"/>
            <a:ext cx="1944720" cy="35496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5"/>
          <a:stretch/>
        </p:blipFill>
        <p:spPr>
          <a:xfrm>
            <a:off x="3276720" y="5157720"/>
            <a:ext cx="1942920" cy="17002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6"/>
          <a:stretch/>
        </p:blipFill>
        <p:spPr>
          <a:xfrm>
            <a:off x="1547640" y="5516640"/>
            <a:ext cx="1872000" cy="13413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7"/>
          <a:stretch/>
        </p:blipFill>
        <p:spPr>
          <a:xfrm>
            <a:off x="5003640" y="5562720"/>
            <a:ext cx="1584360" cy="129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6588000" y="6553080"/>
            <a:ext cx="29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y Shuxian From Newste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plus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9" dur="4745" fill="hold"/>
                                        <p:tgtEl>
                                          <p:spTgt spid="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8000" y="115920"/>
            <a:ext cx="8856720" cy="631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600" spc="-1" strike="noStrike">
                <a:solidFill>
                  <a:srgbClr val="89e9ff"/>
                </a:solidFill>
                <a:latin typeface="Curlz MT"/>
              </a:rPr>
              <a:t>Year 5 speech finals</a:t>
            </a:r>
            <a:endParaRPr b="0" lang="en-US" sz="1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635280" y="4581360"/>
            <a:ext cx="2036880" cy="13906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588000" y="4005360"/>
            <a:ext cx="1860840" cy="28526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503280" y="4222800"/>
            <a:ext cx="2614680" cy="169056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xit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5" dur="5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1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1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39640" y="549360"/>
            <a:ext cx="7993080" cy="79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900" spc="-1" strike="noStrike">
                <a:solidFill>
                  <a:srgbClr val="11ff11"/>
                </a:solidFill>
                <a:latin typeface="Curlz MT"/>
              </a:rPr>
              <a:t>Here are our Contestants</a:t>
            </a: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wheel spokes="8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7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8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9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30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4" dur="80"/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" dur="80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80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556000" y="765000"/>
            <a:ext cx="3416040" cy="54453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 txBox="1"/>
          <p:nvPr/>
        </p:nvSpPr>
        <p:spPr>
          <a:xfrm>
            <a:off x="2556000" y="620640"/>
            <a:ext cx="360036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James Brown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971640" y="5445000"/>
            <a:ext cx="738180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My Great Great Aunt Kathleen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slow" advTm="3000"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258920" y="1557360"/>
            <a:ext cx="3887640" cy="30798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 txBox="1"/>
          <p:nvPr/>
        </p:nvSpPr>
        <p:spPr>
          <a:xfrm>
            <a:off x="2771640" y="1125360"/>
            <a:ext cx="30956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Milly Clark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4140360" y="2421000"/>
            <a:ext cx="3816360" cy="36655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 txBox="1"/>
          <p:nvPr/>
        </p:nvSpPr>
        <p:spPr>
          <a:xfrm>
            <a:off x="1258920" y="4148280"/>
            <a:ext cx="3960720" cy="1244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Generation Changes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ransition spd="slow" advTm="5000"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476360" y="1052640"/>
            <a:ext cx="5022720" cy="42685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 txBox="1"/>
          <p:nvPr/>
        </p:nvSpPr>
        <p:spPr>
          <a:xfrm>
            <a:off x="2700360" y="404640"/>
            <a:ext cx="4103640" cy="99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 Black"/>
              </a:rPr>
              <a:t>Reuben Clark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1476360" y="5229360"/>
            <a:ext cx="6335640" cy="99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 Black"/>
              </a:rPr>
              <a:t>Annoying brothers and sister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  <p:transition spd="slow" advTm="6000"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95280" y="765000"/>
            <a:ext cx="4805280" cy="36054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500720" y="2565360"/>
            <a:ext cx="3703320" cy="41432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 txBox="1"/>
          <p:nvPr/>
        </p:nvSpPr>
        <p:spPr>
          <a:xfrm rot="21450000">
            <a:off x="2922480" y="603000"/>
            <a:ext cx="31687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Arial Black"/>
              </a:rPr>
              <a:t>Caitlin Smith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900000" y="5013360"/>
            <a:ext cx="288144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0"/>
                <a:gd name="adj2" fmla="val -76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Arial Black"/>
              </a:rPr>
              <a:t>Vegetables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Arial Black"/>
              </a:rPr>
              <a:t>are O.k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 advTm="5000">
    <p:comb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619280" y="1341360"/>
            <a:ext cx="5524560" cy="4143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 txBox="1"/>
          <p:nvPr/>
        </p:nvSpPr>
        <p:spPr>
          <a:xfrm rot="20572200">
            <a:off x="2268000" y="907920"/>
            <a:ext cx="518508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4708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James Paranthoien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  <p:sp>
        <p:nvSpPr>
          <p:cNvPr id="62" name=""/>
          <p:cNvSpPr txBox="1"/>
          <p:nvPr/>
        </p:nvSpPr>
        <p:spPr>
          <a:xfrm rot="20944200">
            <a:off x="2411280" y="5373360"/>
            <a:ext cx="4032360" cy="1119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My Little Brother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</p:spTree>
  </p:cSld>
  <p:transition spd="slow" advTm="6000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258920" y="1197000"/>
            <a:ext cx="6100560" cy="45752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 txBox="1"/>
          <p:nvPr/>
        </p:nvSpPr>
        <p:spPr>
          <a:xfrm>
            <a:off x="1258920" y="5013360"/>
            <a:ext cx="5851440" cy="158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Then we had a strech</a:t>
            </a:r>
            <a:endParaRPr b="1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539640" y="549360"/>
            <a:ext cx="717552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 Black"/>
              </a:rPr>
              <a:t>Mr Graham asked us some question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  <p:transition spd="slow" advTm="19000">
    <p:wipe dir="r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11ff11"/>
                                      </p:to>
                                    </p:animClr>
                                    <p:animClr clrSpc="rgb">
                                      <p:cBhvr>
                                        <p:cTn id="44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11ff11"/>
                                      </p:to>
                                    </p:animClr>
                                    <p:set>
                                      <p:cBhvr>
                                        <p:cTn id="45" dur="3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46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0" dur="5000" fill="hold"/>
                                        <p:tgtEl>
                                          <p:spTgt spid="63"/>
                                        </p:tgtEl>
                                      </p:cBhvr>
                                      <p:to x="-0" y="-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1:59:20Z</dcterms:created>
  <dc:creator>Administrator</dc:creator>
  <dc:description/>
  <dc:language>en-US</dc:language>
  <cp:lastModifiedBy>Administrator</cp:lastModifiedBy>
  <dcterms:modified xsi:type="dcterms:W3CDTF">2008-09-26T02:24:40Z</dcterms:modified>
  <cp:revision>14</cp:revision>
  <dc:subject/>
  <dc:title>Slide 1</dc:title>
</cp:coreProperties>
</file>