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92D-3A54-4717-93B9-1D602A74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E40-CD27-4FFF-8F67-BA98FAB0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C98-BEAC-4443-9775-FC6621D2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12E-CDEC-4A65-B68D-90BC282B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119-3440-4DF5-B328-E3B33C11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F26-CDDB-4E08-A89C-728311F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916-CE74-4541-AE4D-FA14AAD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184-4C44-4EE2-87FA-CBB1E5B5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3F-CAC5-4ADB-8D17-58274C8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A45-FAEE-4851-8A28-A23E431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28E-276C-46A7-B61C-649D052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0A1-AD25-48BF-8D98-AF52252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E21-C289-4430-A39F-334B2449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186000" cy="244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684360" y="227664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ld Walking Wednesda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492800">
            <a:off x="971280" y="227628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is Walking Wednesday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89440" cy="231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95280" y="2781360"/>
            <a:ext cx="4032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king Wednesday is a motivating activity to win prizes and keep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M.I provided balloons and socks as a bribe to keep kids wal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bout 50 kids didn’t walk on walk to school week at 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26028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llons Bay parent leading a walking bus to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608360" cy="439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19640" y="2349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M.B.S school grounds were covered with students wearing yellow A.M.I s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333360"/>
            <a:ext cx="799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wesome outdoor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3817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udents wearing A.M.I socks!!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8620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en did our wild adventure begin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205000"/>
            <a:ext cx="288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fantastic walking weeks began on the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arch and ended on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April. Many other schools participat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16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ent walking to school with h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33760" cy="33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404640"/>
            <a:ext cx="85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provided walk to school week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5670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99"/>
                </a:solidFill>
                <a:latin typeface="Arial"/>
              </a:rPr>
              <a:t>Mr Harder, Mrs Brown and oth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2276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Harder organised the Walking Wednesdays. AMI insurance provided the $500 worth of sports gear, and the jacket  was provided by land transport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748400">
            <a:off x="-380520" y="2637000"/>
            <a:ext cx="9524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hy did we have walking wednes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4005360"/>
            <a:ext cx="46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e had Walking Wednesday because kids need to keep fit, also to reduce pol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32040" cy="311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cc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411280" y="1916280"/>
            <a:ext cx="3800520" cy="31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8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lla and Victoria (news team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1:03:15Z</dcterms:created>
  <dc:creator>Administrator</dc:creator>
  <dc:description/>
  <dc:language>en-US</dc:language>
  <cp:lastModifiedBy>Ministry of Education</cp:lastModifiedBy>
  <dcterms:modified xsi:type="dcterms:W3CDTF">2008-08-12T22:23:57Z</dcterms:modified>
  <cp:revision>35</cp:revision>
  <dc:subject/>
  <dc:title>Slide 1</dc:title>
</cp:coreProperties>
</file>