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0A6-F71A-43C5-A2FD-DE406199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A1B-BE29-4744-B7A2-D248E455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FE8-F009-482D-893B-A17CED9E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91F-E86F-4ECA-8D23-80B53232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743-5594-4B75-9ABC-8542D95A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7448-B1C9-420A-85BE-89608213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9E8-F3D3-423C-B504-E759ED32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A2B3-FCA6-4025-93F0-41FB1206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C46F-89D1-449B-86E2-A32BCDB9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870-C876-4512-8F2B-7444F871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EC5-2577-4487-BE6F-99249587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712-6353-4D28-B130-1935C5C4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8E1D-6D2D-4F32-A574-3FD9C89BF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848360" cy="5761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219640" y="3789360"/>
            <a:ext cx="3186000" cy="2446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684360" y="2276640"/>
            <a:ext cx="7559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ild Walking Wednesda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 rot="1492800">
            <a:off x="971280" y="2276280"/>
            <a:ext cx="792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at is Walking Wednesday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867280" y="333360"/>
            <a:ext cx="2989440" cy="2313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95280" y="2781360"/>
            <a:ext cx="40323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lking Wednesday is a motivating activity to win prizes and keep f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M.I provided balloons and socks as a bribe to keep kids wal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about 50 kids didn’t walk on walk to school week at M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26028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ellons Bay parent leading a walking bus to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608360" cy="439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19640" y="2349360"/>
            <a:ext cx="331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M.B.S school grounds were covered with students wearing yellow A.M.I s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333360"/>
            <a:ext cx="7993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wesome outdoor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un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63817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udents wearing A.M.I socks!!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0920" y="260280"/>
            <a:ext cx="86202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en did our wild adventure begin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2205000"/>
            <a:ext cx="288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fantastic walking weeks began on the 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f March and ended on the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f April. Many other schools participated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51664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rent walking to school with her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433760" cy="332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920" y="404640"/>
            <a:ext cx="8532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o provided walk to school week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321080" cy="3241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00360" y="567072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99"/>
                </a:solidFill>
                <a:latin typeface="Arial"/>
              </a:rPr>
              <a:t>Mr Harder, Mrs Brown and othe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2276640"/>
            <a:ext cx="17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557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 Harder organised the Walking Wednesdays. AMI insurance provided the $500 worth of sports gear, and the jacket  was provided by land transport depar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 rot="19748400">
            <a:off x="-380520" y="2637000"/>
            <a:ext cx="952488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Why did we have walking wednesda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4533840" y="4005360"/>
            <a:ext cx="461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e had Walking Wednesday because kids need to keep fit, also to reduce pol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632040" cy="3119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f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411280" y="1916280"/>
            <a:ext cx="3800520" cy="31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En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789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lla and Victoria (news team)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1:03:15Z</dcterms:created>
  <dc:creator>Administrator</dc:creator>
  <dc:description/>
  <dc:language>en-US</dc:language>
  <cp:lastModifiedBy>Ministry of Education</cp:lastModifiedBy>
  <dcterms:modified xsi:type="dcterms:W3CDTF">2008-08-12T22:23:57Z</dcterms:modified>
  <cp:revision>35</cp:revision>
  <dc:subject/>
  <dc:title>Slide 1</dc:title>
</cp:coreProperties>
</file>