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139D-C658-42EA-8EE1-CD7985E3F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A234-A0D5-4378-9BB7-24670F2B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2E95-02B3-4F32-846D-7DA0C1F5D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3B43-F822-4C28-A8B0-02B6FBD36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6434-34B3-40E5-B849-72F1A56D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6709-88D7-43AA-8876-9A16B27D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BA1F-A064-499B-82ED-1C13EB3C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EE25-71FC-493E-8462-53340FB6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A411-923B-4977-84B2-BEEA2EB9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24CE-6105-42EA-94D3-79F50359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ECE2-CD99-4624-8C06-F2D36445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2A08-D7D1-4EF9-8563-52FA0DDB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3B80-2C9D-48AD-ACE5-039B80B8C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7848360" cy="5761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5219640" y="3789360"/>
            <a:ext cx="3186000" cy="2446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3" name=""/>
          <p:cNvSpPr txBox="1"/>
          <p:nvPr/>
        </p:nvSpPr>
        <p:spPr>
          <a:xfrm>
            <a:off x="684360" y="2276640"/>
            <a:ext cx="75596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ild Walking Wednesday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 rot="1492800">
            <a:off x="971280" y="2276280"/>
            <a:ext cx="7920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hat is Walking Wednesday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867280" y="333360"/>
            <a:ext cx="2989440" cy="2313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395280" y="2781360"/>
            <a:ext cx="403236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lking Wednesday is a motivating activity to win prizes and keep f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M.I provided balloons and socks as a bribe to keep kids walk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about 50 kids didn’t walk on walk to school week at M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68360" y="26028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ellons Bay parent leading a walking bus to scho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4608360" cy="4392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219640" y="2349360"/>
            <a:ext cx="3311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M.B.S school grounds were covered with students wearing yellow A.M.I so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9640" y="333360"/>
            <a:ext cx="7993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wesome outdoor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un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63817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tudents wearing A.M.I socks!!</a:t>
            </a:r>
            <a:r>
              <a:rPr b="0" lang="en-US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50920" y="260280"/>
            <a:ext cx="86202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hen did our wild adventure begin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2205000"/>
            <a:ext cx="2880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se fantastic walking weeks began on the 5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f March and ended on the 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f April. Many other schools participated as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51664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parent walking to school with her 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4433760" cy="3325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50920" y="404640"/>
            <a:ext cx="8532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ho provided walk to school week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40000" y="2565360"/>
            <a:ext cx="4321080" cy="3241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700360" y="567072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99"/>
                </a:solidFill>
                <a:latin typeface="Arial"/>
              </a:rPr>
              <a:t>Mr Harder, Mrs Brown and other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2276640"/>
            <a:ext cx="17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557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r Harder organised the Walking Wednesdays. AMI insurance provided the $500 worth of sports gear, and the jacket  was provided by land transport depart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50000">
              <a:srgbClr val="3366ff"/>
            </a:gs>
            <a:gs pos="100000">
              <a:srgbClr val="ff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 rot="19748400">
            <a:off x="-380520" y="2637000"/>
            <a:ext cx="9524880" cy="21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Why did we have walking wednesday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4533840" y="4005360"/>
            <a:ext cx="4610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We had Walking Wednesday because kids need to keep fit, also to reduce pol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632040" cy="3119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ff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411280" y="1916280"/>
            <a:ext cx="3800520" cy="31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he End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1835280" y="378936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lla and Victoria (news team)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01:03:15Z</dcterms:created>
  <dc:creator>Administrator</dc:creator>
  <dc:description/>
  <dc:language>en-US</dc:language>
  <cp:lastModifiedBy>Ministry of Education</cp:lastModifiedBy>
  <dcterms:modified xsi:type="dcterms:W3CDTF">2008-08-12T22:23:57Z</dcterms:modified>
  <cp:revision>35</cp:revision>
  <dc:subject/>
  <dc:title>Slide 1</dc:title>
</cp:coreProperties>
</file>