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ED9-D16F-4A4C-B555-7DC97597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B86-A91B-4B2D-AE50-AA92E114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74D-132E-4E1B-B743-F81491B5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965-BF7D-4652-9995-B6A89BFE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268-4F39-44C4-AD2E-C870FD7F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CF4-E4A5-4016-A61B-38D3240C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C04-C2F2-4D94-A39D-66DCEC2A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21A-016E-40A4-9AAE-8581218C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30F-DF2B-4D6F-93E8-ED46178E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D7A-EF6A-48D3-8875-0BD4AB2B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85B-8774-4077-AA89-442C06F4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267-F2EC-48B8-A24F-989576B0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7E40-6552-40B8-8287-EE99B8D3F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848360" cy="576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219640" y="3789360"/>
            <a:ext cx="3186000" cy="244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684360" y="2276640"/>
            <a:ext cx="755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ild Walking Wednesda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 rot="1492800">
            <a:off x="971280" y="2276280"/>
            <a:ext cx="792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at is Walking Wednesday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2989440" cy="2313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95280" y="2781360"/>
            <a:ext cx="40323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lking Wednesday is a motivating activity to win prizes and keep f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M.I provided balloons and socks as a bribe to keep kids wal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about 50 kids didn’t walk on walk to school week at M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26028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ellons Bay parent leading a walking bus to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608360" cy="439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19640" y="2349360"/>
            <a:ext cx="331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M.B.S school grounds were covered with students wearing yellow A.M.I s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333360"/>
            <a:ext cx="7993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wesome outdoor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un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63817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udents wearing A.M.I socks!!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920" y="260280"/>
            <a:ext cx="8620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en did our wild adventure begin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2205000"/>
            <a:ext cx="288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fantastic walking weeks began on the 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March and ended on the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April. Many other schools participated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51664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ent walking to school with he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433760" cy="332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920" y="404640"/>
            <a:ext cx="8532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o provided walk to school week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321080" cy="3241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00360" y="567072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99"/>
                </a:solidFill>
                <a:latin typeface="Arial"/>
              </a:rPr>
              <a:t>Mr Harder, Mrs Brown and othe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227664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557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 Harder organised the Walking Wednesdays. AMI insurance provided the $500 worth of sports gear, and the jacket  was provided by land transport depar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 rot="19748400">
            <a:off x="-380520" y="2637000"/>
            <a:ext cx="9524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hy did we have walking wednesda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4533840" y="4005360"/>
            <a:ext cx="461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e had Walking Wednesday because kids need to keep fit, also to reduce pol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632040" cy="311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411280" y="1916280"/>
            <a:ext cx="3800520" cy="31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78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lla and Victoria (news team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1:03:15Z</dcterms:created>
  <dc:creator>Administrator</dc:creator>
  <dc:description/>
  <dc:language>en-US</dc:language>
  <cp:lastModifiedBy>Ministry of Education</cp:lastModifiedBy>
  <dcterms:modified xsi:type="dcterms:W3CDTF">2008-08-12T22:23:57Z</dcterms:modified>
  <cp:revision>35</cp:revision>
  <dc:subject/>
  <dc:title>Slide 1</dc:title>
</cp:coreProperties>
</file>