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5B0-4162-4955-B0B2-85AF5869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23B-15BB-4CD4-8FAA-CFF2378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8DE-6F1D-432F-B06C-F7DBFAF8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190-8C83-44E6-9075-A51AC313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4E1-B714-46DD-BE8D-C73C50FE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AF6-8486-4C97-B4D8-79D4E270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C1D-7F9B-46E0-8F57-7F42A7C7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FB1-1736-4826-A911-8EA61CBE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888-D702-4899-8D63-19C41E12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C2E-99B4-4A04-97F5-82B508B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A2F-0891-444C-AE75-1DD93D2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C7F-1B2A-4B3D-BD64-3C48364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C038-7B9B-4C63-8CB0-0F842766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bluebison.net/sketchbook/2008/0108/kiwi.png&amp;imgrefurl=http://www.bluebison.net/content/%3Fpaged%3D6&amp;h=303&amp;w=465&amp;sz=38&amp;hl=en&amp;start=2&amp;tbnid=cSPEbyDjfEPo7M:&amp;tbnh=83&amp;tbnw=128&amp;prev=/images%3Fq%3DKiwi%2BBird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Room 8’s Fantabulous book week!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Tahi the lucky kiw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060640"/>
            <a:ext cx="3090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we met a famous author (in NZ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Hurst is a NZ author who wrote the story called “The boy who bounced” which is a really fun children's picture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lso has some unique features including a special reading hat and an                                      enormous p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138640"/>
            <a:ext cx="2292480" cy="17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21360" y="5192640"/>
            <a:ext cx="2222640" cy="16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226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 etching with our buddy class and we made kiwi beaks and feet for our fun book pa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b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476280"/>
            <a:ext cx="4721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6633"/>
                    </a:gs>
                  </a:gsLst>
                  <a:lin ang="10800000"/>
                </a:gradFill>
                <a:latin typeface="Arial Black"/>
              </a:rPr>
              <a:t>Our Masterpei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663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plays of our favourite story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 had lots of fun!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der had some harsh words      And Anna wasn’t to happ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333360"/>
            <a:ext cx="2922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Fun Play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341360"/>
            <a:ext cx="756432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229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adi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27:13Z</dcterms:created>
  <dc:creator>Administrator</dc:creator>
  <dc:description/>
  <dc:language>en-US</dc:language>
  <cp:lastModifiedBy>Administrator</cp:lastModifiedBy>
  <dcterms:modified xsi:type="dcterms:W3CDTF">2008-09-25T22:44:38Z</dcterms:modified>
  <cp:revision>5</cp:revision>
  <dc:subject/>
  <dc:title>Room 8’s Fantabulous book week! </dc:title>
</cp:coreProperties>
</file>