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6C9-2217-437C-8D87-BD71BA88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89F-3756-45A4-92BB-B6AFA1E8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0DC-36AB-4BED-869E-50197390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08C-9EF5-47B4-8E59-AEA7705F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AFF-FB0A-4575-B7F5-4C575049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3C9-BE24-420A-BAB3-C53F929D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B56-57F8-474F-AE6B-012DC5E8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2E2-C716-4127-89AD-CF14F87C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CEC-19BA-4B5D-9DAC-0B1B534C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51E-F0EA-47F5-9DDE-37DA390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8F8-3857-4333-AB14-822B101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580-8831-4086-B596-C41D19D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3962-4FA8-4658-95F8-AF0EAF0F2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bluebison.net/sketchbook/2008/0108/kiwi.png&amp;imgrefurl=http://www.bluebison.net/content/%3Fpaged%3D6&amp;h=303&amp;w=465&amp;sz=38&amp;hl=en&amp;start=2&amp;tbnid=cSPEbyDjfEPo7M:&amp;tbnh=83&amp;tbnw=128&amp;prev=/images%3Fq%3DKiwi%2BBird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Room 8’s Fantabulous book week!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Tahi the lucky kiw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060640"/>
            <a:ext cx="30909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we met a famous author (in NZ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Hurst is a NZ author who wrote the story called “The boy who bounced” which is a really fun children's picture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lso has some unique features including a special reading hat and an                                      enormous pe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138640"/>
            <a:ext cx="2292480" cy="17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21360" y="5192640"/>
            <a:ext cx="2222640" cy="16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226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 etching with our buddy class and we made kiwi beaks and feet for our fun book pa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b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36232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35280" y="476280"/>
            <a:ext cx="4721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6633"/>
                    </a:gs>
                  </a:gsLst>
                  <a:lin ang="10800000"/>
                </a:gradFill>
                <a:latin typeface="Arial Black"/>
              </a:rPr>
              <a:t>Our Masterpei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6633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did plays of our favourite story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oup had lots of fun!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der had some harsh words      And Anna wasn’t to happ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528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333360"/>
            <a:ext cx="2922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Fun Play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341360"/>
            <a:ext cx="7564320" cy="525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229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adi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27:13Z</dcterms:created>
  <dc:creator>Administrator</dc:creator>
  <dc:description/>
  <dc:language>en-US</dc:language>
  <cp:lastModifiedBy>Administrator</cp:lastModifiedBy>
  <dcterms:modified xsi:type="dcterms:W3CDTF">2008-09-25T22:44:38Z</dcterms:modified>
  <cp:revision>5</cp:revision>
  <dc:subject/>
  <dc:title>Room 8’s Fantabulous book week! </dc:title>
</cp:coreProperties>
</file>