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B26-4770-4276-A2B9-1CE01BAF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698-1085-4FF4-ABFC-1E92AC71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8DC-0E76-4AA7-9F8C-892D9F2B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35C-1908-4046-B3BD-B4160D44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3A5-FF4B-4094-A01C-B3844933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A49-C3D1-4483-AF76-C3F1CE8E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292-545B-4E75-9563-281194A3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19E-9A47-4EFE-94DE-1FD93F84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AD2-94DD-46BF-BC61-A963C4D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EDB-9A35-4150-BB2B-72A08657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099-F682-4AEB-AEF2-403098C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53E-1627-4C13-ADE0-6E1333B3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92F1-510A-443F-9768-06FFAD66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bluebison.net/sketchbook/2008/0108/kiwi.png&amp;imgrefurl=http://www.bluebison.net/content/%3Fpaged%3D6&amp;h=303&amp;w=465&amp;sz=38&amp;hl=en&amp;start=2&amp;tbnid=cSPEbyDjfEPo7M:&amp;tbnh=83&amp;tbnw=128&amp;prev=/images%3Fq%3DKiwi%2BBird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Room 8’s Fantabulous book week!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Tahi the lucky kiw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2060640"/>
            <a:ext cx="30909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we met a famous author (in NZ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Hurst is a NZ author who wrote the story called “The boy who bounced” which is a really fun children's picture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lso has some unique features including a special reading hat and an                                      enormous pe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5138640"/>
            <a:ext cx="2292480" cy="17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21360" y="5192640"/>
            <a:ext cx="2222640" cy="16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4360" y="5157720"/>
            <a:ext cx="2266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 etching with our buddy class and we made kiwi beaks and feet for our fun book para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t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my b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36232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835280" y="476280"/>
            <a:ext cx="4721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6633"/>
                    </a:gs>
                  </a:gsLst>
                  <a:lin ang="10800000"/>
                </a:gradFill>
                <a:latin typeface="Arial Black"/>
              </a:rPr>
              <a:t>Our Masterpei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6633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did plays of our favourite story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oup had lots of fun!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der had some harsh words      And Anna wasn’t to happ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3528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32000" y="333360"/>
            <a:ext cx="29228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Fun Play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1341360"/>
            <a:ext cx="7564320" cy="525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229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adi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27:13Z</dcterms:created>
  <dc:creator>Administrator</dc:creator>
  <dc:description/>
  <dc:language>en-US</dc:language>
  <cp:lastModifiedBy>Administrator</cp:lastModifiedBy>
  <dcterms:modified xsi:type="dcterms:W3CDTF">2008-09-25T22:44:38Z</dcterms:modified>
  <cp:revision>5</cp:revision>
  <dc:subject/>
  <dc:title>Room 8’s Fantabulous book week! </dc:title>
</cp:coreProperties>
</file>