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E5798-60E4-469B-9407-3E30BC76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87104-C770-4D97-9F66-F5DBB1DD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19C48-6F94-4E06-A00E-A877F7C3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3161B-D9E4-4257-A418-014C7F62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64E8-E812-4557-BFFC-31E74F66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2AFD-93F1-4B3C-8706-5CEE5D6F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66C5-601A-48AE-9599-555574D6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55EE-F74E-45B8-97D7-88B1970D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402B-84D6-49CF-B608-5DA4785F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8A2D-BAED-4FC9-9124-E82771A0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07B0-C536-4336-A799-29D91463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B2D88-FDAC-46BD-A796-C93DAAFF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A1B9-9708-4F2D-854F-E42C3BE8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5674-B9D8-460B-B311-2D8E1B76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83C4-7F02-4241-8CBE-EBBF2D27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7EF6-3721-44B9-B763-AA0793E2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49F3-8625-4F96-9274-5E41C238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2821F-5DCB-4E8E-AE80-67283441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7300F-57A4-41DC-8728-2F6714C1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C2C5D-EB21-443A-9E62-9D7F0D3A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C4DF9-E6CF-4CBD-95EF-31387DF7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1CC97-8C9B-4E71-B7E5-543CF378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45CB0-1FAA-437F-8F63-88D5ED8B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C9EC5-3E5F-4361-88CE-68B72D49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2C6AB-A367-4129-B439-B89F671F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4FC5F-0756-41B1-BBFA-328755BD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DC483-F851-4700-8CEA-F34B28AE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7B391-8CD4-4EA0-863A-F2FC2398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3BF41-7866-4EB7-82C3-88292B28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388BD-C7FD-4858-9481-A79A3DDB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546D8-3028-4EA8-B486-10BCD83E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6493B-7593-455B-AA86-DD0B7387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9AB24-0B1D-4583-AF18-34E1A2D2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729FB-970F-48DD-A29D-5821D91D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8042D-4F0C-4144-A321-28AA35B7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EF6DC-4C77-4E35-8FD8-5755E370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4BF9F-EBBA-48AF-981C-F10B2D6E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1A1D9-8747-4CDE-9CC0-93ED75DD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5BB16-20CC-4557-A1FA-46B15178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F8014-DC4A-426A-B4D8-F3610844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0546B-0B0F-40C7-8BE9-980F22C4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5E987-5786-47C7-A2D3-87521754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4C01B-9F67-49DA-8CE6-554D68BD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07CE7-7A05-43B1-8089-1593EA5B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C6B12-6400-4B2D-9A29-36C50409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003E1-FABB-453B-B5BB-4098963D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6DAE6-FC06-4E05-AF0C-C29AA18C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796C0-3B39-415E-99F8-B2359B51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A0C98-2563-4A63-834A-BBCD49D8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C9752-FDAB-44E3-8800-DA5AE2DB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839D7-3D5F-407E-AF55-E6518510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C7F42-52B6-4A88-8358-41A4FE98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9EE36-5A15-42D5-A943-DB664A83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CCB3D-E432-48EC-9D66-269C9C6F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5E503-CB8B-44AA-9094-7EC53953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94361-9261-48F2-BFD6-A4AB1FAE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797C7-C50C-4301-9A3D-2F3B18B4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EB1DF-0A08-4ECF-BFB2-D1EAFEA9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C7FA0-9CE2-4DB7-B585-7781B8C6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98036-7CB3-4C45-9379-C2E3C371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19C8-AE0B-4BA7-95CA-DDB545E7D42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D4B8-3B91-479C-AE77-29D41FA2350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C12C-B7DB-49F1-A34E-D0B7C4C6E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233E-CB74-4528-BE41-49FE985F06B2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3358-74DF-4551-AE82-2C2263D745BD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Where_The_Wild_Things_Are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042920" y="260280"/>
            <a:ext cx="7489800" cy="32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1e1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Room 20 and 11 are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1e1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1e1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1e1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Where The Wild Things Ar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1e1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1e1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pic>
        <p:nvPicPr>
          <p:cNvPr id="257" name="" descr="Where the Wild Things A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2565360"/>
            <a:ext cx="5329080" cy="3924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cc0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50b0b"/>
                </a:solidFill>
                <a:latin typeface="Bradley Hand ITC"/>
              </a:rPr>
              <a:t>Made by News Team reporter Darius and edited by News Team reporter Micha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55640" y="260280"/>
            <a:ext cx="8016840" cy="10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eff15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Arial Black"/>
              </a:rPr>
              <a:t>Thanks for watching these wild thin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eff15"/>
                  </a:gs>
                  <a:gs pos="100000">
                    <a:srgbClr val="ff66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eff15"/>
                </a:solidFill>
                <a:latin typeface="Bernard MT Condensed"/>
              </a:rPr>
              <a:t>Room 20 made some scary and crazy monste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cc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05"/>
                </a:solidFill>
                <a:latin typeface="Copperplate Gothic Bold"/>
              </a:rPr>
              <a:t>They made some cool masks.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514680" cy="39592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219640" y="1916280"/>
            <a:ext cx="273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Bradley Hand ITC"/>
              </a:rPr>
              <a:t>After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587760" cy="3922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547640" y="1844640"/>
            <a:ext cx="194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Bradley Hand ITC"/>
              </a:rPr>
              <a:t>Bef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5832360" cy="148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ice job Mrs Bartlem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1484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7451640" y="0"/>
            <a:ext cx="169236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Arial Black"/>
              </a:rPr>
              <a:t>What a cool monster!!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Showcard Gothic"/>
              </a:rPr>
              <a:t>What’s the ugly face for, monster?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8575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ICCCCE!!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1025640"/>
            <a:ext cx="9144000" cy="58323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0" y="0"/>
            <a:ext cx="9144000" cy="15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5"/>
                </a:solidFill>
                <a:latin typeface="Showcard Gothic"/>
              </a:rPr>
              <a:t>Nicccc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53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ff00"/>
                </a:solidFill>
                <a:latin typeface="Showcard Gothic"/>
              </a:rPr>
              <a:t>Scaryyy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058160" cy="53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01:22Z</dcterms:created>
  <dc:creator>Administrator</dc:creator>
  <dc:description/>
  <dc:language>en-US</dc:language>
  <cp:lastModifiedBy>Administrator</cp:lastModifiedBy>
  <dcterms:modified xsi:type="dcterms:W3CDTF">2008-09-25T22:47:13Z</dcterms:modified>
  <cp:revision>8</cp:revision>
  <dc:subject/>
  <dc:title>Slide 1</dc:title>
</cp:coreProperties>
</file>