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589E-28F4-4A66-959D-4A412E37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702AD-E0F3-41C9-9042-AD7AA00C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C4C70-F19B-4FBF-8F56-4677D44E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F3C40-BE5A-424B-A5A5-BE933E7D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3B62-7BDE-47E9-BE46-7EC8C006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60E6-12A3-448C-A7C8-37B89BD8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9AE3-FE26-4E17-9A5D-87AABEB9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A2CE-601B-4507-9104-7DE7DB53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487A-53B9-4B81-B939-7AA9E7FD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4692-DB69-434C-84AD-AC0D71CD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346E-FCA0-40B4-B1C2-ED314619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ECC3F-5233-4AD6-9824-979EAEAC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ACD6-EC23-4A20-81CE-F7E0DEC0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3D09-FE40-42EE-817C-79366310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A030-1F68-48AE-8C9E-7F67AE76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B824-3C67-4DAA-903F-882F7600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6181-7A05-42B5-81AF-37E28ADF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DECC4-67ED-45CB-A398-EF2D6D43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987ED-CE20-487B-9095-FAE7DC95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6C06F-4BAF-48B8-9022-8F87B8A6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F953D-34DD-4709-9628-AC5C2888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14329-AE22-4298-9F35-E310F95D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D5965-FBA8-4A30-AF13-AF40585B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65507-ED08-4669-8A0B-C76BCFCB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EC989-7F98-47F6-83A5-1C6E5DBD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BFAB2-D576-457F-B39F-14430E10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3140E-11CA-46EF-AB22-41335D67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FDE98-91EB-43FB-92DF-377AE37A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56074-BB91-44EC-A130-6C0830C6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9C7B0-2415-41EC-9A1A-B3F226E1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3233B-4E7D-4648-A5B4-9137895F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04AE4-4C9C-47E3-9CD4-5C195974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53A3D-B170-4D40-B730-E530643B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7422-221A-42F9-BDBC-186E0FAC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F1BB6-0C4D-4014-BAB5-BDD9EF98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86A2B-8AF0-4683-92FA-A36A7EE3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06082-5269-47B9-846A-90C4961C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7E1BC-D784-4221-906E-BE4F6F35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628F1-32BE-43DD-B5F2-10FDC892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14BCF-2AFC-4C81-859D-F39D6568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79AFC-9900-40CA-A5D3-41F9012F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FBC42-2DA9-45A1-87C6-A6342805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1859D-5BB5-4810-AA76-4304AD51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FF131-E2BE-4721-ABA9-B302AD43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12C3A-6B55-44F8-8424-543270C7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04821-BFAC-40B7-95A2-D697E51D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02408-45A2-44A0-949C-6A80CC22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91A77-5150-42DD-B720-49C158FB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59838-13B8-474B-952A-25013EA7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64858-AF21-4776-A38B-D83FB71F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4DF34-A6A1-41AC-A474-4E2B5CDF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CB433-B777-402B-9BD6-EBB7036D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0272B-DEA1-4979-B556-C373D813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3AEDA-2788-4649-9DC2-52D62EBA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EAA0D-7816-4944-B433-7E590FAE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2B3F3-B3CC-419E-9915-C7A3169C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5A7C1-792F-4B58-AB90-BE5FD261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6495-97CB-4612-9463-6E0A3DFA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37794-ECE6-4AF8-9866-2B2BD6D9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F7AF1-685D-4ECE-83CB-4B96BC0E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942B-356B-4750-AE6E-12B096B5A10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1E49-F44C-4C3C-BF30-9A57D76791B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D4A5-DF77-492A-B00F-887583515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5780-2553-4139-9334-B6613DC84D67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DF53-6B61-41F3-97E1-025841C54A61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Where_The_Wild_Things_Are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042920" y="260280"/>
            <a:ext cx="7489800" cy="32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1e1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Room 20 and 11 are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1e1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1e1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1e1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Where The Wild Things Ar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1e1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1e1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pic>
        <p:nvPicPr>
          <p:cNvPr id="257" name="" descr="Where the Wild Things A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2565360"/>
            <a:ext cx="5329080" cy="3924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cc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0b0b"/>
                </a:solidFill>
                <a:latin typeface="Bradley Hand ITC"/>
              </a:rPr>
              <a:t>Made by News Team reporter Darius and edited by News Team reporter Micha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55640" y="260280"/>
            <a:ext cx="8016840" cy="10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ff15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Arial Black"/>
              </a:rPr>
              <a:t>Thanks for watching these wild th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ff15"/>
                  </a:gs>
                  <a:gs pos="100000">
                    <a:srgbClr val="ff66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eff15"/>
                </a:solidFill>
                <a:latin typeface="Bernard MT Condensed"/>
              </a:rPr>
              <a:t>Room 20 made some scary and crazy monst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05"/>
                </a:solidFill>
                <a:latin typeface="Copperplate Gothic Bold"/>
              </a:rPr>
              <a:t>They made some cool masks.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514680" cy="3959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219640" y="1916280"/>
            <a:ext cx="273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Bradley Hand ITC"/>
              </a:rPr>
              <a:t>After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587760" cy="3922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547640" y="1844640"/>
            <a:ext cx="194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Bradley Hand ITC"/>
              </a:rPr>
              <a:t>Bef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5832360" cy="148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ice job Mrs Bartlem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484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7451640" y="0"/>
            <a:ext cx="169236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Arial Black"/>
              </a:rPr>
              <a:t>What a cool monster!!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Showcard Gothic"/>
              </a:rPr>
              <a:t>What’s the ugly face for, monster?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8575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ICCCCE!!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1025640"/>
            <a:ext cx="9144000" cy="58323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0"/>
            <a:ext cx="9144000" cy="15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5"/>
                </a:solidFill>
                <a:latin typeface="Showcard Gothic"/>
              </a:rPr>
              <a:t>Nicccc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53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ff00"/>
                </a:solidFill>
                <a:latin typeface="Showcard Gothic"/>
              </a:rPr>
              <a:t>Scaryyy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058160" cy="53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01:22Z</dcterms:created>
  <dc:creator>Administrator</dc:creator>
  <dc:description/>
  <dc:language>en-US</dc:language>
  <cp:lastModifiedBy>Administrator</cp:lastModifiedBy>
  <dcterms:modified xsi:type="dcterms:W3CDTF">2008-09-25T22:47:13Z</dcterms:modified>
  <cp:revision>8</cp:revision>
  <dc:subject/>
  <dc:title>Slide 1</dc:title>
</cp:coreProperties>
</file>