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557D8-82B7-4587-A3FD-C8A12FB3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7B570-9895-4469-9A12-E1B7C0AA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2B187-E7B9-4307-B747-233EB222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9E309-67B1-4E89-B253-96C7B1AE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9BC1-7385-4BEA-A260-63E2221C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F0A0-C240-46A3-81AA-767DE487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209C-F501-4772-A757-A39365BA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1209-4BA5-490E-95FA-1B70EC5F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9FD2-C4F1-47D3-8A0C-87D5AACE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0E32-AFCA-422D-975E-D69669EB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1D40-8C95-427D-AB4F-939DA58F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320D7-5165-4CEB-906E-2D067710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2A05-B497-49FF-85A9-0A512989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1FB2-D70F-4882-8C9F-745D4167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ED16-698E-479B-8B6E-51F652A3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B3B0-83B8-44F0-A874-A9C5F92D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32DF-03F6-4127-9642-09773F67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7721D-1DC3-4CD0-9702-8FE0067E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AFF4C-EE14-4CCB-B1F8-2BAF6068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A6DA1-CD3E-4706-9B1D-0661D6AA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B241B-F6EE-486F-8E6A-2F8695D8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2087A-A0FD-4AE6-8BB2-4331C95C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5B4DA-1549-4CD7-B6D9-E5BE3949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A0049-D105-4E69-8D8F-4B5112D2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2A18F-FE34-414F-9D6E-C9D834EC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7203E-174A-49E4-8D00-D7EE7B68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D41BB-A757-4A5C-B67B-4DC26489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312CE-B253-4FA2-B400-5C563C85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C80BD-8582-4D89-845B-4C2D5DBC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561DD-8A9C-4676-816D-6608936D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4EB14-5E10-4F91-87AF-7FAA7500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34A84-F018-4A3A-AD44-FF2B6DB9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C0C80-3B16-483E-9B70-91ED2B0D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5E67E-1E1A-4B75-AB8A-639D80CB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8529D-4777-4B21-819A-26C0F84A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266CE-33D7-4654-A645-F331B97A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84EEB-7FC7-4A2C-850D-CC228B16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327F2-E0C1-4103-A9EB-F60FD11B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21D4A-F2DA-44E6-923B-24121FCD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D59A7-3940-4789-A136-ED0516C6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933D9-D9C7-4898-AE34-05DC1B6E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7623B-E9C2-454A-AF49-7D3F63A7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982E5-37DB-42EA-A521-66C5536B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A3852-5424-4378-B7EA-6158E3E0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A6D82-7DA2-4A44-94B5-2A6C3CF1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27194-2917-47CB-9678-609AB5D0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36246-5092-4582-8D0C-27E6A613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60EEF-54A7-4267-8EEE-86DCA76B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AB74C-41A4-456E-9DE6-A1886C9B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3D937-0BAB-4ED2-A0B0-68337AFC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38CCF-5F1C-4273-9708-A4469DF2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2398C-246C-46C3-93B4-61969B7F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2DBD0-C615-4C8E-8C9E-A5C83129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26ECE-0B86-4DB7-9000-FEF94F06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3DE1C-5CE8-495A-8B2D-B4AD88E66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72CB0-CB0E-4710-92DE-7F706B85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9D177-4CB0-46BE-8A8C-96C7427F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6DC95-74DA-4F9E-8F3D-5AECFE39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027AE-CECA-4FEF-A6EF-56C30876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0E849-B98B-4D9C-8AB6-9BE884F8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4DCE-013B-4500-A546-093F781A36B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B50F-34E9-4822-B3E2-6F2B05829C9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20AF-E5A5-4674-A565-7DC118E0F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5B5A-AFBC-42C4-9964-8F5FE8A4CE11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9849-973B-49D7-87E2-13BF3D12291A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Where_The_Wild_Things_Are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042920" y="260280"/>
            <a:ext cx="7489800" cy="32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1e1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Room 20 and 11 are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1e1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1e1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1e1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Where The Wild Things Are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1e1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1e1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pic>
        <p:nvPicPr>
          <p:cNvPr id="257" name="" descr="Where the Wild Things A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2565360"/>
            <a:ext cx="5329080" cy="3924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9280" cy="1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cc0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50b0b"/>
                </a:solidFill>
                <a:latin typeface="Bradley Hand ITC"/>
              </a:rPr>
              <a:t>Made by News Team reporter Darius and edited by News Team reporter Micha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55640" y="260280"/>
            <a:ext cx="8016840" cy="10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eff15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Arial Black"/>
              </a:rPr>
              <a:t>Thanks for watching these wild thin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eff15"/>
                  </a:gs>
                  <a:gs pos="100000">
                    <a:srgbClr val="ff66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eff15"/>
                </a:solidFill>
                <a:latin typeface="Bernard MT Condensed"/>
              </a:rPr>
              <a:t>Room 20 made some scary and crazy monste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cc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cc05"/>
                </a:solidFill>
                <a:latin typeface="Copperplate Gothic Bold"/>
              </a:rPr>
              <a:t>They made some cool masks.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3514680" cy="39592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219640" y="1916280"/>
            <a:ext cx="273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Bradley Hand ITC"/>
              </a:rPr>
              <a:t>After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3587760" cy="3922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547640" y="1844640"/>
            <a:ext cx="194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Bradley Hand ITC"/>
              </a:rPr>
              <a:t>Bef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5832360" cy="148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ice job Mrs Bartlem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14842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7451640" y="0"/>
            <a:ext cx="169236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Arial Black"/>
              </a:rPr>
              <a:t>What a cool monster!!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Showcard Gothic"/>
              </a:rPr>
              <a:t>What’s the ugly face for, monster?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2060640"/>
            <a:ext cx="8575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ICCCCE!!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1025640"/>
            <a:ext cx="9144000" cy="58323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0" y="0"/>
            <a:ext cx="9144000" cy="15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5"/>
                </a:solidFill>
                <a:latin typeface="Showcard Gothic"/>
              </a:rPr>
              <a:t>Nicccc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53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ff00"/>
                </a:solidFill>
                <a:latin typeface="Showcard Gothic"/>
              </a:rPr>
              <a:t>Scaryyy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058160" cy="53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01:22Z</dcterms:created>
  <dc:creator>Administrator</dc:creator>
  <dc:description/>
  <dc:language>en-US</dc:language>
  <cp:lastModifiedBy>Administrator</cp:lastModifiedBy>
  <dcterms:modified xsi:type="dcterms:W3CDTF">2008-09-25T22:47:13Z</dcterms:modified>
  <cp:revision>8</cp:revision>
  <dc:subject/>
  <dc:title>Slide 1</dc:title>
</cp:coreProperties>
</file>