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C8F9-88E1-47A3-B536-E5B7530A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0BA1-E59D-4380-B1D1-5C451E42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FFD81-58BB-43B0-8D7C-058D7F79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D469-51BB-4638-84F4-9ECDB4B7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9FE5-DD73-453F-A279-988015A4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0329-3399-4D75-9EB5-F40D0AF5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0DAA-357F-4815-841C-DA3848D5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03FE-1C84-4C8C-9737-E2141354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7EF3-7CE6-4666-84D3-741CD2F6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6E02-133E-4365-933A-945DAB1B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1E98-C62A-4EC6-BE10-974A4850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AB1B8-A110-47EA-93F2-F55C5CE0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49EC-E90B-4B28-8909-79B8E0A2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AC58-1A05-46F6-894B-B4116414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C84E-EBE5-4AAE-94C6-7FE1EA7E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CF92-4C01-453E-80D4-8CB445B6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9126-B6AD-425D-88BD-D928EE7D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440B0-90D1-4A95-B09C-719209FC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0C1E1-4325-4713-9550-2F665877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31A84-F62F-47E3-803E-C0C4E1E2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2013-99F1-48CC-9927-191AEE77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616F2-FC73-48A0-A358-B341AB5F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3E463-7869-45DC-8785-0DD81DD2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CF2C-7662-42B8-A290-B7CB2B85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586C-0BDD-416F-BC61-A892191C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C337-0970-4A6D-B5FB-15C4EDDB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C3455-236D-4DE3-A739-445952D6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BD29B-5A81-4DD6-A475-8AB40EA9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1C0CE-FA96-485C-8520-D258D2D8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6544-C55B-4DE0-9EF0-46F67A50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9C2BC-DB67-4584-AFEC-426A17CB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BD4C6-4C7A-4B9D-A487-2561BC76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141FE-92D9-4CAE-B86E-379DB906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4366B-91D7-4AB6-A89F-7D29037A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B93B4-999C-4911-A39C-B76CB37A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97642-5239-4032-A835-7C0AF61C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635EE-8077-4224-8E70-9ECE9EAD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4D742-3333-4125-904F-908A93D1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F2982-D04C-4E31-8BF3-85F49C6E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01A24-272C-437E-9DDB-61C68084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9EF1C-D420-4915-87DE-2BA5B7D2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E18DA-BC87-44F7-8DC9-9960D5BD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18D55-0606-4BFD-99F9-30ECC84E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7341D-7E80-4EE0-98BC-EC924F9E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E2A2-7A2B-4916-8574-FAB979BF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0E141-E1A5-43AA-97EE-DC5764D8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8870A-0939-42F3-8819-6B2287B0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0C08B-BA34-49F8-9C2B-F2E192C1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5C0DA-9684-44C1-905D-29A5F88A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9080F-1666-4486-BC22-B3F895BD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7744D-78D5-4D07-80C8-8D562761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3FFAD-8E1D-426B-9C97-F9B26E59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F5D15-462E-4BF4-8018-EE957720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94D04-EB26-4838-B705-47AFABD4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1040B-DF51-4EC8-9F7A-7E549630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C273-7785-4123-BCCD-BB5FB482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03496-15A6-43B4-AF04-E63CFDBC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0ABE-33BB-475E-B89C-0701E44B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FECCF-92C3-43BA-8DD8-6E9E96B2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5782-BEB9-4C44-AF32-7D62E400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8619-2488-4180-8FED-0377B59F7AA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31B3-7FA2-45D2-B24D-DD19AE3028D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1896-5599-4FBB-B492-EC1E6B948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683C-ECA2-425D-9180-24875FA1977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2738-211D-49E3-9D63-2F65DE6B3094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here_The_Wild_Things_Are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042920" y="260280"/>
            <a:ext cx="7489800" cy="32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Room 20 and 11 ar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Where The Wild Things Ar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257" name="" descr="Where the Wild Things A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565360"/>
            <a:ext cx="5329080" cy="3924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cc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0b0b"/>
                </a:solidFill>
                <a:latin typeface="Bradley Hand ITC"/>
              </a:rPr>
              <a:t>Made by News Team reporter Darius and edited by News Team reporter Micha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55640" y="260280"/>
            <a:ext cx="801684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ff15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Thanks for watching these wild th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ff15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eff15"/>
                </a:solidFill>
                <a:latin typeface="Bernard MT Condensed"/>
              </a:rPr>
              <a:t>Room 20 made some scary and crazy monst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05"/>
                </a:solidFill>
                <a:latin typeface="Copperplate Gothic Bold"/>
              </a:rPr>
              <a:t>They made some cool masks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514680" cy="3959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219640" y="1916280"/>
            <a:ext cx="27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Bradley Hand ITC"/>
              </a:rPr>
              <a:t>After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587760" cy="3922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547640" y="184464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Bradley Hand ITC"/>
              </a:rPr>
              <a:t>Bef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5832360" cy="148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ice job Mrs Bartlem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484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7451640" y="0"/>
            <a:ext cx="169236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Arial Black"/>
              </a:rPr>
              <a:t>What a cool monster!!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Showcard Gothic"/>
              </a:rPr>
              <a:t>What’s the ugly face for, monster?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8575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ICCCCE!!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025640"/>
            <a:ext cx="9144000" cy="5832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0"/>
            <a:ext cx="9144000" cy="15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5"/>
                </a:solidFill>
                <a:latin typeface="Showcard Gothic"/>
              </a:rPr>
              <a:t>Nicccc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53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Showcard Gothic"/>
              </a:rPr>
              <a:t>Scaryyy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058160" cy="53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01:22Z</dcterms:created>
  <dc:creator>Administrator</dc:creator>
  <dc:description/>
  <dc:language>en-US</dc:language>
  <cp:lastModifiedBy>Administrator</cp:lastModifiedBy>
  <dcterms:modified xsi:type="dcterms:W3CDTF">2008-09-25T22:47:13Z</dcterms:modified>
  <cp:revision>8</cp:revision>
  <dc:subject/>
  <dc:title>Slide 1</dc:title>
</cp:coreProperties>
</file>