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CC1-79C0-440A-BDDA-A01975EB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51B-10E9-490F-BACA-DAF8410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3F8-11F9-4D0B-A785-C477E5DC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C0A-2F90-4091-8847-61357719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AA2-DF9A-4FA3-B5F9-0F72FE17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5AF1-3506-49A5-B315-94E7D931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56F3-A06D-4543-981D-17A0E1BF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C514-B8BE-4DB8-BBBC-BAB60AC8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6791-5D11-4CC2-A8D8-FE3B3FCE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5ACB-6D42-4BEB-8A51-D61E999C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C404-E4C9-460E-A18B-C75F12AC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D95-5435-4C38-A5D2-91901E3F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538C-E3F2-4F77-B1A0-8F041837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F56-E717-48CE-81B3-974F2515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C1AB-373B-4395-AF10-1D4472F3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2F81-0745-4E5E-BA1C-1F5FC22C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F4DA-440C-42E9-90F2-FD73DB5B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131-C331-4A35-A887-4E5E8004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8E8-C1DC-4DA3-9C14-7F2FF87B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504-ED68-46CC-B1CD-CC893BE5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306-E509-4666-958B-D1251914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AFF-98C9-4DC6-A39A-DAD2AF6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4B6-B09D-423F-83EC-A36DCE3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569-44F4-44A2-A6D2-1CF7AC9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A843-B616-449A-8152-EFED15C76E3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7222-E89E-4E00-99C5-7EC05CDA984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791480" y="0"/>
            <a:ext cx="1352520" cy="1469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1727280" cy="2492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3624120" cy="3938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692360" y="4437000"/>
            <a:ext cx="63342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m 12's crazy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11280" y="981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om 12 has been reading The Lorax and has made slides and interesting cat in the hat hats, they have also done acrostic poems about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2320920"/>
            <a:ext cx="7811280" cy="4536000"/>
            <a:chOff x="0" y="2320920"/>
            <a:chExt cx="7811280" cy="4536000"/>
          </a:xfrm>
        </p:grpSpPr>
        <p:grpSp>
          <p:nvGrpSpPr>
            <p:cNvPr id="357" name=""/>
            <p:cNvGrpSpPr/>
            <p:nvPr/>
          </p:nvGrpSpPr>
          <p:grpSpPr>
            <a:xfrm>
              <a:off x="0" y="2320920"/>
              <a:ext cx="7811280" cy="4536000"/>
              <a:chOff x="0" y="2320920"/>
              <a:chExt cx="7811280" cy="4536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057680" y="2320920"/>
                <a:ext cx="5140440" cy="35344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4536360"/>
                <a:ext cx="7811280" cy="23205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16080" y="5380200"/>
                <a:ext cx="3174840" cy="6328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60440" y="2953800"/>
              <a:ext cx="4687200" cy="135360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55640" y="260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lso they have used the white hat ,green hat ,yellow hat, black hat, red hat to get more information from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437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just one of Room 12’s awesome A-Z of the Lorax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835280" y="5950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se hats are from the Cat in the Hat ,look at all of the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494172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somebody being good reading what book week is all abou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198360" y="0"/>
            <a:ext cx="9342360" cy="7007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0000" y="1052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om 12 ended there book with the book parade they all looked fabulous and all did very well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Regan from the news team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01:03Z</dcterms:created>
  <dc:creator>Administrator</dc:creator>
  <dc:description/>
  <dc:language>en-US</dc:language>
  <cp:lastModifiedBy>Administrator</cp:lastModifiedBy>
  <dcterms:modified xsi:type="dcterms:W3CDTF">2008-09-25T22:45:30Z</dcterms:modified>
  <cp:revision>9</cp:revision>
  <dc:subject/>
  <dc:title>Slide 1</dc:title>
</cp:coreProperties>
</file>