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189-36E6-491A-9600-558C4531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5BB-563F-4359-AF18-F84DA727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AA8-55BD-4BD8-8E4F-3DBE6CC6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B69-1D3C-4199-8693-F67645A1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ABBC-0C10-412E-A2E0-86691472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35C-110B-431A-97AF-D504E6B8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5EA8-86C6-4BEC-8B6D-EE245BE4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EF20-A47B-413A-B317-A493BEA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8EBA-ABBE-4D6F-9740-0C472BA3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2F33-B6C2-4EB0-9242-2B05274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ED26-0555-45AB-8A10-3FEBC057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293-687F-4A84-93E9-FB3BEE2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FAE-2FB4-46EC-85CA-867EC1B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F9A3-F44E-422A-BDEB-4C92014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896A-CC47-4870-B64E-B03624D2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960-A030-4956-B479-882D50D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E334-B291-4BCE-A497-4A0E97A1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5D7-FB7A-4AB0-B97B-DB09F693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CD7-67ED-48D9-AB94-F3D1E38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FAF-BC2A-4A82-A61C-693710B4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47F-3F87-468C-8B95-FF7D303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66F-63A8-4673-80E1-01632E9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353-AA08-4A43-960F-7D43B7D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E2C-0EA5-4ADD-BCFF-1E6A6C5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99E-F9B9-45C8-831D-60F4F2A664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2D7-E383-4CB9-A66A-69436A580A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91480" y="0"/>
            <a:ext cx="1352520" cy="1469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727280" cy="2492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3624120" cy="393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692360" y="4437000"/>
            <a:ext cx="63342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m 12's crazy book wee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11280" y="981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oom 12 has been reading The Lorax and has made slides and interesting cat in the hat hats, they have also done acrostic poems about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2320920"/>
            <a:ext cx="7811280" cy="4536000"/>
            <a:chOff x="0" y="2320920"/>
            <a:chExt cx="7811280" cy="4536000"/>
          </a:xfrm>
        </p:grpSpPr>
        <p:grpSp>
          <p:nvGrpSpPr>
            <p:cNvPr id="357" name=""/>
            <p:cNvGrpSpPr/>
            <p:nvPr/>
          </p:nvGrpSpPr>
          <p:grpSpPr>
            <a:xfrm>
              <a:off x="0" y="2320920"/>
              <a:ext cx="7811280" cy="4536000"/>
              <a:chOff x="0" y="2320920"/>
              <a:chExt cx="7811280" cy="4536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057680" y="2320920"/>
                <a:ext cx="5140440" cy="3534480"/>
              </a:xfrm>
              <a:custGeom>
                <a:avLst/>
                <a:gdLst/>
                <a:ahLst/>
                <a:rect l="l" t="t" r="r" b="b"/>
                <a:pathLst>
                  <a:path w="1632" h="1608">
                    <a:moveTo>
                      <a:pt x="344" y="1368"/>
                    </a:moveTo>
                    <a:cubicBezTo>
                      <a:pt x="172" y="1092"/>
                      <a:pt x="0" y="816"/>
                      <a:pt x="104" y="600"/>
                    </a:cubicBezTo>
                    <a:cubicBezTo>
                      <a:pt x="208" y="384"/>
                      <a:pt x="728" y="144"/>
                      <a:pt x="968" y="72"/>
                    </a:cubicBezTo>
                    <a:cubicBezTo>
                      <a:pt x="1208" y="0"/>
                      <a:pt x="1456" y="8"/>
                      <a:pt x="1544" y="168"/>
                    </a:cubicBezTo>
                    <a:cubicBezTo>
                      <a:pt x="1632" y="328"/>
                      <a:pt x="1528" y="792"/>
                      <a:pt x="1496" y="1032"/>
                    </a:cubicBezTo>
                    <a:cubicBezTo>
                      <a:pt x="1464" y="1272"/>
                      <a:pt x="1376" y="1504"/>
                      <a:pt x="1352" y="1608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536360"/>
                <a:ext cx="7811280" cy="2320560"/>
              </a:xfrm>
              <a:custGeom>
                <a:avLst/>
                <a:gdLst/>
                <a:ahLst/>
                <a:rect l="l" t="t" r="r" b="b"/>
                <a:pathLst>
                  <a:path w="2480" h="1056">
                    <a:moveTo>
                      <a:pt x="512" y="88"/>
                    </a:moveTo>
                    <a:cubicBezTo>
                      <a:pt x="492" y="44"/>
                      <a:pt x="472" y="0"/>
                      <a:pt x="416" y="88"/>
                    </a:cubicBezTo>
                    <a:cubicBezTo>
                      <a:pt x="360" y="176"/>
                      <a:pt x="0" y="456"/>
                      <a:pt x="176" y="616"/>
                    </a:cubicBezTo>
                    <a:cubicBezTo>
                      <a:pt x="352" y="776"/>
                      <a:pt x="1112" y="1040"/>
                      <a:pt x="1472" y="1048"/>
                    </a:cubicBezTo>
                    <a:cubicBezTo>
                      <a:pt x="1832" y="1056"/>
                      <a:pt x="2192" y="744"/>
                      <a:pt x="2336" y="664"/>
                    </a:cubicBezTo>
                    <a:cubicBezTo>
                      <a:pt x="2480" y="584"/>
                      <a:pt x="2392" y="648"/>
                      <a:pt x="2336" y="568"/>
                    </a:cubicBezTo>
                    <a:cubicBezTo>
                      <a:pt x="2280" y="488"/>
                      <a:pt x="2096" y="248"/>
                      <a:pt x="2000" y="184"/>
                    </a:cubicBezTo>
                    <a:cubicBezTo>
                      <a:pt x="1904" y="120"/>
                      <a:pt x="1800" y="184"/>
                      <a:pt x="1760" y="184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16080" y="5380200"/>
                <a:ext cx="3174840" cy="632880"/>
              </a:xfrm>
              <a:custGeom>
                <a:avLst/>
                <a:gdLst/>
                <a:ahLst/>
                <a:rect l="l" t="t" r="r" b="b"/>
                <a:pathLst>
                  <a:path w="1008" h="288">
                    <a:moveTo>
                      <a:pt x="0" y="0"/>
                    </a:moveTo>
                    <a:cubicBezTo>
                      <a:pt x="12" y="72"/>
                      <a:pt x="24" y="144"/>
                      <a:pt x="144" y="192"/>
                    </a:cubicBezTo>
                    <a:cubicBezTo>
                      <a:pt x="264" y="240"/>
                      <a:pt x="576" y="288"/>
                      <a:pt x="720" y="288"/>
                    </a:cubicBezTo>
                    <a:cubicBezTo>
                      <a:pt x="864" y="288"/>
                      <a:pt x="936" y="240"/>
                      <a:pt x="1008" y="192"/>
                    </a:cubicBezTo>
                  </a:path>
                </a:pathLst>
              </a:custGeom>
              <a:solidFill>
                <a:srgbClr val="ffcc00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60440" y="2953800"/>
              <a:ext cx="4687200" cy="1353600"/>
            </a:xfrm>
            <a:custGeom>
              <a:avLst/>
              <a:gdLst/>
              <a:ahLst/>
              <a:rect l="l" t="t" r="r" b="b"/>
              <a:pathLst>
                <a:path w="1488" h="616">
                  <a:moveTo>
                    <a:pt x="0" y="480"/>
                  </a:moveTo>
                  <a:cubicBezTo>
                    <a:pt x="4" y="520"/>
                    <a:pt x="8" y="560"/>
                    <a:pt x="96" y="576"/>
                  </a:cubicBezTo>
                  <a:cubicBezTo>
                    <a:pt x="184" y="592"/>
                    <a:pt x="336" y="616"/>
                    <a:pt x="528" y="576"/>
                  </a:cubicBezTo>
                  <a:cubicBezTo>
                    <a:pt x="720" y="536"/>
                    <a:pt x="1088" y="432"/>
                    <a:pt x="1248" y="336"/>
                  </a:cubicBezTo>
                  <a:cubicBezTo>
                    <a:pt x="1408" y="240"/>
                    <a:pt x="1448" y="120"/>
                    <a:pt x="1488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755640" y="260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so they have used the white hat ,green hat ,yellow hat, black hat, red hat to get more information from The Lorax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4437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just one of Room 12’s awesome A-Z of the Lorax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83528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se hats are from the Cat in the Hat ,look at all of the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49417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re’s somebody being good reading what book week is all abou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700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000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om 12 ended there book with the book parade they all looked fabulous and all did very wel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Regan from the news team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02:01:03Z</dcterms:created>
  <dc:creator>Administrator</dc:creator>
  <dc:description/>
  <dc:language>en-US</dc:language>
  <cp:lastModifiedBy>Administrator</cp:lastModifiedBy>
  <dcterms:modified xsi:type="dcterms:W3CDTF">2008-09-25T22:45:30Z</dcterms:modified>
  <cp:revision>9</cp:revision>
  <dc:subject/>
  <dc:title>Slide 1</dc:title>
</cp:coreProperties>
</file>