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0AC-9264-4532-94B3-3F591238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2B7-42A7-434E-A1D6-655D23DD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E36-2153-4936-BDF9-4B14E647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F87-FD9C-48F5-99AA-E5222ADF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5DCD-6D5A-4B17-BBF5-8444C57F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0991-76DE-44C5-AFAF-97363621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6E54-D629-4461-B044-28698C9F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9E62-BE1B-48F8-A0D7-AD2EEE99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C33F-C105-4793-B6F0-A0B4E0FE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97F4-4BE3-4DE8-9E7C-61B5C538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9876-17F1-433E-ACE0-54151BC0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543-89C2-42A9-9531-8E404D02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AFCB-2279-43E8-A3A0-4E9EA243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7647-4781-48BD-9E1D-5475749F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890F-AF0A-4FE7-873B-B8801EE4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B7DB-6FC8-494F-8949-8F2D6629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644F-A6F2-40B5-A053-B3E6BEE4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B540-478F-407B-AC09-8C83B1F7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0CA-3A50-4C4E-9D3D-68C0C4F2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758-77DB-42AB-ABBC-A80E341A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F5E-D5FA-4651-B304-EA810429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E5B-AA24-4FBF-9D4D-8C71566F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E5C-0668-4119-9624-0711EF96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EEF-920C-4BAD-BF37-F48CE39B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28FE-6173-4957-8713-3F1D4C93837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AEEE-C306-4877-9B03-476644690CC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791480" y="0"/>
            <a:ext cx="1352520" cy="1469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1727280" cy="2492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611280" y="0"/>
            <a:ext cx="3624120" cy="39387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692360" y="4437000"/>
            <a:ext cx="63342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Rm 12's crazy book wee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11280" y="98100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oom 12 has been reading The Lorax and has made slides and interesting cat in the hat hats, they have also done acrostic poems about the Lorax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0" y="2320920"/>
            <a:ext cx="7811280" cy="4536000"/>
            <a:chOff x="0" y="2320920"/>
            <a:chExt cx="7811280" cy="4536000"/>
          </a:xfrm>
        </p:grpSpPr>
        <p:grpSp>
          <p:nvGrpSpPr>
            <p:cNvPr id="357" name=""/>
            <p:cNvGrpSpPr/>
            <p:nvPr/>
          </p:nvGrpSpPr>
          <p:grpSpPr>
            <a:xfrm>
              <a:off x="0" y="2320920"/>
              <a:ext cx="7811280" cy="4536000"/>
              <a:chOff x="0" y="2320920"/>
              <a:chExt cx="7811280" cy="4536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057680" y="2320920"/>
                <a:ext cx="5140440" cy="35344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4536360"/>
                <a:ext cx="7811280" cy="23205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116080" y="5380200"/>
                <a:ext cx="3174840" cy="63288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360440" y="2953800"/>
              <a:ext cx="4687200" cy="1353600"/>
            </a:xfrm>
            <a:custGeom>
              <a:avLst/>
              <a:gdLst/>
              <a:ahLst/>
              <a:rect l="l" t="t" r="r" b="b"/>
              <a:pathLst>
                <a:path w="1488" h="616">
                  <a:moveTo>
                    <a:pt x="0" y="480"/>
                  </a:moveTo>
                  <a:cubicBezTo>
                    <a:pt x="4" y="520"/>
                    <a:pt x="8" y="560"/>
                    <a:pt x="96" y="576"/>
                  </a:cubicBezTo>
                  <a:cubicBezTo>
                    <a:pt x="184" y="592"/>
                    <a:pt x="336" y="616"/>
                    <a:pt x="528" y="576"/>
                  </a:cubicBezTo>
                  <a:cubicBezTo>
                    <a:pt x="720" y="536"/>
                    <a:pt x="1088" y="432"/>
                    <a:pt x="1248" y="336"/>
                  </a:cubicBezTo>
                  <a:cubicBezTo>
                    <a:pt x="1408" y="240"/>
                    <a:pt x="1448" y="120"/>
                    <a:pt x="1488" y="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755640" y="260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lso they have used the white hat ,green hat ,yellow hat, black hat, red hat to get more information from The Lorax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45080" cy="41590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0" y="4437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re’s just one of Room 12’s awesome A-Z of the Lorax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835280" y="59500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se hats are from the Cat in the Hat ,look at all of the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0" y="494172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re’s somebody being good reading what book week is all abou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-198360" y="0"/>
            <a:ext cx="9342360" cy="7007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340000" y="1052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oom 12 ended there book with the book parade they all looked fabulous and all did very well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Regan from the news team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2:01:03Z</dcterms:created>
  <dc:creator>Administrator</dc:creator>
  <dc:description/>
  <dc:language>en-US</dc:language>
  <cp:lastModifiedBy>Administrator</cp:lastModifiedBy>
  <dcterms:modified xsi:type="dcterms:W3CDTF">2008-09-25T22:45:30Z</dcterms:modified>
  <cp:revision>9</cp:revision>
  <dc:subject/>
  <dc:title>Slide 1</dc:title>
</cp:coreProperties>
</file>