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85B-14E1-4D3A-B622-BB87837E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E58-CEDB-497B-9262-45AC669D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BBB-CC4E-4737-AD65-BF303B97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158-CFD9-4B4A-91BF-0F85BC73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2754E-8EEC-4CE7-9DD2-26D50AD1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8857F-310C-400B-BD22-36313E16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E1E32-1AC0-43BF-907C-97BE2EDC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1AD13-2BCF-4A4E-9B38-5A121EB3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98756-196C-4F46-95E7-35ACA99A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18611-A0E4-4268-9A2E-069E1697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F40BE-2996-4146-ACFE-A067852D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240-8714-4989-8DF9-60EB9F21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BD46E-FE20-416A-8409-1734E593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4491B-240E-4602-959D-C1D2BC0C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46029-57E6-4D7F-BB95-8FC69992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44007-DA9F-47F6-8CFC-64DD3DF3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04E25-94F5-4A0F-91A8-58E5015E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39EB-4CF8-448B-8A18-E26F2D51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3AAD-85D6-4E95-9E5B-E37513EA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992B1-49CD-4951-BC79-8FF6CA54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598F8-9E64-426B-A123-31217412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852A-6D0D-44FA-AC36-AD0E8665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4F0-ECE1-4B54-9595-93DCAE10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DD31-4E04-4223-B477-C42CF4E6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5DFB-CE94-4188-B804-86D0F589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272E0-AECB-4FC0-9428-5FEA6700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EF88-8679-4313-AFC9-38C9BDF5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30EF-7211-4FE6-A5F9-2C8FF53A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47E3-56E6-47C6-800D-22B14E00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C4B1-D236-4370-A03A-53B08465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4D5-D08C-49A3-A058-06B6C929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42E-A5A2-45F8-B5A1-DC34B25A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22D-9CA8-42C8-8793-1D2E0808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00D-577E-48EC-99C7-7651E316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BE4-4520-4F22-AEA6-A82CBC1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56A-720B-4CF9-B2CC-9BCF59D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748C-961C-4526-B191-997EF9427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4C59-4FE8-480B-9033-D6107DB4B4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9B47-75EC-4768-ABC4-F8110C6321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55640" y="54936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oom 1's Fantastic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flipH="1">
            <a:off x="6516720" y="4403880"/>
            <a:ext cx="2340000" cy="208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00360" y="2205000"/>
            <a:ext cx="33098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600720" cy="2703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321300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Morning, Room 1 started making their wacky, stunning, weird and amazing alien headba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692360" y="5634000"/>
            <a:ext cx="52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Don't be silly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3573360"/>
            <a:ext cx="439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Wednesday afternoon all year 4-6 classes went to the hall to see storylines. It was fun, fantastic and exc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4365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Boy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51280" y="260280"/>
            <a:ext cx="4141800" cy="3221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05080" cy="319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56000" y="4653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irl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4000" cy="5508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76360" y="603396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Clas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476280"/>
            <a:ext cx="756144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bout The Pa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arade was all about fun, a chance to show off your costumes that classes made during the week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33360"/>
            <a:ext cx="5905440" cy="482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765000"/>
            <a:ext cx="5256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d by Cameron from the news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special thanks to: Room 1, and everyone in charge of book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pe you enjoyed i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62472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16360" y="5157720"/>
            <a:ext cx="647640" cy="144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3:36Z</dcterms:created>
  <dc:creator>Administrator</dc:creator>
  <dc:description/>
  <dc:language>en-US</dc:language>
  <cp:lastModifiedBy>Administrator</cp:lastModifiedBy>
  <dcterms:modified xsi:type="dcterms:W3CDTF">2008-09-25T22:43:06Z</dcterms:modified>
  <cp:revision>11</cp:revision>
  <dc:subject/>
  <dc:title>Slide 1</dc:title>
</cp:coreProperties>
</file>