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6A8-BDF1-4545-9AAD-9DD11067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DC6-2BCC-4BDC-BAE1-4E1A672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BFB-62BC-4A12-B86F-0B60B7ED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C58-76FA-4E10-97FF-C605FC28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242A3-BDD0-4BD1-8612-E8513A8F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A5665-98AE-4C0A-B379-1082D2BF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C1DA-801D-4D74-A48D-959CABB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C563C-A9C7-460E-A28C-1921C5E1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06F27-CD91-4C94-A602-CAD69F38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FC888-2EAD-44E6-9BE8-6DAE79D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64DC6-8C81-4FF3-8D8C-1A3A7DD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928-B00F-437A-A736-D9E2352F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C609-CF3C-41DD-B5A2-1EA3DA14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948B8-C440-47F2-BEEC-C909499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F34A6-1BA3-462D-92B2-13021071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8F07B-D123-4909-AB5E-B4D05B52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E71E-F7A3-44C6-85B0-F730E588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3EBA-3DD0-4E93-A6E7-C23809B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4BB2-323C-48D2-9E6B-3FA2EBD9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1140-03F5-43CA-A178-75D5B878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8766-A2E6-463D-9C27-3C7B1CF6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FB08-C6C4-49D5-9ADC-FFB9A604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ED6-A0D4-46AC-AC22-57B9B17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8416-1397-41F9-9CD1-66BB2D72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4C2A-772A-4BBA-BA69-6D80E2D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3E01-3589-4B90-B4E9-D9159A5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50DA-549E-49DF-B730-9884EAE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36AD-97CC-4C10-9AB7-5DA79AF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7B3D-265B-4596-919B-28DB9B34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2303-FF9F-47B0-8851-C69C10A0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E78-1D95-40C0-8CD5-CDD8553D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F46-2CC9-434E-B3E5-172051DD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36F-A3FB-4F62-91BC-B88B934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1F5-B1C4-4665-9DD3-F4F1E8A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26E-4B83-4B4F-9E9C-0B412B3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E01-01A4-4C85-A391-5D2516AA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E939-95C0-4C8C-9ADC-E1E0CC70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F673-1403-4AE9-AF8C-B2204E6F87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6AC-7E33-4007-B3B6-A173F4A712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54936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oom 1's Fantastic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flipH="1">
            <a:off x="6516720" y="4403880"/>
            <a:ext cx="2340000" cy="20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3098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2130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Morning, Room 1 started making their wacky, stunning, weird and amazing alien headba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92360" y="5634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Don't be sill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3573360"/>
            <a:ext cx="439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afternoon all year 4-6 classes went to the hall to see storylines. It was fun, fantastic and exc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3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oy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51280" y="260280"/>
            <a:ext cx="4141800" cy="322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05080" cy="319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4653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irl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603396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las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476280"/>
            <a:ext cx="7561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bout The Pa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ade was all about fun, a chance to show off your costumes that classes made during the wee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5905440" cy="48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765000"/>
            <a:ext cx="5256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d by Cameron from the new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pecial thanks to: Room 1, and everyone in charge of book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pe you enjoyed i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2472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16360" y="5157720"/>
            <a:ext cx="6476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36Z</dcterms:created>
  <dc:creator>Administrator</dc:creator>
  <dc:description/>
  <dc:language>en-US</dc:language>
  <cp:lastModifiedBy>Administrator</cp:lastModifiedBy>
  <dcterms:modified xsi:type="dcterms:W3CDTF">2008-09-25T22:43:06Z</dcterms:modified>
  <cp:revision>11</cp:revision>
  <dc:subject/>
  <dc:title>Slide 1</dc:title>
</cp:coreProperties>
</file>