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19FA-F44C-437B-9175-536A761B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95B-A77E-44E0-81DE-1E164F7E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281-B797-466F-952B-755B5B77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63FA-D12E-41EA-97C2-7AA070AD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E4F8E-120F-4E50-B433-B0134132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1FF13-DB72-4FAC-A9F9-76AC29F0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E3BD2-DF00-4216-80D0-B2E63D29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AD5DF-3F56-485B-AC0D-29EB054E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52744-65F2-4393-9264-F4D2E697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E2D84-FA2C-4AB0-BB5E-AF24FF7D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C6FF7-7E7B-4554-A4BA-8598E722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EA8-71BF-4744-8E4F-AAC2412A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EEB00-867C-405C-9451-44FA53F5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25221-87BF-4782-9067-600446EA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A4265-A727-4E25-8E32-DDD69B72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78017-4089-4819-9E37-12923F06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9761A-7494-4A45-8673-E9EEA2B7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8E670-4EBC-4BB2-BF40-184102EB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937CC-6DA5-43CD-9B8C-11A472CD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64D97-5DAC-4834-8234-2C301D3C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04EC5-360B-44A6-98AB-E5E023A9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EBB53-C9A3-40F4-A404-A594B6E4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090-5F91-4908-A11B-30F558A9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197EE-DD50-4608-9CEB-D739878F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DF507-BBD2-4518-8EEE-361AE762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5D04-D2FF-4F22-A3DE-87C3A5E8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0036F-EE8E-4755-83B5-6371F2A6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4EEF0-E037-4FBB-B5CF-43C56CDF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B8B10-6928-435E-AE19-EE085E54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3FBA-563A-4CB0-8C97-6017B6C9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5BC-4C9F-48EF-B653-377B0BEE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846-2573-41CB-BC7F-B14ADFE2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1D6-3ADC-4C81-B5EE-2DB1D8F1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70E-3D62-4A63-902D-BE5BAE31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865-BACB-4D0E-B944-05EDD39A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3D9-E015-47CA-8390-C62B15D0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5326-329E-4DF4-9C2C-C4C786F99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D3E8-8E2C-4585-9D27-897FEF3F74E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665E-863A-4628-9677-D36DCEAC944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55640" y="549360"/>
            <a:ext cx="756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oom 1's Fantastic Book Wee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 flipH="1">
            <a:off x="6516720" y="4403880"/>
            <a:ext cx="2340000" cy="208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00360" y="2205000"/>
            <a:ext cx="33098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3600720" cy="2703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3672000" cy="2754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4000" y="3213000"/>
            <a:ext cx="45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Wednesday Morning, Room 1 started making their wacky, stunning, weird and amazing alien headba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692360" y="5634000"/>
            <a:ext cx="525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Don't be silly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292720" y="335772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4000" y="3573360"/>
            <a:ext cx="439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Wednesday afternoon all year 4-6 classes went to the hall to see storylines. It was fun, fantastic and exc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4365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Boy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751280" y="260280"/>
            <a:ext cx="4141800" cy="3221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105080" cy="3194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56000" y="46530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Girl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344000" cy="5508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76360" y="6033960"/>
            <a:ext cx="61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Clas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5640" y="476280"/>
            <a:ext cx="756144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bout The Pa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arade was all about fun, a chance to show off your costumes that classes made during the week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333360"/>
            <a:ext cx="5905440" cy="4824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765000"/>
            <a:ext cx="5256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eated by Cameron from the news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special thanks to: Room 1, and everyone in charge of book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pe you enjoyed i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624720" y="400536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16360" y="5157720"/>
            <a:ext cx="647640" cy="144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3:36Z</dcterms:created>
  <dc:creator>Administrator</dc:creator>
  <dc:description/>
  <dc:language>en-US</dc:language>
  <cp:lastModifiedBy>Administrator</cp:lastModifiedBy>
  <dcterms:modified xsi:type="dcterms:W3CDTF">2008-09-25T22:43:06Z</dcterms:modified>
  <cp:revision>11</cp:revision>
  <dc:subject/>
  <dc:title>Slide 1</dc:title>
</cp:coreProperties>
</file>