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12D-7CE1-4E5E-8E62-8CB7C0AC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ACB-8E77-482E-9DB0-3F0A8971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33F-5E17-44C0-8AC2-F450B90C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254-D9B5-4F00-971D-36714DB6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AA1-8D0E-42EC-B2AF-24E5D39E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F96-2A0B-48FA-BB0E-2C4DDD6A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F96-1D8D-4730-B0FC-76EB65FF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BF8-6398-4448-9694-B22CF684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C92-54B3-495B-B0F2-9BED5042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6BC-DB21-433F-AFFE-C8AC7F77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A25-D2AE-42DA-8F38-F0EBC77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1D8-645F-42B7-9598-BF316E5A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0C6D-4E26-4CF3-A8C2-A8EECD0DA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bluebison.net/sketchbook/2008/0108/kiwi.png&amp;imgrefurl=http://www.bluebison.net/content/%3Fpaged%3D6&amp;h=303&amp;w=465&amp;sz=38&amp;hl=en&amp;start=2&amp;tbnid=cSPEbyDjfEPo7M:&amp;tbnh=83&amp;tbnw=128&amp;prev=/images%3Fq%3DKiwi%2BBirds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Room 8’s Fantabulous book week!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4800" spc="-1" strike="noStrike">
                <a:solidFill>
                  <a:srgbClr val="996633"/>
                </a:solidFill>
                <a:latin typeface="Arial"/>
              </a:rPr>
              <a:t>Tahi the lucky kiwi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2060640"/>
            <a:ext cx="30909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we met a famous author (in NZ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Hurst is a NZ author who wrote the story called “The boy who bounced” which is a really fun children's picture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also has some unique features including a special reading hat and an                                      enormous pe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5138640"/>
            <a:ext cx="2292480" cy="17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21360" y="5192640"/>
            <a:ext cx="2222640" cy="166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24360" y="5157720"/>
            <a:ext cx="2266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 etching with our buddy class and we made kiwi beaks and feet for our fun book para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etc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my b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36232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30508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835280" y="476280"/>
            <a:ext cx="4721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6633"/>
                    </a:gs>
                  </a:gsLst>
                  <a:lin ang="10800000"/>
                </a:gradFill>
                <a:latin typeface="Arial Black"/>
              </a:rPr>
              <a:t>Our Masterpei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6633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did plays of our favourite story 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oup had lots of fun!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der had some harsh words      And Anna wasn’t to happ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2468520" cy="18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5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3528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32000" y="333360"/>
            <a:ext cx="29228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Fun Play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1341360"/>
            <a:ext cx="7564320" cy="525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 for watc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522936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Madi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27:13Z</dcterms:created>
  <dc:creator>Administrator</dc:creator>
  <dc:description/>
  <dc:language>en-US</dc:language>
  <cp:lastModifiedBy>Administrator</cp:lastModifiedBy>
  <dcterms:modified xsi:type="dcterms:W3CDTF">2008-09-25T22:44:38Z</dcterms:modified>
  <cp:revision>5</cp:revision>
  <dc:subject/>
  <dc:title>Room 8’s Fantabulous book week! </dc:title>
</cp:coreProperties>
</file>