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94DD-5E46-4995-9EC5-D9BF8E40E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9DC3-E735-45F9-A6D7-4FA587C6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8BAF-2ECC-4FC9-94AD-5CE4EAE64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D173-9372-4D24-B011-5B164620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F71F-E43F-4657-84E1-C2D2B627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8A77-D500-485A-96F3-9AB94676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A9B9-368B-4CA3-B0F9-C6876F05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A8C8-C8BB-4949-AC1B-13C3E7E8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0B3F-053A-4535-8877-A0117BF5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CA68-311A-4755-9762-989D38F9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DE27-936E-4501-98FB-8D003CE3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3E53-FEF6-49AE-87A9-88A717BA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E1B0-0BCB-4DF4-8958-12AE410D4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bluebison.net/sketchbook/2008/0108/kiwi.png&amp;imgrefurl=http://www.bluebison.net/content/%3Fpaged%3D6&amp;h=303&amp;w=465&amp;sz=38&amp;hl=en&amp;start=2&amp;tbnid=cSPEbyDjfEPo7M:&amp;tbnh=83&amp;tbnw=128&amp;prev=/images%3Fq%3DKiwi%2BBirds%26gbv%3D2%26hl%3Den%26safe%3Dactive%26sa%3D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Room 8’s Fantabulous book week!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35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</a:rPr>
              <a:t>Tahi the lucky kiwi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64000" y="2060640"/>
            <a:ext cx="309096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500"/>
                            </p:stCondLst>
                            <p:childTnLst>
                              <p:par>
                                <p:cTn id="34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 we met a famous author (in NZ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ine Hurst is a NZ author who wrote the story called “The boy who bounced” which is a really fun children's picture b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ine also has some unique features including a special reading hat and an                                      enormous pen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5138640"/>
            <a:ext cx="2292480" cy="1719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921360" y="5192640"/>
            <a:ext cx="2222640" cy="1665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924360" y="5157720"/>
            <a:ext cx="22669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id etching with our buddy class and we made kiwi beaks and feet for our fun book para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etch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my b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4292640"/>
            <a:ext cx="2362320" cy="1790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372360" y="4292640"/>
            <a:ext cx="2305080" cy="180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348000" y="4292640"/>
            <a:ext cx="2467080" cy="1851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835280" y="476280"/>
            <a:ext cx="47210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996633"/>
                    </a:gs>
                  </a:gsLst>
                  <a:lin ang="10800000"/>
                </a:gradFill>
                <a:latin typeface="Arial Black"/>
              </a:rPr>
              <a:t>Our Masterpeice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996633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1476360" y="3645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0720" y="3645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so did plays of our favourite story b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roup had lots of fun!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Harder had some harsh words      And Anna wasn’t to happy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4292640"/>
            <a:ext cx="2468520" cy="1851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348000" y="4292640"/>
            <a:ext cx="2468520" cy="1851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227640" y="4292640"/>
            <a:ext cx="2467080" cy="1851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35280" y="3500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350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80360" y="350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132000" y="333360"/>
            <a:ext cx="29228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Fun Play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11280" y="1341360"/>
            <a:ext cx="7564320" cy="525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anks for watching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5229360"/>
            <a:ext cx="48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y Madi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6T02:27:13Z</dcterms:created>
  <dc:creator>Administrator</dc:creator>
  <dc:description/>
  <dc:language>en-US</dc:language>
  <cp:lastModifiedBy>Administrator</cp:lastModifiedBy>
  <dcterms:modified xsi:type="dcterms:W3CDTF">2008-09-25T22:44:38Z</dcterms:modified>
  <cp:revision>5</cp:revision>
  <dc:subject/>
  <dc:title>Room 8’s Fantabulous book week! </dc:title>
</cp:coreProperties>
</file>