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FA93-87DF-4027-BCFC-5F9816D1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717C-200B-46D0-BE21-AE86DB7C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5535-C763-4585-970B-63207628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27F84-BB0B-4181-9182-9616BFA5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5B8F-5857-4483-8579-3BE389B7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E411-354F-4FA3-BBA1-E5569D8F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619D-1BCE-4F58-B3FD-E455A564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14E1-0553-49C9-B128-B8532C32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0B8C-AC05-4BC6-BDF4-D68B98F5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C83B-2F89-4D79-B336-21DBB80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8A32-05E8-40EF-A08F-3EEAB381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C84B-89D1-4E63-ADE0-953C9537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470A-49AA-44CC-9972-F06F06C6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1413-E39B-4287-9F30-DC7ABE1E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2000-AA3F-41ED-BCC1-1B2181EB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AD2F-BEAD-44F7-9E74-0007DE3E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44CD-96DB-4A4B-A7CA-0CF99D7D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701A-768D-4471-8DB1-672E3BA7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631F-C0B7-46C3-85A2-31B0764E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03137-2A67-4FD8-A4B3-1831B7DD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2F57-7C18-46B5-8ACD-2EF70D09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93831-E202-4A54-96A4-6A113B0B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373B-8069-4B6A-B9F2-A95230C7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BF300-38A5-44FF-8CC3-0C91EDE1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CF057-5D3C-4187-980E-D0E30FC1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CE6D-5F22-43DA-A787-4860FD67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FDDF-94ED-4553-9511-A4D116E8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4198-1F09-4C03-AA54-A395E20B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FE5EA-FF21-4CE6-A99B-F4328DDA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64A6-6391-4FEB-9C9B-84C649F7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79079-ED42-411D-85D7-DE121467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7FE64-8654-4866-9862-1CE673A2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01437-B87B-4566-85E0-A994E7E9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21153-D186-4541-9BC0-4A0938B5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6B477-B06B-47DC-924C-5410EB4D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366A-34CD-414D-B275-BE621568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0ED1F-089B-4471-8A6A-5A3A95E2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51748-0BCA-48B5-B1B0-403D6D64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A03B2-32CF-460C-8D36-46B27669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603D-311A-4A6F-A59D-5244D027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6CA6-4742-464E-A04B-B8CDB348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0ADB1-DCA1-4650-A50C-5E8A836B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D0F46-33E9-41A0-8543-BE0EF766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71EF8-9A23-43CA-92AC-3BB4BB51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A95E-E16A-4E6D-BA50-B052ED53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4BBF8-D742-4D62-BEA3-F144D440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F7B8C-7060-4C37-920D-4EFDEE9C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A2762-BA28-4C16-8F99-B3773D15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A4C8B-14F6-41CB-8E9E-749796F3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816DD-227A-4CC0-9542-A823F88F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A05E6-C741-4457-ABCC-7A4D1A59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98C0-FAD2-4FA8-851A-710F23F6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92A3B-56DA-47E5-86DA-52C3A3B6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C7661-DC7D-4B0F-936E-820F1855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A8561-DA64-4EBF-8226-919D349E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042E3-84A6-4FD9-AA43-F7BA2961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B4356-AE9D-4404-AAA3-B0AC1D62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A428-293C-439E-BC2D-58F314FE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ECA8-17CF-4733-99CE-99B121CC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19B6-F578-4BD4-ADB1-23724C3F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9982-F69D-4725-9CC5-4CC5380A74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F47E-0860-4F56-ADAE-FBB83A17F4E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EDFC-9E11-4047-AB1E-6B73F4E84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D8D4-79AE-43B0-9BD7-6E449648FE4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D70F-7F24-49D4-BB46-B914960FC3B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here_The_Wild_Things_Are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042920" y="260280"/>
            <a:ext cx="7489800" cy="32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Room 20 and 11 ar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Where The Wild Things Ar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257" name="" descr="Where the Wild Things A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565360"/>
            <a:ext cx="5329080" cy="3924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cc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0b0b"/>
                </a:solidFill>
                <a:latin typeface="Bradley Hand ITC"/>
              </a:rPr>
              <a:t>Made by News Team reporter Darius and edited by News Team reporter Mich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55640" y="260280"/>
            <a:ext cx="801684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ff15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Thanks for watching these wild th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ff15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eff15"/>
                </a:solidFill>
                <a:latin typeface="Bernard MT Condensed"/>
              </a:rPr>
              <a:t>Room 20 made some scary and crazy monst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05"/>
                </a:solidFill>
                <a:latin typeface="Copperplate Gothic Bold"/>
              </a:rPr>
              <a:t>They made some cool masks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514680" cy="3959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219640" y="1916280"/>
            <a:ext cx="27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Bradley Hand ITC"/>
              </a:rPr>
              <a:t>After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587760" cy="392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47640" y="184464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Bradley Hand ITC"/>
              </a:rPr>
              <a:t>Bef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5832360" cy="148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ice job Mrs Bartlem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484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7451640" y="0"/>
            <a:ext cx="16923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 Black"/>
              </a:rPr>
              <a:t>What a cool monster!!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Showcard Gothic"/>
              </a:rPr>
              <a:t>What’s the ugly face for, monster?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8575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ICCCCE!!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0"/>
            <a:ext cx="9144000" cy="15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5"/>
                </a:solidFill>
                <a:latin typeface="Showcard Gothic"/>
              </a:rPr>
              <a:t>Nicccc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53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Showcard Gothic"/>
              </a:rPr>
              <a:t>Scaryyy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058160" cy="53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01:22Z</dcterms:created>
  <dc:creator>Administrator</dc:creator>
  <dc:description/>
  <dc:language>en-US</dc:language>
  <cp:lastModifiedBy>Administrator</cp:lastModifiedBy>
  <dcterms:modified xsi:type="dcterms:W3CDTF">2008-09-25T22:47:13Z</dcterms:modified>
  <cp:revision>8</cp:revision>
  <dc:subject/>
  <dc:title>Slide 1</dc:title>
</cp:coreProperties>
</file>