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D99C-015F-4C33-8A0A-761F5D36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403A-9470-479D-97C5-19B1B89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C994-BFDD-430C-ACCF-0ED85727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8427-F65B-4199-AB66-016EF0FA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987-56AE-43BD-9924-36CA8954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EE5D-FE69-4B7E-BD67-CDA11B94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012-E146-4C4D-806A-04CBA58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B231-94A0-4E67-B130-578F16A0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BCE-4F3B-437A-A562-2F316A6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F9F3-2C7D-4197-9035-247B28A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0DB7-4E01-4331-B7D5-496CC06C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8506-9D31-4BF8-B5D0-B3468A3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2161-44F1-41A3-A7EE-1E3414E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B14-9CD8-4513-BB94-D4CCF63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0A5-0683-4E4B-92C0-76A6DDB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FC1C-4DEF-437E-944E-A8C99EEE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1DE-BFA5-4B14-BAE1-2FBD02A8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AEEB-A0DE-494D-A6F6-5FB04357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6319-90ED-4F3E-8DE1-BE0182B4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49A5-47BF-466C-8202-698A1346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BE22-0694-4483-905F-1279E8C3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D3E3-F5E9-4D45-A784-326C6726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4D23-0046-4B85-B95C-DC2BE88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AA11-D8EB-4569-9695-59401336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87BB-B6DA-41C8-989E-1833F5B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6BFC-940F-4980-9E68-977A58D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93AD-48B0-41F0-93E6-4C59C0B7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13C0-31C9-4B10-80D7-7C9F61C9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4AF6-A0FC-4601-80D1-CAB2DC0A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6DE4-2C10-4A2F-BD00-B2D63199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AD05-65AC-4ACC-8086-02A060EE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1096-ED1E-4D31-88FA-957BAD08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DDEE-1BC8-42AF-B3A5-6841659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9550-B951-41CD-B5B6-031B72FB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13A6-7C06-4CD7-B814-85CB783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742A-2902-4930-8D27-43528D9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131E-9289-48C4-B656-EFBB59B9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3120-8D91-46A4-BF3E-7693651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8030-AD39-49CF-AA8C-F2CFE15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DCFB-D805-4397-9B4C-26F3376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89D8-5A17-4D92-B0A9-9B4E7E9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6228-6D74-40AF-8AE5-E1B3946B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F235-902B-42E3-810E-341A09DF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9CFA-DD6C-4DC5-A1BE-BA3949F4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FDCD-378F-4E93-9881-E75EF0BA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E899-F3A9-499B-8DB5-FF9D6D35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B17C6-9EA7-4995-9EB7-F159EA5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7A4B-B5DC-4671-B862-C678E80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29DE-82B2-45FC-BFB0-BD7811C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01D0-59BF-4CB8-9319-22FDA58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496D-0AD4-4572-85FD-E9BF193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CB1C-242B-497B-80C9-F091A6C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B986A-A24B-4827-9659-B6107F2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89CB-6FA6-45A0-B723-79A80CD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CE0B-9BA8-4FED-B624-3922ADF3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D2B9-4D3F-4B9A-B52B-A8C355D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86E91-B93C-4222-B052-5AE28E9D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6EE7-43C5-4625-868A-2FCF84B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47F4-BBE2-4487-96DE-F56632D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31A0-BCF4-4A43-AAF1-2878B31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B6B-DD75-40CD-9A00-1FED3EE92A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898-C255-48E0-A3CA-AC2BF1FB1A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90F9-8207-4A46-9358-59CD5EFB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B79B-3C05-47F7-ADD7-D6BFB9C4BDE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DBEA-C898-42CA-94E4-9DC413BEE45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here_The_Wild_Things_Are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042920" y="260280"/>
            <a:ext cx="7489800" cy="32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Room 20 and 11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1e1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ere The Wild Things Ar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1e1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257" name="" descr="Where the Wild Things 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565360"/>
            <a:ext cx="5329080" cy="392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0b0b"/>
                </a:solidFill>
                <a:latin typeface="Bradley Hand ITC"/>
              </a:rPr>
              <a:t>Made by News Team reporter Darius and edited by News Team reporter Mich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55640" y="260280"/>
            <a:ext cx="801684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ff15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Arial Black"/>
              </a:rPr>
              <a:t>Thanks for watching these wild th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ff15"/>
                  </a:gs>
                  <a:gs pos="100000">
                    <a:srgbClr val="ff66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eff15"/>
                </a:solidFill>
                <a:latin typeface="Bernard MT Condensed"/>
              </a:rPr>
              <a:t>Room 20 made some scary and crazy mons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5"/>
                </a:solidFill>
                <a:latin typeface="Copperplate Gothic Bold"/>
              </a:rPr>
              <a:t>They made some cool masks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514680" cy="3959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19640" y="191628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After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587760" cy="392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47640" y="1844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Bradley Hand ITC"/>
              </a:rPr>
              <a:t>Bef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83236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ce job Mrs Bartlem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Arial Black"/>
              </a:rPr>
              <a:t>What a cool monster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Showcard Gothic"/>
              </a:rPr>
              <a:t>What’s the ugly face for, monster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8575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ICCCCE!!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5"/>
                </a:solidFill>
                <a:latin typeface="Showcard Gothic"/>
              </a:rPr>
              <a:t>Nicccc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53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Showcard Gothic"/>
              </a:rPr>
              <a:t>Scaryy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058160" cy="53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01:22Z</dcterms:created>
  <dc:creator>Administrator</dc:creator>
  <dc:description/>
  <dc:language>en-US</dc:language>
  <cp:lastModifiedBy>Administrator</cp:lastModifiedBy>
  <dcterms:modified xsi:type="dcterms:W3CDTF">2008-09-25T22:47:13Z</dcterms:modified>
  <cp:revision>8</cp:revision>
  <dc:subject/>
  <dc:title>Slide 1</dc:title>
</cp:coreProperties>
</file>