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FD3-CD5D-4711-A39D-F442650B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914-CF74-455C-B60C-9A17CE34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BAF-611F-49EF-A6ED-1DDD1514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7E77-3EAF-49CD-B4CF-14942226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AF1E-F30C-4E0E-A6F3-97EBAFDE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337B-2BCD-4338-AF71-D318193C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24F1-BDBE-460A-9A32-86A6ACC1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2E13-36B5-4107-88EF-C4F916A3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FC7B-0E2C-47CF-AC6A-232B55E6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8B52-2740-40A2-AA7A-66CC67B9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ED57-3B12-4244-AE7C-8E222747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B76-5EC6-4088-9BD6-F7826073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2278-A2AB-410E-A8FC-39E44E65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E7B7-E409-41B9-9B6B-BF309D1A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883B-04A8-4C35-B8EA-B15766B5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802E-2706-406C-9FA7-BC5F3A7E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0DBE-F542-4DE2-80BE-2AB17F85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BF1-67DC-475B-A0C1-002F550C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6D82-3ECE-4EBF-B758-DBD31BBE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EA6-43FC-4BCC-9E0F-8C642F5B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BAE-0F1B-40A9-A4AF-10A4C31E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274-66BB-4548-8DF6-EEB89294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6B2-4146-4D00-84BB-D1E964FD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373A-09CD-4B67-BE78-3B8C292E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15DA-4EC3-4133-ADDC-D246F3F0A5E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0DBE-DBB0-4E85-BB58-4A64EA8F87E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7791480" y="0"/>
            <a:ext cx="1352520" cy="14698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076720" y="0"/>
            <a:ext cx="1727280" cy="2492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611280" y="0"/>
            <a:ext cx="3624120" cy="39387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1692360" y="4437000"/>
            <a:ext cx="63342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Rm 12's crazy book wee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11280" y="98100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oom 12 has been reading The Lorax and has made slides and interesting cat in the hat hats, they have also done acrostic poems about the Lorax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62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0" y="2320920"/>
            <a:ext cx="7811280" cy="4536000"/>
            <a:chOff x="0" y="2320920"/>
            <a:chExt cx="7811280" cy="4536000"/>
          </a:xfrm>
        </p:grpSpPr>
        <p:grpSp>
          <p:nvGrpSpPr>
            <p:cNvPr id="357" name=""/>
            <p:cNvGrpSpPr/>
            <p:nvPr/>
          </p:nvGrpSpPr>
          <p:grpSpPr>
            <a:xfrm>
              <a:off x="0" y="2320920"/>
              <a:ext cx="7811280" cy="4536000"/>
              <a:chOff x="0" y="2320920"/>
              <a:chExt cx="7811280" cy="4536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057680" y="2320920"/>
                <a:ext cx="5140440" cy="35344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cc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4536360"/>
                <a:ext cx="7811280" cy="23205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cc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116080" y="5380200"/>
                <a:ext cx="3174840" cy="63288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cc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360440" y="2953800"/>
              <a:ext cx="4687200" cy="1353600"/>
            </a:xfrm>
            <a:custGeom>
              <a:avLst/>
              <a:gdLst/>
              <a:ahLst/>
              <a:rect l="l" t="t" r="r" b="b"/>
              <a:pathLst>
                <a:path w="1488" h="616">
                  <a:moveTo>
                    <a:pt x="0" y="480"/>
                  </a:moveTo>
                  <a:cubicBezTo>
                    <a:pt x="4" y="520"/>
                    <a:pt x="8" y="560"/>
                    <a:pt x="96" y="576"/>
                  </a:cubicBezTo>
                  <a:cubicBezTo>
                    <a:pt x="184" y="592"/>
                    <a:pt x="336" y="616"/>
                    <a:pt x="528" y="576"/>
                  </a:cubicBezTo>
                  <a:cubicBezTo>
                    <a:pt x="720" y="536"/>
                    <a:pt x="1088" y="432"/>
                    <a:pt x="1248" y="336"/>
                  </a:cubicBezTo>
                  <a:cubicBezTo>
                    <a:pt x="1408" y="240"/>
                    <a:pt x="1448" y="120"/>
                    <a:pt x="1488" y="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755640" y="260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lso they have used the white hat ,green hat ,yellow hat, black hat, red hat to get more information from The Lorax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45080" cy="41590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0" y="4437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ere’s just one of Room 12’s awesome A-Z of the Lorax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835280" y="59500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se hats are from the Cat in the Hat ,look at all of the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0" y="494172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ere’s somebody being good reading what book week is all abou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-198360" y="0"/>
            <a:ext cx="9342360" cy="7007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340000" y="1052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oom 12 ended there book with the book parade they all looked fabulous and all did very well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Regan from the news team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02:01:03Z</dcterms:created>
  <dc:creator>Administrator</dc:creator>
  <dc:description/>
  <dc:language>en-US</dc:language>
  <cp:lastModifiedBy>Administrator</cp:lastModifiedBy>
  <dcterms:modified xsi:type="dcterms:W3CDTF">2008-09-25T22:45:30Z</dcterms:modified>
  <cp:revision>9</cp:revision>
  <dc:subject/>
  <dc:title>Slide 1</dc:title>
</cp:coreProperties>
</file>