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3241-2F42-4B31-B834-11BCF1BAE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902D-962C-4C32-81BA-C0F21772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C86A-CA3B-4E1B-B18C-65FE41EE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78C1-3413-4AD8-A952-5D8835B2E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2529-0A4E-49A7-9A83-30897348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BD7C-ABB3-4BBD-9AA1-D8139A70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EB07-F979-4581-A54D-FA853E34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C5EC-8434-4D3C-99E3-24D1D139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66C0-9519-433D-AED3-CE6A9BF6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5202-0221-472F-AAAE-8F7E23ED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5711-DEA5-4A6F-8AA2-538C055A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D72A-A279-48A8-99A1-E8141263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3E6F-7A73-4B97-949B-250BD1B8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6625-B273-46D8-B116-DDB537DD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FC0E-CA49-4E70-94AC-B618F2F3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C463-20EB-4D07-B43B-EDCB2906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FF24-5D13-4383-956A-FF051667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0B2E-C5C9-4DAA-B0B1-19D4EE76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6193-D0B2-4291-A0EF-5285969E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584F-D9F5-4461-BC6D-1A42EB4A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1E5C-6BAD-4CBC-A21D-E1753425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9C09-A20D-419B-BEBB-5210A22C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F584-D0B6-4FDA-BFBE-CFE688BE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2EE2-98A3-465D-9AA5-D000A4E5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894E-3D2C-4AED-A49E-F2AA967940C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06C1-ACE3-47AD-82D0-B28DE14010E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7791480" y="0"/>
            <a:ext cx="1352520" cy="14698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5076720" y="0"/>
            <a:ext cx="1727280" cy="24922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611280" y="0"/>
            <a:ext cx="3624120" cy="39387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1692360" y="4437000"/>
            <a:ext cx="63342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Rm 12's crazy book week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11280" y="981000"/>
            <a:ext cx="24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oom 12 has been reading The Lorax and has made slides and interesting cat in the hat hats, they have also done acrostic poems about the Lorax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2916360" y="0"/>
            <a:ext cx="62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0" y="2320920"/>
            <a:ext cx="7811280" cy="4536000"/>
            <a:chOff x="0" y="2320920"/>
            <a:chExt cx="7811280" cy="4536000"/>
          </a:xfrm>
        </p:grpSpPr>
        <p:grpSp>
          <p:nvGrpSpPr>
            <p:cNvPr id="357" name=""/>
            <p:cNvGrpSpPr/>
            <p:nvPr/>
          </p:nvGrpSpPr>
          <p:grpSpPr>
            <a:xfrm>
              <a:off x="0" y="2320920"/>
              <a:ext cx="7811280" cy="4536000"/>
              <a:chOff x="0" y="2320920"/>
              <a:chExt cx="7811280" cy="4536000"/>
            </a:xfrm>
          </p:grpSpPr>
          <p:sp>
            <p:nvSpPr>
              <p:cNvPr id="358" name=""/>
              <p:cNvSpPr/>
              <p:nvPr/>
            </p:nvSpPr>
            <p:spPr>
              <a:xfrm>
                <a:off x="1057680" y="2320920"/>
                <a:ext cx="5140440" cy="353448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cc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4536360"/>
                <a:ext cx="7811280" cy="23205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cc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116080" y="5380200"/>
                <a:ext cx="3174840" cy="63288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cc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1360440" y="2953800"/>
              <a:ext cx="4687200" cy="1353600"/>
            </a:xfrm>
            <a:custGeom>
              <a:avLst/>
              <a:gdLst/>
              <a:ahLst/>
              <a:rect l="l" t="t" r="r" b="b"/>
              <a:pathLst>
                <a:path w="1488" h="616">
                  <a:moveTo>
                    <a:pt x="0" y="480"/>
                  </a:moveTo>
                  <a:cubicBezTo>
                    <a:pt x="4" y="520"/>
                    <a:pt x="8" y="560"/>
                    <a:pt x="96" y="576"/>
                  </a:cubicBezTo>
                  <a:cubicBezTo>
                    <a:pt x="184" y="592"/>
                    <a:pt x="336" y="616"/>
                    <a:pt x="528" y="576"/>
                  </a:cubicBezTo>
                  <a:cubicBezTo>
                    <a:pt x="720" y="536"/>
                    <a:pt x="1088" y="432"/>
                    <a:pt x="1248" y="336"/>
                  </a:cubicBezTo>
                  <a:cubicBezTo>
                    <a:pt x="1408" y="240"/>
                    <a:pt x="1448" y="120"/>
                    <a:pt x="1488" y="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755640" y="26028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Also they have used the white hat ,green hat ,yellow hat, black hat, red hat to get more information from The Lorax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45080" cy="415908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0" y="44370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ere’s just one of Room 12’s awesome A-Z of the Lorax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192720" cy="464508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835280" y="595008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hese hats are from the Cat in the Hat ,look at all of them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0" y="494172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ere’s somebody being good reading what book week is all abou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-198360" y="0"/>
            <a:ext cx="9342360" cy="70074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2340000" y="105264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Room 12 ended there book with the book parade they all looked fabulous and all did very well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 Regan from the news team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6T02:01:03Z</dcterms:created>
  <dc:creator>Administrator</dc:creator>
  <dc:description/>
  <dc:language>en-US</dc:language>
  <cp:lastModifiedBy>Administrator</cp:lastModifiedBy>
  <dcterms:modified xsi:type="dcterms:W3CDTF">2008-09-25T22:45:30Z</dcterms:modified>
  <cp:revision>9</cp:revision>
  <dc:subject/>
  <dc:title>Slide 1</dc:title>
</cp:coreProperties>
</file>