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CAD-28EC-40ED-845F-7CFBAEEE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D2B-46E9-4E31-9E00-7A699B2F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5C7-9A3A-44BE-9E39-C153D1D6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E00-0BE5-4EA8-8D16-CA01967F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4C69C-DE8F-40DD-B112-12F087FE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E545C-5A78-4831-8E2C-B198705B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8BEFB-4394-4FD6-AD2E-A3978139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787C2-BC0B-4384-AAA3-5B57F0DC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2A98E-32C2-46FF-A207-2D9E1C38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96510-CDEE-41A5-99E6-AEE62C2D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FD30F-50FF-4367-BD17-19D1BAA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474-10CF-4FCD-82B9-200ED159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75D52-860F-40E8-890D-BC60489D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8EE91-5C7D-4ADE-AF7B-C27410E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54224-2ED1-42AD-87E3-AD0FFC9A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7901E-3400-42D8-8F71-A6D42726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88244-B59D-4E57-8BB4-4CB390F8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0BED-543B-4893-808F-44E0FD77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9AEB-E559-4DA2-B3C6-5EF9191C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F5D7-D21D-4826-A323-8D0413E9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A118-86B6-4376-A246-34CE230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9DB1-1281-4B29-A5CA-56F509AD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2F8-CAD5-44E0-A20A-5B88B363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2105-3673-475D-B627-A9F52CDC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3742-C4AD-484D-83C9-478A4BBF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9AE8-E789-4808-B7D4-E3D3BE4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CB49-16A2-4CCD-B46C-D5763093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A414-601C-46CB-AD0A-1C84D36A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D064-8B4F-4EE7-A779-E7D9ECEB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8E7F-C61A-4D0A-94BE-8AC76101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559-3C9C-48E8-9480-BD2D8F4D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A97-DED6-4F92-B320-4E0F7333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BF2-0534-4D58-AEFF-EA0588FD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EC2-F725-4D05-AF49-27D95F4D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476-9BFF-4E7F-BD54-9763B77A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A53-E0C3-4798-9A81-74714218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EF9F-E69E-4713-B877-9EF68544A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1544-E18C-47A2-9A76-23C1EDE031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68CF-F2BF-4844-A55E-3786054398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55640" y="54936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oom 1's Fantastic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flipH="1">
            <a:off x="6516720" y="4403880"/>
            <a:ext cx="2340000" cy="208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00360" y="2205000"/>
            <a:ext cx="33098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600720" cy="2703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321300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Morning, Room 1 started making their wacky, stunning, weird and amazing alien headba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92360" y="5634000"/>
            <a:ext cx="52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Don't be silly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3573360"/>
            <a:ext cx="439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afternoon all year 4-6 classes went to the hall to see storylines. It was fun, fantastic and exc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4365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Boy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51280" y="260280"/>
            <a:ext cx="4141800" cy="3221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05080" cy="319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56000" y="4653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irl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4000" cy="5508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76360" y="603396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Clas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476280"/>
            <a:ext cx="756144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bout The Pa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arade was all about fun, a chance to show off your costumes that classes made during the week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33360"/>
            <a:ext cx="5905440" cy="482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765000"/>
            <a:ext cx="5256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d by Cameron from the news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special thanks to: Room 1, and everyone in charge of book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pe you enjoyed i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62472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16360" y="5157720"/>
            <a:ext cx="647640" cy="144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36Z</dcterms:created>
  <dc:creator>Administrator</dc:creator>
  <dc:description/>
  <dc:language>en-US</dc:language>
  <cp:lastModifiedBy>Administrator</cp:lastModifiedBy>
  <dcterms:modified xsi:type="dcterms:W3CDTF">2008-09-25T22:43:06Z</dcterms:modified>
  <cp:revision>11</cp:revision>
  <dc:subject/>
  <dc:title>Slide 1</dc:title>
</cp:coreProperties>
</file>