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gif" ContentType="image/gif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57C0-2678-4260-B6D0-8EE2500F9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338A-9127-4B1D-81CC-AE42C3DA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A02F-E001-4B49-8D38-AA2201545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E8E1-11F6-46EF-B638-097A49CED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44350-9BAF-472F-AEC8-C1490E8E4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A9B2D-718B-406A-8DC2-56A8B5B8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04166D-111E-4310-BAA4-49F0D8B4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D1B01-6691-4C0B-895E-1EE82D04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11DCC2-A9DE-4DB7-98DF-9B04BFC1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C2F3A3-58FE-4F27-82C0-2A8E247F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95BC2-F7EC-44CA-949D-08F187D2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EB47-9543-4E29-B844-98621592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2EB3F-D9D8-4049-BBF9-50985316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D7151-C475-4AC5-802B-7D496C43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B4A85-C472-44F6-8F4B-08723F70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E451A-1684-419F-BE97-6C8631673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D0119-8333-45D3-B1CA-E107E4184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B8BBA-0044-483D-A928-872F11AE9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A4EAE-B192-4761-A1D5-F567BDBF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E9222-CAB9-4D7A-A634-5A0F5B8F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BDC68-4DFE-4878-B611-D192ADC9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BA6B9-985E-4635-AB4F-57FB8C01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BB5C-72E7-403D-8026-120B1318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D7FF7-57FD-4710-A652-8E897526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56BBA-90EA-4A4B-9AB4-BC814E02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FCBEC-B755-4996-B147-D25EC37F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3C706-2367-49DF-8BAD-BF41CCD2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76A8A-A5E1-4EB4-8D5E-B36540C6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9940B-9354-4557-92E5-072FC96CA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25DFE-DDF6-4159-8065-A8328BCEA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1A66-CFD8-4B35-8F2B-19E6B094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1F33-69F9-4155-9271-39E74FFD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5B99-6D41-4986-BBA3-C9F40EEE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84B8-7A0A-46C3-8160-48786281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3B47-9611-4BB0-923C-EF0EB795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AFE6-D0A8-41E3-A87C-101FB038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F389-35DE-47DA-AFD1-E255CE532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3566-2E29-475E-81F1-DD70480B297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ADF1-809B-4D92-B33F-7128AC81835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755640" y="549360"/>
            <a:ext cx="75614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oom 1's Fantastic Book Week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50920" y="429264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 flipH="1">
            <a:off x="6516720" y="4403880"/>
            <a:ext cx="2340000" cy="2087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2700360" y="2205000"/>
            <a:ext cx="330984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0000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3600360" cy="2702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003640" y="260280"/>
            <a:ext cx="3600720" cy="27036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4932360" y="3213000"/>
            <a:ext cx="3672000" cy="27543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24000" y="3213000"/>
            <a:ext cx="4535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 Wednesday Morning, Room 1 started making their wacky, stunning, weird and amazing alien headban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1692360" y="5634000"/>
            <a:ext cx="5256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latin typeface="Arial Black"/>
              </a:rPr>
              <a:t>Don't be silly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33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0000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292720" y="26028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292720" y="3357720"/>
            <a:ext cx="3600360" cy="27003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24000" y="3573360"/>
            <a:ext cx="4392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 Wednesday afternoon all year 4-6 classes went to the hall to see storylines. It was fun, fantastic and exci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0000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105440" cy="30798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88000" y="333360"/>
            <a:ext cx="4032000" cy="30243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0" y="43657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e Boys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0000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751280" y="260280"/>
            <a:ext cx="4141800" cy="32212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105080" cy="31942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556000" y="465300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e Girls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0000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344000" cy="55087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476360" y="6033960"/>
            <a:ext cx="61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Class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0000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755640" y="476280"/>
            <a:ext cx="7561440" cy="40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bout The Par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parade was all about fun, a chance to show off your costumes that classes made during the week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95280" y="333360"/>
            <a:ext cx="5905440" cy="4824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55640" y="765000"/>
            <a:ext cx="5256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reated by Cameron from the news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 special thanks to: Room 1, and everyone in charge of bookwe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Hope you enjoyed it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624720" y="4005360"/>
            <a:ext cx="2519280" cy="25192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916360" y="5157720"/>
            <a:ext cx="647640" cy="1440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02:13:36Z</dcterms:created>
  <dc:creator>Administrator</dc:creator>
  <dc:description/>
  <dc:language>en-US</dc:language>
  <cp:lastModifiedBy>Administrator</cp:lastModifiedBy>
  <dcterms:modified xsi:type="dcterms:W3CDTF">2008-09-25T22:43:06Z</dcterms:modified>
  <cp:revision>11</cp:revision>
  <dc:subject/>
  <dc:title>Slide 1</dc:title>
</cp:coreProperties>
</file>