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3EA-98EE-4D8D-B4F2-A5265F62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A09-3AD2-4213-97FA-A443582E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B2D-049C-4392-8E91-40D5B79A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F07-EB1F-436E-9F3E-B7FAFC13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BCB-969B-45F3-98F0-CE11E055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43C-3FD9-4D9E-BB33-905CD2E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2FB-29A2-4717-A40F-FDD19406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66C-EB35-4566-8D21-B122BCE8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481-E50D-4F2D-B12D-F4C0106E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CB7-EDE1-4A01-9A7E-FF09580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FB3-FE08-4010-A814-8D0A715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E8F-1C76-404F-9A11-BE57378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60D9-39B7-4840-AE73-8B1EB826E92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ssvalley.com/krigbaum/wishy_wash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642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OM 6'S SUPER DUPER BOOK WEEK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436000">
            <a:off x="1403280" y="2565000"/>
            <a:ext cx="3281400" cy="40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162200">
            <a:off x="4284360" y="2492280"/>
            <a:ext cx="3524040" cy="38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EWSTEAM REPORTER BELLA!! :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0"/>
            <a:ext cx="806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c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STOP, DROP AND READ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cc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26000">
            <a:off x="899640" y="119664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05800">
            <a:off x="4355640" y="98100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1334200">
            <a:off x="4858920" y="393336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636600">
            <a:off x="539640" y="3715920"/>
            <a:ext cx="34704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0"/>
            <a:ext cx="73454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Gloucester MT Extra Condensed"/>
              </a:rPr>
              <a:t>Costume Time 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ff"/>
                  </a:gs>
                </a:gsLst>
                <a:lin ang="8100000"/>
              </a:gradFill>
              <a:latin typeface="Gloucester MT Extra Condensed"/>
              <a:ea typeface="Gloucester MT Extra Condense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94028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50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First we had to colour in our templ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269856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27280" y="4873680"/>
            <a:ext cx="2644920" cy="198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2924280"/>
            <a:ext cx="22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hen Mrs De Border stapled bands onto our templates so they could fit around our 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619280" y="2852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2860560" cy="214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64000" y="4780080"/>
            <a:ext cx="2773440" cy="207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177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Our masterpieces are finally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We made games to play during book week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877800">
            <a:off x="5100120" y="136980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0577600">
            <a:off x="493560" y="143964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775200">
            <a:off x="1042920" y="0"/>
            <a:ext cx="68389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story line producti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2492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916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id singing dancing and all kinds of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83440" y="1700280"/>
            <a:ext cx="2860560" cy="214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27640" y="227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y little 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32907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40360" y="3213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ked time kee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41:43Z</dcterms:created>
  <dc:creator>Administrator</dc:creator>
  <dc:description/>
  <dc:language>en-US</dc:language>
  <cp:lastModifiedBy>Administrator</cp:lastModifiedBy>
  <dcterms:modified xsi:type="dcterms:W3CDTF">2008-12-04T21:47:25Z</dcterms:modified>
  <cp:revision>9</cp:revision>
  <dc:subject/>
  <dc:title>Slide 1</dc:title>
</cp:coreProperties>
</file>