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18.jpeg" ContentType="image/jpeg"/>
  <Override PartName="/ppt/media/image1.jpeg" ContentType="image/jpeg"/>
  <Override PartName="/ppt/media/image7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F2BF-67AD-4E13-822A-E6D2B93E5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1FD6-7474-4C12-8DF4-C3A740626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6ED8-1717-40C0-8BF3-A2CDE5F27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8C4E-3F61-4827-83FC-A923C3A7A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E452-8E7E-4838-9234-CE5201DF2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5502-CD4E-4084-AE53-B59478D6D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95D7-10F2-4983-B2E0-AE7C98E7F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1DAA-504B-43F4-8BA0-9D07D1320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C25F-9B0A-4CA4-BCF5-E9AEBBD10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E529-89C6-42D2-BFC7-AB267D32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FEFA-0D81-4277-AFB9-D64D302F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17E8-2E6C-4410-B7B5-AE7E985B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1E384-ED72-4CAB-8A1D-92B01FF0F324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ssvalley.com/krigbaum/wishy_washy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0920" y="549360"/>
            <a:ext cx="86421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ROOM 6'S SUPER DUPER BOOK WEEK</a:t>
            </a:r>
            <a:endParaRPr b="0" lang="en-US" sz="4400" spc="1" strike="noStrike">
              <a:ln w="0">
                <a:noFill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 rot="20436000">
            <a:off x="1403280" y="2565000"/>
            <a:ext cx="3281400" cy="40035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 rot="1162200">
            <a:off x="4284360" y="2492280"/>
            <a:ext cx="3524040" cy="3854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0920" y="1557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NEWSTEAM REPORTER BELLA!! :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00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539640" y="0"/>
            <a:ext cx="806472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cc66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Kristen ITC"/>
              </a:rPr>
              <a:t>STOP, DROP AND READ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cc66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Kristen ITC"/>
              <a:ea typeface="Kristen ITC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 rot="20826000">
            <a:off x="899640" y="1196640"/>
            <a:ext cx="3241800" cy="2430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 rot="505800">
            <a:off x="4355640" y="981000"/>
            <a:ext cx="4067280" cy="3051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 rot="21334200">
            <a:off x="4858920" y="3933360"/>
            <a:ext cx="3362400" cy="2522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 rot="636600">
            <a:off x="539640" y="3715920"/>
            <a:ext cx="347040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755640" y="0"/>
            <a:ext cx="7345440" cy="206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66ff"/>
                    </a:gs>
                  </a:gsLst>
                  <a:lin ang="8100000"/>
                </a:gradFill>
                <a:latin typeface="Gloucester MT Extra Condensed"/>
              </a:rPr>
              <a:t>Costume Time </a:t>
            </a:r>
            <a:endParaRPr b="0" i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66ff"/>
                  </a:gs>
                </a:gsLst>
                <a:lin ang="8100000"/>
              </a:gradFill>
              <a:latin typeface="Gloucester MT Extra Condensed"/>
              <a:ea typeface="Gloucester MT Extra Condensed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4940280"/>
            <a:ext cx="2556000" cy="1917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3500280"/>
            <a:ext cx="15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ff"/>
                </a:solidFill>
                <a:latin typeface="Arial"/>
              </a:rPr>
              <a:t>First we had to colour in our templat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332000" y="2781360"/>
            <a:ext cx="2698560" cy="2023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2627280" y="4873680"/>
            <a:ext cx="2644920" cy="19843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995640" y="2924280"/>
            <a:ext cx="223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Then Mrs De Border stapled bands onto our templates so they could fit around our head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1619280" y="285264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4932360" y="2708280"/>
            <a:ext cx="2860560" cy="21463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3564000" y="4780080"/>
            <a:ext cx="2773440" cy="2077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276720" y="177336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ff"/>
                </a:solidFill>
                <a:latin typeface="Arial"/>
              </a:rPr>
              <a:t>Our masterpieces are finally finish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33cc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11280" y="0"/>
            <a:ext cx="799128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00cc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Harlow Solid Italic"/>
              </a:rPr>
              <a:t>We made games to play during book week!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6600cc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Harlow Solid Italic"/>
              <a:ea typeface="Harlow Solid Italic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700360" y="3860640"/>
            <a:ext cx="3598920" cy="2700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 rot="877800">
            <a:off x="5100120" y="1369800"/>
            <a:ext cx="3456000" cy="2593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 rot="20577600">
            <a:off x="493560" y="1439640"/>
            <a:ext cx="331164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 rot="775200">
            <a:off x="1042920" y="0"/>
            <a:ext cx="6838920" cy="19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Juice ITC"/>
              </a:rPr>
              <a:t>story line production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Juice ITC"/>
              <a:ea typeface="Juice ITC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3284640"/>
            <a:ext cx="3203640" cy="2403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24000" y="2492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1916280"/>
            <a:ext cx="25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did singing dancing and all kinds of thin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283440" y="1700280"/>
            <a:ext cx="2860560" cy="2146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427640" y="22766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ddly little r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3924360" y="4076640"/>
            <a:ext cx="3290760" cy="2468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140360" y="3213000"/>
            <a:ext cx="19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cked time keep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9T02:41:43Z</dcterms:created>
  <dc:creator>Administrator</dc:creator>
  <dc:description/>
  <dc:language>en-US</dc:language>
  <cp:lastModifiedBy>Administrator</cp:lastModifiedBy>
  <dcterms:modified xsi:type="dcterms:W3CDTF">2008-12-04T21:47:25Z</dcterms:modified>
  <cp:revision>9</cp:revision>
  <dc:subject/>
  <dc:title>Slide 1</dc:title>
</cp:coreProperties>
</file>