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D09-FA14-4C7D-B4F5-105BF36E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CEBA-0068-4B8E-88D2-0E7CC992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0F9-2537-4FA3-970D-FA49BB5F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6EC-D96E-48C0-B273-074CA611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293-3F3F-495F-AD8E-A78C7A3E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826-0280-4C77-8D57-DAF3DD3D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9D33-3284-4167-86F9-B542B259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CF60-60E0-451F-8B8C-8E340BAB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E2C2-E0FE-4E59-A010-5CA72DFE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E38-0C16-4B52-8BFD-90CAAB63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98B-005E-4E9F-9127-CCFD1D19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B4C-D892-4462-AFFA-455F5D67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8E3E-12AD-4FE4-8139-06734D66A6F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ssvalley.com/krigbaum/wishy_washy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549360"/>
            <a:ext cx="8642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OOM 6'S SUPER DUPER BOOK WEEK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436000">
            <a:off x="1403280" y="2565000"/>
            <a:ext cx="3281400" cy="4003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1162200">
            <a:off x="4284360" y="2492280"/>
            <a:ext cx="3524040" cy="385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1557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NEWSTEAM REPORTER BELLA!! :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9640" y="0"/>
            <a:ext cx="8064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cc66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Kristen ITC"/>
              </a:rPr>
              <a:t>STOP, DROP AND READ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cc66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20826000">
            <a:off x="899640" y="1196640"/>
            <a:ext cx="3241800" cy="243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505800">
            <a:off x="4355640" y="98100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 rot="21334200">
            <a:off x="4858920" y="3933360"/>
            <a:ext cx="3362400" cy="2522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 rot="636600">
            <a:off x="539640" y="3715920"/>
            <a:ext cx="347040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55640" y="0"/>
            <a:ext cx="734544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ff"/>
                    </a:gs>
                  </a:gsLst>
                  <a:lin ang="8100000"/>
                </a:gradFill>
                <a:latin typeface="Gloucester MT Extra Condensed"/>
              </a:rPr>
              <a:t>Costume Time 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ff"/>
                  </a:gs>
                </a:gsLst>
                <a:lin ang="8100000"/>
              </a:gradFill>
              <a:latin typeface="Gloucester MT Extra Condensed"/>
              <a:ea typeface="Gloucester MT Extra Condensed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4940280"/>
            <a:ext cx="2556000" cy="1917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5002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First we had to colour in our templat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332000" y="2781360"/>
            <a:ext cx="2698560" cy="2023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627280" y="4873680"/>
            <a:ext cx="2644920" cy="1984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95640" y="2924280"/>
            <a:ext cx="22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Then Mrs De Border stapled bands onto our templates so they could fit around our 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619280" y="28526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932360" y="2708280"/>
            <a:ext cx="2860560" cy="2146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564000" y="4780080"/>
            <a:ext cx="2773440" cy="2077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76720" y="177336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Our masterpieces are finally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11280" y="0"/>
            <a:ext cx="79912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rlow Solid Italic"/>
              </a:rPr>
              <a:t>We made games to play during book week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00cc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rlow Solid Italic"/>
              <a:ea typeface="Harlow Solid Italic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877800">
            <a:off x="5100120" y="1369800"/>
            <a:ext cx="3456000" cy="2593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20577600">
            <a:off x="493560" y="1439640"/>
            <a:ext cx="33116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775200">
            <a:off x="1042920" y="0"/>
            <a:ext cx="683892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Juice ITC"/>
              </a:rPr>
              <a:t>story line productio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Juice ITC"/>
              <a:ea typeface="Juice ITC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3203640" cy="2403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2492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91628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did singing dancing and all kinds of th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283440" y="1700280"/>
            <a:ext cx="2860560" cy="2146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427640" y="2276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ddly little r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924360" y="4076640"/>
            <a:ext cx="3290760" cy="246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140360" y="321300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cked time kee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41:43Z</dcterms:created>
  <dc:creator>Administrator</dc:creator>
  <dc:description/>
  <dc:language>en-US</dc:language>
  <cp:lastModifiedBy>Administrator</cp:lastModifiedBy>
  <dcterms:modified xsi:type="dcterms:W3CDTF">2008-12-04T21:47:25Z</dcterms:modified>
  <cp:revision>9</cp:revision>
  <dc:subject/>
  <dc:title>Slide 1</dc:title>
</cp:coreProperties>
</file>