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F33-08A5-4F2A-AF83-1EE8042C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F62-F7FF-4098-939C-714D7A4B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BD2-FC1A-42DD-864E-14D697AB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BF4-7719-4C02-B391-D03C67A8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5D0-07CD-458E-8FC2-50AFC7C1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60B-24A3-4954-92A1-F5DE76A1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A0A-5522-4F36-B5D6-93CECEB9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4AF-FD96-4C26-A9EB-2CF93B65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FBA-AE36-43BB-BB6F-3A707868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2F8-9CD3-4E70-8F80-94DCB26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734-56EC-4A52-8CCB-19C4E3F5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920-4359-47AF-8A02-81F1C3FE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C8F1-2882-4E21-9357-E4A9A9B40AE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nz/imgres?imgurl=http://www.enjoyfrance.com/images/userimage/peter-pan.jpg&amp;imgrefurl=http://www.enjoyfrance.com/content/view/579/31/&amp;h=600&amp;w=800&amp;sz=47&amp;hl=en&amp;start=12&amp;tbnid=3EWLAkjoMB4usM:&amp;tbnh=107&amp;tbnw=143&amp;prev=/images%3Fq%3DPETER%2BPAN%26gbv%3D2%26hl%3Den%26safe%3Dactive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33336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50000">
                      <a:srgbClr val="3399ff"/>
                    </a:gs>
                    <a:gs pos="100000">
                      <a:srgbClr val="66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Eras Bold ITC"/>
              </a:rPr>
              <a:t>ROOM 15'S FANTABULOUS BOOK WEE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50000">
                    <a:srgbClr val="3399ff"/>
                  </a:gs>
                  <a:gs pos="100000">
                    <a:srgbClr val="66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3357720"/>
            <a:ext cx="4248000" cy="31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59800">
            <a:off x="3887280" y="2852640"/>
            <a:ext cx="5256360" cy="1652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00ff"/>
                    </a:gs>
                  </a:gsLst>
                  <a:lin ang="3342000"/>
                </a:gradFill>
                <a:latin typeface="comic"/>
              </a:rPr>
              <a:t>PETER PA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00ff"/>
                  </a:gs>
                </a:gsLst>
                <a:lin ang="3342000"/>
              </a:gradFill>
              <a:latin typeface="comic"/>
              <a:ea typeface="comic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84464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O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58920" y="1484280"/>
            <a:ext cx="6519960" cy="20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9280" y="3860640"/>
            <a:ext cx="6337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Isabella F and Shuxian from th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stea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03280" y="1484280"/>
            <a:ext cx="633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stum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2781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0034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63840" cy="252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14820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4653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2713320" cy="203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2180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989000"/>
            <a:ext cx="8066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king Books with our buddy cla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66696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3162240" cy="237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4140360" cy="310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22Z</dcterms:created>
  <dc:creator>Administrator</dc:creator>
  <dc:description/>
  <dc:language>en-US</dc:language>
  <cp:lastModifiedBy>Administrator</cp:lastModifiedBy>
  <dcterms:modified xsi:type="dcterms:W3CDTF">2008-09-25T22:45:58Z</dcterms:modified>
  <cp:revision>8</cp:revision>
  <dc:subject/>
  <dc:title>Slide 1</dc:title>
</cp:coreProperties>
</file>