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24A33-FF45-46EC-95FC-3E7425598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E7C9A-3601-4D53-9B2D-F7CF80CC0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4454B-4C46-42A8-B9B7-F1F737AF1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2F52B-F57D-48AC-9815-2A55039D4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3A0C2-364F-4239-986B-852B2908C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5F480-F7E3-48F7-9FB2-F0BA08C1D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9A944-CCC9-41AC-83E4-5B6D325B4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5AEC3-BF0A-491D-90CE-56E9A34B3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41901-3726-4045-8D7E-5F93882E2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84D27-95FB-4C76-92C9-27F0D1590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49B10-25EB-4683-82A1-DC0A13103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80EA1-67D3-4838-BDF9-C87020329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9187E-1585-428A-A7CB-D339584D882A}" type="slidenum">
              <a:rPr b="0" lang="en-A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images.google.co.nz/imgres?imgurl=http://www.enjoyfrance.com/images/userimage/peter-pan.jpg&amp;imgrefurl=http://www.enjoyfrance.com/content/view/579/31/&amp;h=600&amp;w=800&amp;sz=47&amp;hl=en&amp;start=12&amp;tbnid=3EWLAkjoMB4usM:&amp;tbnh=107&amp;tbnw=143&amp;prev=/images%3Fq%3DPETER%2BPAN%26gbv%3D2%26hl%3Den%26safe%3Dactive%26sa%3DG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24000" y="333360"/>
            <a:ext cx="856908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00ff"/>
                    </a:gs>
                    <a:gs pos="50000">
                      <a:srgbClr val="3399ff"/>
                    </a:gs>
                    <a:gs pos="100000">
                      <a:srgbClr val="6600ff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Eras Bold ITC"/>
              </a:rPr>
              <a:t>ROOM 15'S FANTABULOUS BOOK WEEK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00ff"/>
                  </a:gs>
                  <a:gs pos="50000">
                    <a:srgbClr val="3399ff"/>
                  </a:gs>
                  <a:gs pos="100000">
                    <a:srgbClr val="6600ff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Eras Bold ITC"/>
              <a:ea typeface="Eras Bold ITC"/>
            </a:endParaRPr>
          </a:p>
        </p:txBody>
      </p:sp>
      <p:pic>
        <p:nvPicPr>
          <p:cNvPr id="42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979640" y="3357720"/>
            <a:ext cx="4248000" cy="31780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 rot="2059800">
            <a:off x="3887280" y="2852640"/>
            <a:ext cx="5256360" cy="16527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99"/>
                    </a:gs>
                    <a:gs pos="100000">
                      <a:srgbClr val="0000ff"/>
                    </a:gs>
                  </a:gsLst>
                  <a:lin ang="3342000"/>
                </a:gradFill>
                <a:latin typeface="comic"/>
              </a:rPr>
              <a:t>PETER PAN</a:t>
            </a:r>
            <a:endParaRPr b="0" lang="en-US" sz="6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99"/>
                  </a:gs>
                  <a:gs pos="100000">
                    <a:srgbClr val="0000ff"/>
                  </a:gs>
                </a:gsLst>
                <a:lin ang="3342000"/>
              </a:gradFill>
              <a:latin typeface="comic"/>
              <a:ea typeface="comic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1844640"/>
            <a:ext cx="288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8000"/>
                </a:solidFill>
                <a:latin typeface="Arial"/>
              </a:rPr>
              <a:t>ON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77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" dur="770" fill="hold"/>
                                        <p:tgtEl>
                                          <p:spTgt spid="4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2" dur="77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4" dur="77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4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5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6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47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51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2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3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54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58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9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0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61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0000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258920" y="1484280"/>
            <a:ext cx="6519960" cy="20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Thanks for watching!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619280" y="3860640"/>
            <a:ext cx="6337440" cy="23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By Isabella F and Shuxian from the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newsteam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0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4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9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2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2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1403280" y="1484280"/>
            <a:ext cx="6337440" cy="31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Costumes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67" dur="5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8" dur="5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9" dur="5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70" dur="5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66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11280" y="260280"/>
            <a:ext cx="2663640" cy="19987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643280" y="476280"/>
            <a:ext cx="3024360" cy="22683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755640" y="2781360"/>
            <a:ext cx="3384720" cy="25383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4716360" y="3500280"/>
            <a:ext cx="3003480" cy="22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8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8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8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8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8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8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8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8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" dur="1600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600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4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4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600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600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1" dur="1600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600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4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4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600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600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9" dur="1600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600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4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4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600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600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" dur="1600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600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4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4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600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600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363840" cy="25243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5003640" y="907920"/>
            <a:ext cx="3148200" cy="2362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1763640" y="4076640"/>
            <a:ext cx="2737080" cy="20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2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2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0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2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8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2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84360" y="333360"/>
            <a:ext cx="3384360" cy="25383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643280" y="3465360"/>
            <a:ext cx="3961080" cy="2970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5364000" y="476280"/>
            <a:ext cx="2713320" cy="20350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900000" y="3500280"/>
            <a:ext cx="3218040" cy="24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08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11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14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17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468360" y="1989000"/>
            <a:ext cx="806616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Making Books with our buddy class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24" dur="5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25" dur="5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26" dur="5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227" dur="5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3666960" cy="27511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4284720" y="1052640"/>
            <a:ext cx="3301920" cy="2476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1908000" y="3933720"/>
            <a:ext cx="3162600" cy="23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ff"/>
            </a:gs>
            <a:gs pos="100000">
              <a:srgbClr val="3333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3517920" cy="26384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572000" y="260280"/>
            <a:ext cx="3995640" cy="29973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2700360" y="3429000"/>
            <a:ext cx="409428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258920" y="404640"/>
            <a:ext cx="3162240" cy="23720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539640" y="3213000"/>
            <a:ext cx="4140360" cy="31053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5292720" y="2421000"/>
            <a:ext cx="3600360" cy="27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9T02:13:22Z</dcterms:created>
  <dc:creator>Administrator</dc:creator>
  <dc:description/>
  <dc:language>en-US</dc:language>
  <cp:lastModifiedBy>Administrator</cp:lastModifiedBy>
  <dcterms:modified xsi:type="dcterms:W3CDTF">2008-09-25T22:45:58Z</dcterms:modified>
  <cp:revision>8</cp:revision>
  <dc:subject/>
  <dc:title>Slide 1</dc:title>
</cp:coreProperties>
</file>