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7ED-FE5A-44A7-B06E-C2CAF844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E0E-A57F-4927-AB12-9ACCD5D1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F03-7A88-4D89-8BB1-C863B811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FC8-A7A2-47E8-B999-BB856C79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DF6-04B7-4A58-B888-DBD9FC2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653-BC4E-4110-95E9-766E8C2B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4EA-A829-425D-8875-FE1CB7D0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B4B-22AD-4F72-88E1-48F4936E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CD2-D562-46F3-A7CE-2D28A71F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6DA-8913-49E3-94B9-A0C3BCC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CCA-8FA9-4DC3-963A-5B91458A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D25-5B0C-4A42-BEA6-66EF3372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A70-07F2-4773-B755-BE9EF50FA9B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nz/imgres?imgurl=http://www.enjoyfrance.com/images/userimage/peter-pan.jpg&amp;imgrefurl=http://www.enjoyfrance.com/content/view/579/31/&amp;h=600&amp;w=800&amp;sz=47&amp;hl=en&amp;start=12&amp;tbnid=3EWLAkjoMB4usM:&amp;tbnh=107&amp;tbnw=143&amp;prev=/images%3Fq%3DPETER%2BPAN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3399ff"/>
                    </a:gs>
                    <a:gs pos="100000">
                      <a:srgbClr val="66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Eras Bold ITC"/>
              </a:rPr>
              <a:t>ROOM 15'S FANTABULOUS BOOK WEE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3399ff"/>
                  </a:gs>
                  <a:gs pos="100000">
                    <a:srgbClr val="66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3357720"/>
            <a:ext cx="4248000" cy="31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59800">
            <a:off x="3887280" y="2852640"/>
            <a:ext cx="5256360" cy="165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00ff"/>
                    </a:gs>
                  </a:gsLst>
                  <a:lin ang="3342000"/>
                </a:gradFill>
                <a:latin typeface="comic"/>
              </a:rPr>
              <a:t>PETER PA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00ff"/>
                  </a:gs>
                </a:gsLst>
                <a:lin ang="3342000"/>
              </a:gradFill>
              <a:latin typeface="comic"/>
              <a:ea typeface="comic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920" y="1484280"/>
            <a:ext cx="65199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3860640"/>
            <a:ext cx="6337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Isabella F and Shuxian from th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stea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148428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003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465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71332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218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989000"/>
            <a:ext cx="80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king Books with our buddy cla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31622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22Z</dcterms:created>
  <dc:creator>Administrator</dc:creator>
  <dc:description/>
  <dc:language>en-US</dc:language>
  <cp:lastModifiedBy>Administrator</cp:lastModifiedBy>
  <dcterms:modified xsi:type="dcterms:W3CDTF">2008-09-25T22:45:58Z</dcterms:modified>
  <cp:revision>8</cp:revision>
  <dc:subject/>
  <dc:title>Slide 1</dc:title>
</cp:coreProperties>
</file>