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EA5-1B55-4566-B9BD-52A27AD3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722-CE04-4E82-9A88-E1CC9770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4F7-ABFC-4CE4-B7DF-B291E15D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937-B827-4F3F-87D9-C45132B5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FA9-6069-45DF-A03F-B4264D09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7D0-E37B-469F-88F4-F1F94309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E78-FB61-489D-A091-3CF19BA8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BBB-5695-4372-A639-469D9CB5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EC7-68F2-42D6-84E8-3A85B40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CB5-77AE-4974-AA2A-F4782F68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5AD-370F-4731-B794-14067AD2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571-3BBB-40C6-91A2-2331726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716D-9543-4720-9C25-3BB92C9AD6A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ssvalley.com/krigbaum/wishy_washy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642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OM 6'S SUPER DUPER BOOK WEEK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436000">
            <a:off x="1403280" y="2565000"/>
            <a:ext cx="3281400" cy="400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162200">
            <a:off x="4284360" y="2492280"/>
            <a:ext cx="3524040" cy="38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55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EWSTEAM REPORTER BELLA!! :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0"/>
            <a:ext cx="8064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cc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STOP, DROP AND READ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cc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26000">
            <a:off x="899640" y="1196640"/>
            <a:ext cx="3241800" cy="243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05800">
            <a:off x="4355640" y="98100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1334200">
            <a:off x="4858920" y="393336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636600">
            <a:off x="539640" y="3715920"/>
            <a:ext cx="347040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0"/>
            <a:ext cx="73454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Gloucester MT Extra Condensed"/>
              </a:rPr>
              <a:t>Costume Time 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ff"/>
                  </a:gs>
                </a:gsLst>
                <a:lin ang="8100000"/>
              </a:gradFill>
              <a:latin typeface="Gloucester MT Extra Condensed"/>
              <a:ea typeface="Gloucester MT Extra Condense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94028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50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First we had to colour in our templ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32000" y="2781360"/>
            <a:ext cx="269856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27280" y="4873680"/>
            <a:ext cx="2644920" cy="198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2924280"/>
            <a:ext cx="22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hen Mrs De Border stapled bands onto our templates so they could fit around our 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619280" y="2852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2860560" cy="214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564000" y="4780080"/>
            <a:ext cx="2773440" cy="207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1773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Our masterpieces are finally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0"/>
            <a:ext cx="7991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We made games to play during book week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877800">
            <a:off x="5100120" y="136980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0577600">
            <a:off x="493560" y="143964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775200">
            <a:off x="1042920" y="0"/>
            <a:ext cx="68389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Juice ITC"/>
              </a:rPr>
              <a:t>story line productio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Juice ITC"/>
              <a:ea typeface="Juice IT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2492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91628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did singing dancing and all kinds of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83440" y="1700280"/>
            <a:ext cx="2860560" cy="2146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27640" y="2276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y little 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32907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40360" y="3213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ked time kee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41:43Z</dcterms:created>
  <dc:creator>Administrator</dc:creator>
  <dc:description/>
  <dc:language>en-US</dc:language>
  <cp:lastModifiedBy>Administrator</cp:lastModifiedBy>
  <dcterms:modified xsi:type="dcterms:W3CDTF">2008-12-04T21:47:25Z</dcterms:modified>
  <cp:revision>9</cp:revision>
  <dc:subject/>
  <dc:title>Slide 1</dc:title>
</cp:coreProperties>
</file>