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B74-0106-419D-812F-91B66B1F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055-CE71-4E47-BA74-095E299C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60C-426C-443B-B2AA-60E092B8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546-FF40-4DD6-955D-DA6279E9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B5C-3943-494A-ADE2-ED24366C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686-BC28-452F-ACDB-9D99ADFE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497-7414-4D21-ADFC-7E482755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839-EBFB-4777-AE5A-9A754807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22A-987E-4ECA-82C3-09B76999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30B-96AB-43A6-828D-80C54CE9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E71-3D5E-43AD-9D2A-4B746BCA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520-E2DE-407B-8C15-8BE2A223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4216-5BBE-4E05-A5E6-CF921BA1EC9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nz/imgres?imgurl=http://www.enjoyfrance.com/images/userimage/peter-pan.jpg&amp;imgrefurl=http://www.enjoyfrance.com/content/view/579/31/&amp;h=600&amp;w=800&amp;sz=47&amp;hl=en&amp;start=12&amp;tbnid=3EWLAkjoMB4usM:&amp;tbnh=107&amp;tbnw=143&amp;prev=/images%3Fq%3DPETER%2BPAN%26gbv%3D2%26hl%3Den%26safe%3Dactive%26sa%3D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33336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50000">
                      <a:srgbClr val="3399ff"/>
                    </a:gs>
                    <a:gs pos="100000">
                      <a:srgbClr val="66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Eras Bold ITC"/>
              </a:rPr>
              <a:t>ROOM 15'S FANTABULOUS BOOK WEE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50000">
                    <a:srgbClr val="3399ff"/>
                  </a:gs>
                  <a:gs pos="100000">
                    <a:srgbClr val="66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3357720"/>
            <a:ext cx="4248000" cy="317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059800">
            <a:off x="3887280" y="2852640"/>
            <a:ext cx="5256360" cy="1652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00ff"/>
                    </a:gs>
                  </a:gsLst>
                  <a:lin ang="3342000"/>
                </a:gradFill>
                <a:latin typeface="comic"/>
              </a:rPr>
              <a:t>PETER PA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00ff"/>
                  </a:gs>
                </a:gsLst>
                <a:lin ang="3342000"/>
              </a:gradFill>
              <a:latin typeface="comic"/>
              <a:ea typeface="comic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84464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O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58920" y="1484280"/>
            <a:ext cx="6519960" cy="20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s for watching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19280" y="3860640"/>
            <a:ext cx="6337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 Isabella F and Shuxian from th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stea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03280" y="1484280"/>
            <a:ext cx="633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stum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5640" y="2781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0034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363840" cy="252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14820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63640" y="407664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46536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64000" y="476280"/>
            <a:ext cx="2713320" cy="203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32180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1989000"/>
            <a:ext cx="8066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aking Books with our buddy cla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66696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284720" y="105264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908000" y="3933720"/>
            <a:ext cx="31626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700360" y="342900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3162240" cy="2372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4140360" cy="310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92720" y="2421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3:22Z</dcterms:created>
  <dc:creator>Administrator</dc:creator>
  <dc:description/>
  <dc:language>en-US</dc:language>
  <cp:lastModifiedBy>Administrator</cp:lastModifiedBy>
  <dcterms:modified xsi:type="dcterms:W3CDTF">2008-09-25T22:45:58Z</dcterms:modified>
  <cp:revision>8</cp:revision>
  <dc:subject/>
  <dc:title>Slide 1</dc:title>
</cp:coreProperties>
</file>