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C17-3119-4098-B61F-52C364BE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11B-858E-4460-98E7-8C35BFB9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D29-06F8-4194-9C94-73B504D1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465-D4E4-4C11-A19D-59C8E1FB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7EC-5B08-4503-BA0A-46FEB6F2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BD4-76AB-453A-AB65-85B176D1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5BE-A060-410C-A0A8-227E6567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A05-639E-421E-AF73-4D5B043A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EC9-CFA7-4BC0-BBAB-2816CB4A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580-ED9F-4011-AD91-25F7DB08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FE2-6C4F-4D46-95A7-34B212E3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977-73D5-485E-9CAD-5AFFAD05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D115-739A-4219-B8A2-6F88BF63033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nz/imgres?imgurl=http://www.enjoyfrance.com/images/userimage/peter-pan.jpg&amp;imgrefurl=http://www.enjoyfrance.com/content/view/579/31/&amp;h=600&amp;w=800&amp;sz=47&amp;hl=en&amp;start=12&amp;tbnid=3EWLAkjoMB4usM:&amp;tbnh=107&amp;tbnw=143&amp;prev=/images%3Fq%3DPETER%2BPAN%26gbv%3D2%26hl%3Den%26safe%3Dactive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33336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50000">
                      <a:srgbClr val="3399ff"/>
                    </a:gs>
                    <a:gs pos="100000">
                      <a:srgbClr val="66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Eras Bold ITC"/>
              </a:rPr>
              <a:t>ROOM 15'S FANTABULOUS BOOK WEE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50000">
                    <a:srgbClr val="3399ff"/>
                  </a:gs>
                  <a:gs pos="100000">
                    <a:srgbClr val="66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3357720"/>
            <a:ext cx="4248000" cy="317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059800">
            <a:off x="3887280" y="2852640"/>
            <a:ext cx="5256360" cy="1652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00ff"/>
                    </a:gs>
                  </a:gsLst>
                  <a:lin ang="3342000"/>
                </a:gradFill>
                <a:latin typeface="comic"/>
              </a:rPr>
              <a:t>PETER PA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00ff"/>
                  </a:gs>
                </a:gsLst>
                <a:lin ang="3342000"/>
              </a:gradFill>
              <a:latin typeface="comic"/>
              <a:ea typeface="comic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84464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O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58920" y="1484280"/>
            <a:ext cx="6519960" cy="20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s for watching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9280" y="3860640"/>
            <a:ext cx="6337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 Isabella F and Shuxian from th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stea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03280" y="1484280"/>
            <a:ext cx="633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stum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5640" y="2781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0034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363840" cy="252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14820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63640" y="407664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46536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64000" y="476280"/>
            <a:ext cx="2713320" cy="203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32180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989000"/>
            <a:ext cx="8066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king Books with our buddy cla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66696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284720" y="105264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3162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700360" y="342900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3162240" cy="2372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4140360" cy="310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92720" y="2421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3:22Z</dcterms:created>
  <dc:creator>Administrator</dc:creator>
  <dc:description/>
  <dc:language>en-US</dc:language>
  <cp:lastModifiedBy>Administrator</cp:lastModifiedBy>
  <dcterms:modified xsi:type="dcterms:W3CDTF">2008-09-25T22:45:58Z</dcterms:modified>
  <cp:revision>8</cp:revision>
  <dc:subject/>
  <dc:title>Slide 1</dc:title>
</cp:coreProperties>
</file>