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2F9-2200-49F6-8B24-606BC1CA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BC3-B49E-4756-A446-D066C676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4B4-783E-481D-9309-EAC0F517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752-93C5-4652-801C-CF46ECD8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5A5-88C3-4C43-A58C-87BE9408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A89-25A9-476D-9EC5-39DB8526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5D2-4EDA-4944-9B18-BB0095FC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B61F-76A7-435E-80AA-813688C3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0DA-0005-43BC-9603-52236CB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887-0659-45FA-AB37-1D5F0E0A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AB2-073D-4AB1-A3AC-B151DF82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CB5-246E-49A1-BAE1-9B1AAD6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0DA9-1E59-45AA-B477-61D41D2CF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60280"/>
            <a:ext cx="6264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LLONS 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 SCHOOL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NCIPAL FOR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DAY!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4319640" y="64911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aitlin J and Alexia S in the New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76720" cy="2459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60360" y="26028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NOR E-W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689280" cy="2766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3673800" cy="27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76720" y="333360"/>
            <a:ext cx="3689280" cy="2766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2736720" cy="263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14760" y="907920"/>
            <a:ext cx="3657600" cy="388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372360" y="4232160"/>
            <a:ext cx="2771640" cy="262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ff"/>
                </a:solidFill>
                <a:uFillTx/>
                <a:latin typeface="Arial"/>
              </a:rPr>
              <a:t>He awarded the cup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89064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88764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84720" y="3887640"/>
            <a:ext cx="3959280" cy="297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He patrolled the Bush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nd he looked after our school!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D ENJOYED A LOVELY SNACK OF DELICIOUS POPCORN MADE BY ROOM 8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3573360"/>
            <a:ext cx="784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What a gre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day we ha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graphy by Alexia S and Caitlin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1:45:32Z</dcterms:created>
  <dc:creator>Administrator</dc:creator>
  <dc:description/>
  <dc:language>en-US</dc:language>
  <cp:lastModifiedBy>Administrator</cp:lastModifiedBy>
  <dcterms:modified xsi:type="dcterms:W3CDTF">2008-10-16T00:38:17Z</dcterms:modified>
  <cp:revision>6</cp:revision>
  <dc:subject/>
  <dc:title>Slide 1</dc:title>
</cp:coreProperties>
</file>