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476-B7A2-4071-925D-D3311F33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15A-B2EA-4D37-97A9-2E464C6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3A2-7E01-48FB-A0DB-A6D074BA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00A-9FEB-4A97-9988-6705ACAB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572-2032-49A1-B4E8-360A5613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5D9-EC0F-4D23-91CF-4CC14E2E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E82-8A33-40B2-B6B4-B1AFCAF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D8C-DB0C-4196-A7E2-4EE294E2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FC0-69C8-4364-9956-F49D00EC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864-656F-43CF-B570-0CAE657D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B87-FEFA-459E-984F-83D0271E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0DD-9CB2-47D8-A8E5-65168F2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88DC-CC99-4506-A244-7202DDBD5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60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LONS 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 SCHOOL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NCIPAL FOR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DAY!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31964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itlin J and Alexia S in the New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60360" y="260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NOR E-W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73672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14760" y="907920"/>
            <a:ext cx="36576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72360" y="4232160"/>
            <a:ext cx="277164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ff"/>
                </a:solidFill>
                <a:uFillTx/>
                <a:latin typeface="Arial"/>
              </a:rPr>
              <a:t>He awarded the cup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89064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87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4720" y="388764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He patrolled the Bush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 he looked after our school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 ENJOYED A LOVELY SNACK OF DELICIOUS POPCORN MADE BY ROOM 8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3573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What a gr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day we h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 by Alexia S and Caitlin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45:32Z</dcterms:created>
  <dc:creator>Administrator</dc:creator>
  <dc:description/>
  <dc:language>en-US</dc:language>
  <cp:lastModifiedBy>Administrator</cp:lastModifiedBy>
  <dcterms:modified xsi:type="dcterms:W3CDTF">2008-10-16T00:38:17Z</dcterms:modified>
  <cp:revision>6</cp:revision>
  <dc:subject/>
  <dc:title>Slide 1</dc:title>
</cp:coreProperties>
</file>