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D62-C3A5-415D-986B-71295719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9C4-DDB9-43F2-9147-480BBB70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2A1-C42F-44AC-AD35-8B1480CB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13F-E0F6-45BF-A020-EB2C57B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D06-61F5-4DEC-B9DC-F1E58178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649-8C9B-4E20-99A6-B39EE306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EF8-F364-466A-A6A7-B125FE9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927-CAFC-40F8-A10D-0973DD3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756-5D95-4055-A71E-7AB05F6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31A-B979-4187-BB61-8EF0F80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34F-DE42-47C7-B71A-C062D5ED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A44-ABD3-4219-9C27-530182D6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03CB-6B63-434C-8700-014B2B6F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60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LONS 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 SCHOOL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NCIPAL FOR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DAY!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31964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itlin J and Alexia S in the New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60360" y="26028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NOR E-W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673800" cy="27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73672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14760" y="907920"/>
            <a:ext cx="36576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72360" y="4232160"/>
            <a:ext cx="2771640" cy="26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ff"/>
                </a:solidFill>
                <a:uFillTx/>
                <a:latin typeface="Arial"/>
              </a:rPr>
              <a:t>He awarded the cup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89064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8764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4720" y="388764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He patrolled the Bush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 he looked after our school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 ENJOYED A LOVELY SNACK OF DELICIOUS POPCORN MADE BY ROOM 8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3573360"/>
            <a:ext cx="784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What a gr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day we h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 by Alexia S and Caitlin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45:32Z</dcterms:created>
  <dc:creator>Administrator</dc:creator>
  <dc:description/>
  <dc:language>en-US</dc:language>
  <cp:lastModifiedBy>Administrator</cp:lastModifiedBy>
  <dcterms:modified xsi:type="dcterms:W3CDTF">2008-10-16T00:38:17Z</dcterms:modified>
  <cp:revision>6</cp:revision>
  <dc:subject/>
  <dc:title>Slide 1</dc:title>
</cp:coreProperties>
</file>