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036-3430-4ED9-9998-61C2B98C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FA6-FDF3-4821-AE7F-5F1B87A2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9EA-CA5E-4396-A427-B0159D2E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007-A88C-4B4E-ACC4-9F369FAA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B9D-3387-49E1-839A-F3212BA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1F7-385B-4FAD-87B0-96943CA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207-A3DE-4DED-9C31-F958C3B1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C74-0ABA-4332-BAD9-D79E237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513-87AF-48D4-A818-E02C0C34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0E0-5B9F-4120-A0C7-4C163CC6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C1C-5848-4404-BB54-CFADD30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0AF-8062-4AAF-8182-83226880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0043-E92A-4A7D-8A0C-E7A21225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60280"/>
            <a:ext cx="62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LONS 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 SCHOOL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NCIPAL FOR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19047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66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 DAY!</a:t>
            </a:r>
            <a:endParaRPr b="0" lang="en-US" sz="1800" spc="1" strike="noStrike">
              <a:ln w="12600">
                <a:solidFill>
                  <a:srgbClr val="19047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66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31964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itlin J and Alexia S in the New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7672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60360" y="26028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NOR E-W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89280" cy="27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673800" cy="27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68928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736720" cy="263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14760" y="907920"/>
            <a:ext cx="36576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372360" y="4232160"/>
            <a:ext cx="2771640" cy="26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ff"/>
                </a:solidFill>
                <a:uFillTx/>
                <a:latin typeface="Arial"/>
              </a:rPr>
              <a:t>He awarded the cup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89064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8764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4720" y="388764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He patrolled the Bush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 he looked after our school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 ENJOYED A LOVELY SNACK OF DELICIOUS POPCORN MADE BY ROOM 8!!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3573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What a gr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day we h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graphy by Alexia S and Caitlin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45:32Z</dcterms:created>
  <dc:creator>Administrator</dc:creator>
  <dc:description/>
  <dc:language>en-US</dc:language>
  <cp:lastModifiedBy>Administrator</cp:lastModifiedBy>
  <dcterms:modified xsi:type="dcterms:W3CDTF">2008-10-16T00:38:17Z</dcterms:modified>
  <cp:revision>6</cp:revision>
  <dc:subject/>
  <dc:title>Slide 1</dc:title>
</cp:coreProperties>
</file>