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3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20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31.wmf" ContentType="image/x-wmf"/>
  <Override PartName="/ppt/media/image5.gif" ContentType="image/gif"/>
  <Override PartName="/ppt/media/image28.gif" ContentType="image/gif"/>
  <Override PartName="/ppt/media/image14.jpeg" ContentType="image/jpeg"/>
  <Override PartName="/ppt/media/image8.wmf" ContentType="image/x-wmf"/>
  <Override PartName="/ppt/media/image12.jpeg" ContentType="image/jpeg"/>
  <Override PartName="/ppt/media/image30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886-AA1D-4907-9F3F-61E36A15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038-196B-4471-9F99-730B401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ECD-7C89-455D-8ECC-8C9DC0CF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477-E932-4532-B968-35A38985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78B-4B78-48A6-8E96-574AFCA6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85F-A154-41B1-A770-D6DA77CA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D75-E81A-45DD-BFD1-CF3213F6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36F-EE49-4EFF-B9B2-744BC849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270-AEEF-487E-B723-7A2E2C45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D71-220B-4256-AB02-C487643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9E4-478D-4CB0-8C8D-F8A4FC7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CD4-FD6C-4F9A-8220-C03AD57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B832-418C-4C8B-93B7-F16CDF4FD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7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620640"/>
            <a:ext cx="467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230200" cy="179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2763720" cy="16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2301840" cy="209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97128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907920"/>
            <a:ext cx="10476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35280" y="1700280"/>
            <a:ext cx="55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1584360" cy="99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4751280" cy="21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70840" y="0"/>
            <a:ext cx="197316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589880" y="5253120"/>
            <a:ext cx="15541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48360" y="5427720"/>
            <a:ext cx="2219400" cy="143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0920" y="2924280"/>
            <a:ext cx="18064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66392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119700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41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2854440"/>
            <a:ext cx="217008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07000" cy="285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300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49920" cy="29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050920" y="11592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rs Brown thanked the PTA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eople that provided the foo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drink and everyone for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ing to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765000"/>
            <a:ext cx="565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getting ready for th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949920" cy="29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3806640" cy="285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20837400">
            <a:off x="5866920" y="3716280"/>
            <a:ext cx="90180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0650200">
            <a:off x="4284360" y="2924280"/>
            <a:ext cx="3735360" cy="280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94400">
            <a:off x="900000" y="765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26920" y="404640"/>
            <a:ext cx="6840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228840" cy="242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5:07:18Z</dcterms:created>
  <dc:creator>OEM</dc:creator>
  <dc:description/>
  <dc:language>en-US</dc:language>
  <cp:lastModifiedBy>Administrator</cp:lastModifiedBy>
  <dcterms:modified xsi:type="dcterms:W3CDTF">2008-11-06T01:14:46Z</dcterms:modified>
  <cp:revision>8</cp:revision>
  <dc:subject/>
  <dc:title>PowerPoint Presentation</dc:title>
</cp:coreProperties>
</file>