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3.jpeg" ContentType="image/jpeg"/>
  <Override PartName="/ppt/media/image19.jpeg" ContentType="image/jpeg"/>
  <Override PartName="/ppt/media/image29.wmf" ContentType="image/x-wmf"/>
  <Override PartName="/ppt/media/image10.jpeg" ContentType="image/jpeg"/>
  <Override PartName="/ppt/media/image20.jpeg" ContentType="image/jpeg"/>
  <Override PartName="/ppt/media/image7.wmf" ContentType="image/x-wmf"/>
  <Override PartName="/ppt/media/image11.jpeg" ContentType="image/jpeg"/>
  <Override PartName="/ppt/media/image9.jpeg" ContentType="image/jpeg"/>
  <Override PartName="/ppt/media/image31.wmf" ContentType="image/x-wmf"/>
  <Override PartName="/ppt/media/image5.gif" ContentType="image/gif"/>
  <Override PartName="/ppt/media/image28.gif" ContentType="image/gif"/>
  <Override PartName="/ppt/media/image14.jpeg" ContentType="image/jpeg"/>
  <Override PartName="/ppt/media/image8.wmf" ContentType="image/x-wmf"/>
  <Override PartName="/ppt/media/image12.jpeg" ContentType="image/jpeg"/>
  <Override PartName="/ppt/media/image30.wmf" ContentType="image/x-wmf"/>
  <Override PartName="/ppt/media/image33.wmf" ContentType="image/x-wmf"/>
  <Override PartName="/ppt/media/image3.wmf" ContentType="image/x-wmf"/>
  <Override PartName="/ppt/media/image15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media/image22.jpeg" ContentType="image/jpeg"/>
  <Override PartName="/ppt/media/image35.wmf" ContentType="image/x-wmf"/>
  <Override PartName="/ppt/media/image16.jpeg" ContentType="image/jpeg"/>
  <Override PartName="/ppt/media/image17.jpeg" ContentType="image/jpeg"/>
  <Override PartName="/ppt/media/image23.gif" ContentType="image/gif"/>
  <Override PartName="/ppt/media/image18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3607-2788-4DAC-BE9A-40A2E656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D12B-E7AC-4D38-9907-FF20B010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B86C-0580-4DEC-BCA1-94BE7F76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9B18-59E6-4B39-A48F-6FBC07B8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D058-1B13-4E4A-B2FB-0C12E0E4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FEAA-F178-432D-BB00-1E20CC3C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4266-3AC3-45DA-AD97-0B79151E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C595-9A19-4E28-8DEE-D23185DD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DD9A-0852-4FE4-AB4E-E50CF6A5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8791-D24D-483E-94D2-EC44006B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3A17-6DB7-459B-AE75-C9F7B33A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A434-4A22-4630-B052-708BA09D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75ED-2042-4704-86F5-A04264484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17.jpe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0920" y="620640"/>
            <a:ext cx="4676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ather's Day Breakfa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92360" y="2421000"/>
            <a:ext cx="2230200" cy="1790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59280" y="4797360"/>
            <a:ext cx="2763720" cy="162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500720" y="2276640"/>
            <a:ext cx="2301840" cy="2098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84360" y="692280"/>
            <a:ext cx="97128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380360" y="907920"/>
            <a:ext cx="1047600" cy="866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835280" y="1700280"/>
            <a:ext cx="5548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s for watching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067280" y="692280"/>
            <a:ext cx="1584360" cy="995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348000" y="2997360"/>
            <a:ext cx="4751280" cy="2155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08000" cy="1660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7170840" y="0"/>
            <a:ext cx="1973160" cy="1563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7589880" y="5253120"/>
            <a:ext cx="1554120" cy="1604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5148360" y="5427720"/>
            <a:ext cx="2219400" cy="1430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250920" y="2924280"/>
            <a:ext cx="1806480" cy="1655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9"/>
          <a:stretch/>
        </p:blipFill>
        <p:spPr>
          <a:xfrm>
            <a:off x="1763640" y="4005360"/>
            <a:ext cx="1663920" cy="2703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195640" y="1197000"/>
            <a:ext cx="4390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Breakfa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2415960" cy="2087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124000" y="2854440"/>
            <a:ext cx="2170080" cy="2270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88000" y="476280"/>
            <a:ext cx="3514680" cy="2636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84360" y="3573360"/>
            <a:ext cx="3949560" cy="296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076720" y="3716280"/>
            <a:ext cx="3517920" cy="2638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643280" y="692280"/>
            <a:ext cx="3448080" cy="258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340000" y="3357720"/>
            <a:ext cx="416556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859280" y="404640"/>
            <a:ext cx="3807000" cy="2854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55640" y="3141720"/>
            <a:ext cx="3591000" cy="2693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788000" y="3716280"/>
            <a:ext cx="3300480" cy="2475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9640" y="2421000"/>
            <a:ext cx="3949920" cy="2962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050920" y="115920"/>
            <a:ext cx="5040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rs Brown thanked the PTA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people that provided the food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nd drink and everyone for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oming to t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ather's day breakfas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859280" y="3429000"/>
            <a:ext cx="3805200" cy="2854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763640" y="765000"/>
            <a:ext cx="56577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veryone getting ready for the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aper dart com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3949920" cy="2962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3806640" cy="2854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 rot="20837400">
            <a:off x="5866920" y="3716280"/>
            <a:ext cx="901800" cy="944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rot="20650200">
            <a:off x="4284360" y="2924280"/>
            <a:ext cx="3735360" cy="2801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 rot="194400">
            <a:off x="900000" y="765000"/>
            <a:ext cx="3961080" cy="2970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826920" y="404640"/>
            <a:ext cx="6840720" cy="27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aper Dart Com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icture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332000" y="3933720"/>
            <a:ext cx="3228840" cy="2422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435640" y="3213000"/>
            <a:ext cx="3078000" cy="2308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5:07:18Z</dcterms:created>
  <dc:creator>OEM</dc:creator>
  <dc:description/>
  <dc:language>en-US</dc:language>
  <cp:lastModifiedBy>Administrator</cp:lastModifiedBy>
  <dcterms:modified xsi:type="dcterms:W3CDTF">2008-11-06T01:14:46Z</dcterms:modified>
  <cp:revision>8</cp:revision>
  <dc:subject/>
  <dc:title>PowerPoint Presentation</dc:title>
</cp:coreProperties>
</file>