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26.jpeg" ContentType="image/jpeg"/>
  <Override PartName="/ppt/media/image25.jpeg" ContentType="image/jpeg"/>
  <Override PartName="/ppt/media/image24.jpeg" ContentType="image/jpeg"/>
  <Override PartName="/ppt/media/image13.jpeg" ContentType="image/jpeg"/>
  <Override PartName="/ppt/media/image19.jpeg" ContentType="image/jpeg"/>
  <Override PartName="/ppt/media/image29.wmf" ContentType="image/x-wmf"/>
  <Override PartName="/ppt/media/image10.jpeg" ContentType="image/jpeg"/>
  <Override PartName="/ppt/media/image20.jpeg" ContentType="image/jpeg"/>
  <Override PartName="/ppt/media/image7.wmf" ContentType="image/x-wmf"/>
  <Override PartName="/ppt/media/image11.jpeg" ContentType="image/jpeg"/>
  <Override PartName="/ppt/media/image9.jpeg" ContentType="image/jpeg"/>
  <Override PartName="/ppt/media/image31.wmf" ContentType="image/x-wmf"/>
  <Override PartName="/ppt/media/image5.gif" ContentType="image/gif"/>
  <Override PartName="/ppt/media/image28.gif" ContentType="image/gif"/>
  <Override PartName="/ppt/media/image14.jpeg" ContentType="image/jpeg"/>
  <Override PartName="/ppt/media/image8.wmf" ContentType="image/x-wmf"/>
  <Override PartName="/ppt/media/image12.jpeg" ContentType="image/jpeg"/>
  <Override PartName="/ppt/media/image30.wmf" ContentType="image/x-wmf"/>
  <Override PartName="/ppt/media/image33.wmf" ContentType="image/x-wmf"/>
  <Override PartName="/ppt/media/image3.wmf" ContentType="image/x-wmf"/>
  <Override PartName="/ppt/media/image15.jpeg" ContentType="image/jpeg"/>
  <Override PartName="/ppt/media/image34.wmf" ContentType="image/x-wmf"/>
  <Override PartName="/ppt/media/image4.wmf" ContentType="image/x-wmf"/>
  <Override PartName="/ppt/media/image1.jpeg" ContentType="image/jpeg"/>
  <Override PartName="/ppt/media/image22.jpeg" ContentType="image/jpeg"/>
  <Override PartName="/ppt/media/image35.wmf" ContentType="image/x-wmf"/>
  <Override PartName="/ppt/media/image16.jpeg" ContentType="image/jpeg"/>
  <Override PartName="/ppt/media/image17.jpeg" ContentType="image/jpeg"/>
  <Override PartName="/ppt/media/image23.gif" ContentType="image/gif"/>
  <Override PartName="/ppt/media/image18.jpeg" ContentType="image/jpeg"/>
  <Override PartName="/ppt/media/image21.jpeg" ContentType="image/jpeg"/>
  <Override PartName="/ppt/media/image2.wmf" ContentType="image/x-wmf"/>
  <Override PartName="/ppt/media/image32.wmf" ContentType="image/x-wmf"/>
  <Override PartName="/ppt/media/image6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32BCC-8CF4-47AB-AC5C-752DFC25D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D4127-AA06-4A30-8592-8A95BE542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0F1D2-8F0B-410C-8DDF-2933EE56C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7B442-9D05-45DA-8560-953D181CA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CAAF1-50AD-4BFB-A069-040FD47A7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5B69C-5113-418F-B251-6F26ECF5E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59754-FD91-4F29-8B71-CD1DC88B6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9291B-E0D4-44B1-ABF4-FCB42E05A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F686F-0159-40C1-8BD3-81041494C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11A44-00AE-4971-A087-46735761C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09400-BC4F-4D25-94B3-FB0E98F1B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6F5A1-9719-4325-8B6A-1DA8A764F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5388E-8FBD-4E50-816F-87E27BD050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gif"/><Relationship Id="rId6" Type="http://schemas.openxmlformats.org/officeDocument/2006/relationships/image" Target="../media/image6.gif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gif"/><Relationship Id="rId3" Type="http://schemas.openxmlformats.org/officeDocument/2006/relationships/image" Target="../media/image29.wmf"/><Relationship Id="rId4" Type="http://schemas.openxmlformats.org/officeDocument/2006/relationships/image" Target="../media/image30.wmf"/><Relationship Id="rId5" Type="http://schemas.openxmlformats.org/officeDocument/2006/relationships/image" Target="../media/image31.wmf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image" Target="../media/image34.wmf"/><Relationship Id="rId9" Type="http://schemas.openxmlformats.org/officeDocument/2006/relationships/image" Target="../media/image35.wmf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image" Target="../media/image17.jpeg"/><Relationship Id="rId4" Type="http://schemas.openxmlformats.org/officeDocument/2006/relationships/image" Target="../media/image23.gi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050920" y="620640"/>
            <a:ext cx="467676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Father's Day Breakfast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692360" y="2421000"/>
            <a:ext cx="2230200" cy="17906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059280" y="4797360"/>
            <a:ext cx="2763720" cy="16210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4500720" y="2276640"/>
            <a:ext cx="2301840" cy="20984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684360" y="692280"/>
            <a:ext cx="971280" cy="12859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6"/>
          <a:stretch/>
        </p:blipFill>
        <p:spPr>
          <a:xfrm>
            <a:off x="7380360" y="907920"/>
            <a:ext cx="1047600" cy="86688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1835280" y="1700280"/>
            <a:ext cx="554832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Thanks for watching!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4067280" y="692280"/>
            <a:ext cx="1584360" cy="995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3348000" y="2997360"/>
            <a:ext cx="4751280" cy="21556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08000" cy="166068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5"/>
          <a:stretch/>
        </p:blipFill>
        <p:spPr>
          <a:xfrm>
            <a:off x="7170840" y="0"/>
            <a:ext cx="1973160" cy="156384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6"/>
          <a:stretch/>
        </p:blipFill>
        <p:spPr>
          <a:xfrm>
            <a:off x="7589880" y="5253120"/>
            <a:ext cx="1554120" cy="16048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7"/>
          <a:stretch/>
        </p:blipFill>
        <p:spPr>
          <a:xfrm>
            <a:off x="5148360" y="5427720"/>
            <a:ext cx="2219400" cy="143028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8"/>
          <a:stretch/>
        </p:blipFill>
        <p:spPr>
          <a:xfrm>
            <a:off x="250920" y="2924280"/>
            <a:ext cx="1806480" cy="165564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9"/>
          <a:stretch/>
        </p:blipFill>
        <p:spPr>
          <a:xfrm>
            <a:off x="1763640" y="4005360"/>
            <a:ext cx="1663920" cy="270324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2195640" y="1197000"/>
            <a:ext cx="439092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The Breakfast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500720" y="3141720"/>
            <a:ext cx="2415960" cy="20876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2124000" y="2854440"/>
            <a:ext cx="2170080" cy="227016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11280" y="333360"/>
            <a:ext cx="3671640" cy="27543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4788000" y="476280"/>
            <a:ext cx="3514680" cy="26366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684360" y="3573360"/>
            <a:ext cx="3949560" cy="29624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5"/>
          <a:stretch/>
        </p:blipFill>
        <p:spPr>
          <a:xfrm>
            <a:off x="5076720" y="3716280"/>
            <a:ext cx="3517920" cy="263844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826920" y="620640"/>
            <a:ext cx="3529080" cy="2646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4643280" y="692280"/>
            <a:ext cx="3448080" cy="25858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2340000" y="3357720"/>
            <a:ext cx="4165560" cy="312408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68360" y="0"/>
            <a:ext cx="3816360" cy="28623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4859280" y="404640"/>
            <a:ext cx="3807000" cy="28544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755640" y="3141720"/>
            <a:ext cx="3591000" cy="26938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5"/>
          <a:stretch/>
        </p:blipFill>
        <p:spPr>
          <a:xfrm>
            <a:off x="4788000" y="3716280"/>
            <a:ext cx="3300480" cy="247500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39640" y="2421000"/>
            <a:ext cx="3949920" cy="29620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 txBox="1"/>
          <p:nvPr/>
        </p:nvSpPr>
        <p:spPr>
          <a:xfrm>
            <a:off x="2050920" y="115920"/>
            <a:ext cx="5040360" cy="23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12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Mrs Brown thanked the PTA,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the people that provided the food 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and drink and everyone for 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coming to the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father's day breakfast.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4859280" y="3429000"/>
            <a:ext cx="3805200" cy="285444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1763640" y="765000"/>
            <a:ext cx="5657760" cy="165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Everyone getting ready for the 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paper dart competition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4643280" y="3500280"/>
            <a:ext cx="3949920" cy="29624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324000" y="2852640"/>
            <a:ext cx="3806640" cy="28544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 rot="20837400">
            <a:off x="5866920" y="3716280"/>
            <a:ext cx="901800" cy="94464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 rot="20650200">
            <a:off x="4284360" y="2924280"/>
            <a:ext cx="3735360" cy="28018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 rot="194400">
            <a:off x="900000" y="765000"/>
            <a:ext cx="3961080" cy="297036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826920" y="404640"/>
            <a:ext cx="6840720" cy="2733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Paper Dart Competition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Pictures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1332000" y="3933720"/>
            <a:ext cx="3228840" cy="24228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5435640" y="3213000"/>
            <a:ext cx="3078000" cy="230832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9T05:07:18Z</dcterms:created>
  <dc:creator>OEM</dc:creator>
  <dc:description/>
  <dc:language>en-US</dc:language>
  <cp:lastModifiedBy>Administrator</cp:lastModifiedBy>
  <dcterms:modified xsi:type="dcterms:W3CDTF">2008-11-06T01:14:46Z</dcterms:modified>
  <cp:revision>8</cp:revision>
  <dc:subject/>
  <dc:title>PowerPoint Presentation</dc:title>
</cp:coreProperties>
</file>