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8C3-8550-441D-8AE8-59BF7DFC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E33-6D51-4FAB-B75E-2B15F18C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AC5-86AF-4E33-A958-15A4E76A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158-F48D-433B-9213-C4CFC6EC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655-6057-41B2-90F7-18F60039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989-D1BB-45FD-BF4C-B084C97A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75F-BD16-45CE-BE9B-2F789A5A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E6E-E4FB-409D-BB49-0D533B04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81A-1B54-4CBD-A5CB-A34D7C4A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ED2-7159-47BD-9172-487E7E02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ADA-6E68-4DCC-BBA2-AF79BED6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151-46CF-4755-AFC4-3C129483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549E-54C2-4726-9CC2-0BC2B4A8C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.nz/imgres?imgurl=http://images.buycostumes.com/mgen/merchandiser/9063.jpg&amp;imgrefurl=http://www.online-halloween-store.com/famous-peoples-masks.html&amp;h=1010&amp;w=455&amp;sz=51&amp;hl=en&amp;start=14&amp;um=1&amp;tbnid=4kAryl-6CCefFM:&amp;tbnh=150&amp;tbnw=68&amp;prev=/images%3Fq%3DCat%2Band%2Bthe%2Bhat%2Bhats%26um%3D1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nz/imgres?imgurl=http://www.brainydays.co.uk/images/dr-seuss-The%2520Cat%2520in%2520the%2520Hat.jpg&amp;imgrefurl=http://sports.espn.go.com/espn/page2/story%3Fpage%3Dlukas/070621&amp;h=475&amp;w=347&amp;sz=36&amp;hl=en&amp;start=11&amp;um=1&amp;tbnid=AyqGmIxj-FHwgM:&amp;tbnh=129&amp;tbnw=94&amp;prev=/images%3Fq%3DCat%2Band%2Bthe%2Bhat%2Bhats%26um%3D1%26hl%3Den%26safe%3Dactive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099400">
            <a:off x="971280" y="3500280"/>
            <a:ext cx="7029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Cat in the H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" name="images" descr="">
            <a:hlinkClick r:id="rId3"/>
          </p:cNvPr>
          <p:cNvPicPr/>
          <p:nvPr/>
        </p:nvPicPr>
        <p:blipFill>
          <a:blip r:embed="rId4"/>
          <a:srcRect l="-111" t="3326" r="2335" b="32804"/>
          <a:stretch/>
        </p:blipFill>
        <p:spPr>
          <a:xfrm rot="18528000">
            <a:off x="5687280" y="209772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1628640"/>
            <a:ext cx="222552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333360"/>
            <a:ext cx="8258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om 16's Awesome Book Week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6443640" y="3789360"/>
            <a:ext cx="237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9:41Z</dcterms:created>
  <dc:creator>Administrator</dc:creator>
  <dc:description/>
  <dc:language>en-US</dc:language>
  <cp:lastModifiedBy>Administrator</cp:lastModifiedBy>
  <dcterms:modified xsi:type="dcterms:W3CDTF">2008-09-25T22:39:08Z</dcterms:modified>
  <cp:revision>7</cp:revision>
  <dc:subject/>
  <dc:title>Slide 1</dc:title>
</cp:coreProperties>
</file>